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11.gif" ContentType="image/gif"/>
  <Override PartName="/ppt/media/image6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gif" ContentType="image/gif"/>
  <Override PartName="/ppt/media/image16.jpeg" ContentType="image/jpeg"/>
  <Override PartName="/ppt/media/image14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80E-1A78-4AF4-BC16-880B8E4F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950-E79A-4824-ADE1-B564112A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5AC-6B7F-46E7-ABC9-D11F3590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CC8-12A3-4585-9C5A-9DD5499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475-EA4D-45DA-A7CA-7DE828C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361-FD07-479C-9F90-5836818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F87-A72B-4A7F-9186-3F59E6B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F56-8E58-40A4-8FCA-3DCB27B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FE3-CA88-4BE1-BBB3-3EB4E40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02A-991D-4A4D-90A2-7F06E16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929-7822-4943-9C46-6A0BD82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91B-9AA0-45AE-8D66-69F40B9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A4EB-B877-444A-8D26-68EB1A68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844640"/>
            <a:ext cx="77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ующие 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1447560" cy="63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447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искивает на ветках и стволах насекомых и пауков. Зимой питается семенами и другой растительной пищей. Обычный посетитель кормушек в городских парках. Кое-где к декабрю синицы уже приучаются брать корм с протянутой ладони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392360" cy="316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801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итание. Питается насекомыми, реже семенами, орехами и желудями. Кормится обычно на толстых стволах деревьев, двигаясь вниз головой. Часто посещает кормушки, в городских парках приучается брать корм с протянутой ладони. На зиму запасает семена деревьев в трещинах коры. Значительная часть этих запасов впоследствии достается синиц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30466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582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лагодаря своеобразной манере движения поползень избегает конкуренции с товарищами по стайкам — синицами и пищухами. Ползая вниз по стволу, он достает мелких насекомых в основном из трещин коры, открывающихся кверху; в то время как синицы — из открывающихся вбок; а пищухи — вниз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Оседлая птица. Зимой часто кочует в стаях синиц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184" t="0" r="16185" b="0"/>
          <a:stretch/>
        </p:blipFill>
        <p:spPr>
          <a:xfrm>
            <a:off x="395280" y="1700280"/>
            <a:ext cx="42242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ест- елов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кочует по всей стране, особенно широко в годы неурожая еловых и пихтовых семян. Питание. Питается семенами и почками ели и сосны, а также тлями. Клесты умеют ловко подвешиваться к шишкам вниз головой. В таком положении птица за считанные секунды извлекает из шишки семена, но только те, которые легко достать. Сброшенные клестами шишки долго сохраняются под снегом, и оставшиеся в них семена служат подкормкой белкам и другим животным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24440" cy="446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225440" cy="97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43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ый снегир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итается преимущественно семенами, почками и ягодами. Кормясь ягодами, выедает из них семена, а мякоть плодов выбрасы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402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817" t="0" r="1039" b="-4331"/>
          <a:stretch/>
        </p:blipFill>
        <p:spPr>
          <a:xfrm>
            <a:off x="4427640" y="1628640"/>
            <a:ext cx="446544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овый вороб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155736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тание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тается семенами, в меньшей степени — насекомыми. В сельской местности домовые воробьи могут причинять большой урон посевам сельскохозяйственны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22493" b="0"/>
          <a:stretch/>
        </p:blipFill>
        <p:spPr>
          <a:xfrm>
            <a:off x="468360" y="1700280"/>
            <a:ext cx="403236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615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и птицы остаются зимовать в наших краях потому, что могут находить себе к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о люди должны им тоже помогать: делать кормушки и не забывать насыпать в них к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790" b="22003"/>
          <a:stretch/>
        </p:blipFill>
        <p:spPr>
          <a:xfrm>
            <a:off x="179280" y="0"/>
            <a:ext cx="3888000" cy="2852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2362320" cy="2620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708360" y="4292640"/>
            <a:ext cx="244800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3333960" cy="262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0" t="5867" r="0" b="0"/>
          <a:stretch/>
        </p:blipFill>
        <p:spPr>
          <a:xfrm>
            <a:off x="4284720" y="0"/>
            <a:ext cx="454824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2492280"/>
            <a:ext cx="83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у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ы привыкли к голубям и почти не обращаем на них внимания. Между тем это довольно красивая птица — мало кто еще обладает таким быстрым, уверенным по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тание. Питается семенами растений, зерновыми культурам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луби очень прожорливы. Они съедают много хлебных зерен, посещают поля, засеянные чечевицей, горохом, льном и другими культурами, уничтожают также семена сорных тра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4662" t="0" r="11066" b="0"/>
          <a:stretch/>
        </p:blipFill>
        <p:spPr>
          <a:xfrm>
            <a:off x="4643280" y="1557360"/>
            <a:ext cx="4067280" cy="474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итает в лесах (преимущественно хвойных) и парках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Оседлая и кочующая птиц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зяйственное значение. Это одна из очень полезных птиц наших лесов; в отличие от других насекомоядных видов, он никуда не улетает на зиму, работая круглый год по уничтожению вре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816360" cy="503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168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0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итает в разреженных хвойных и смешанных лесах, на зарастающих гарях и вырубках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чаще всего встречается на юге страны, а поздней осенью и ранней весной — в средней полосе. Зимой широко кочует, появляясь большими стаями в городах, особенно в годы урожая рябин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зяйственное значение. В жизни леса свиристели играют большую роль, так как широко разносят семена рябины и других сочных ягод, которые, пройдя через их кишечник, не теряют всхожести.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5449" t="11773" r="6179" b="4409"/>
          <a:stretch/>
        </p:blipFill>
        <p:spPr>
          <a:xfrm>
            <a:off x="179280" y="1700280"/>
            <a:ext cx="475308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имовка. Взрослые вороны обычно зимуют на гнездовых участках, молодые кочуют, собираясь на ночлег большими стаями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озяйственное значение. Ворон является главным в равнинной зоне естественным падальщиком, подбирая умерших естественной смертью и сбитых автомобилями и поездами животных вдоль дорог, а также птиц, разбившихся о провода линий электропередач. Он уничтожает также пищевые отбросы человека вдали от населенных пунктов и организованных свалок. Ворон замечателен своей большой сметливостью, а также продолжительностью жизни. Известен случай, когда эта птица в неволе дожила до 69 лет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681" t="0" r="9807" b="0"/>
          <a:stretch/>
        </p:blipFill>
        <p:spPr>
          <a:xfrm>
            <a:off x="395280" y="1916280"/>
            <a:ext cx="4608360" cy="376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ворона что-то клюет, анимашка"/>
          <p:cNvPicPr/>
          <p:nvPr/>
        </p:nvPicPr>
        <p:blipFill>
          <a:blip r:embed="rId2"/>
          <a:stretch/>
        </p:blipFill>
        <p:spPr>
          <a:xfrm>
            <a:off x="7236000" y="404640"/>
            <a:ext cx="1366560" cy="95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666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имовка. Зимой частично откочевывает к югу или в города, где собирается огромными стаями, кормясь на свалках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зяйственное значение. Вороны могут воровать яйца у домашних птиц, нападать на цыплят и утят. Вредной птицей приходится считать ворону в охотничьих хозяйствах, где она нападает на гнезда и птенцов тетеревов, куропаток, уток и куликов. Но в большинстве мест она приносит пользу земледелию истреблением вредных грызунов, саранчи, жуков и озимого червя — вредителя озимых посев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6260" r="0" b="8312"/>
          <a:stretch/>
        </p:blipFill>
        <p:spPr>
          <a:xfrm>
            <a:off x="395280" y="141300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401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тание. Всеядна. Эти сообразительные птицы пpeкрасно приспособились к соседству человека. В последние годы они, например, научились систематически проверять вывешенные зимой за окно сумки с продуктами. Умеют поднимать крыши скворечников, если они не прикручены проволо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6260" r="0" b="8312"/>
          <a:stretch/>
        </p:blipFill>
        <p:spPr>
          <a:xfrm>
            <a:off x="1025640" y="1600200"/>
            <a:ext cx="29001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ая гал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итание. Питается различными беспозвоночными, мышевидными грызунами, разоряет гнезда мелких птиц, ест всякую падаль и растительную пищ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овка. Зимует в населенных пунктах, где обычно встречается вместе с воронами. В Центральной Европе — оседлая птица, в более северных и восточных районах — кочующая или перелетная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409920" cy="36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ыкновенная г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зяйственное значение. Галки могут нападать 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городы и сады, весной уничтожая всходы бобов и гороха, а летом — плоды вишни и сливы. Галка уничтожает вредных насекомых, улиток и грызунов и польза, которую она приносит, покрывает, а местами даже и перевешивает вред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93800"/>
            <a:ext cx="4040280" cy="433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8:24:28Z</dcterms:created>
  <dc:creator> </dc:creator>
  <dc:description/>
  <dc:language>en-US</dc:language>
  <cp:lastModifiedBy> </cp:lastModifiedBy>
  <dcterms:modified xsi:type="dcterms:W3CDTF">2009-01-22T19:38:22Z</dcterms:modified>
  <cp:revision>9</cp:revision>
  <dc:subject/>
  <dc:title>Зимующие птицы</dc:title>
</cp:coreProperties>
</file>