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0846-A53B-4CD1-925F-20B3DDFC7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707-FAA8-4831-BC05-BBE9F8AAC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5D4-F597-47E2-9EE5-1D19F15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A21-2973-4106-9246-ECEA472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E8C-D59E-41A8-8507-412F939D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771-6AF6-4889-81E0-F1576B30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492-2EE6-4C10-88EE-972AE1F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B63-A77F-4854-AFDA-4EB556A4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70E-DB14-4171-AA7F-59DD706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45B-D5BB-44F0-B6A4-C554D886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3D2-4070-4735-9FE4-7C6A387C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0AE-720E-4AA7-A158-C933D7D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16E-AA4F-47E8-8072-C5D14504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38D-C957-4A6A-BF59-AAC6DF47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5BEF-EEE7-46BA-ACAB-4FB355201F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современного УМК по истории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е на педагогическом сове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шкова Гал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чебни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урно-антропологический подход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обое место уделено личности в истории,  проблемам духовной и культурной жизни, формированию у школьников представления об общей исторической судьбе нашей Род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нокультурный компон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история страны через историю регионов. Преподавание региональной истории в контексте истории России. Для каждого из регионов России должен быть сформирован перечень «сквозных» исторических сюж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5880" y="35049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ПРИМЕРНЫЙ ПЕРЕЧЕНЬ</a:t>
            </a:r>
            <a:br>
              <a:rPr sz="4000"/>
            </a:br>
            <a:r>
              <a:rPr b="0" lang="ru-RU" sz="4300" spc="-1" strike="noStrike">
                <a:solidFill>
                  <a:srgbClr val="749cdc"/>
                </a:solidFill>
                <a:latin typeface="Calibri"/>
              </a:rPr>
              <a:t>«Трудных вопросов истории»</a:t>
            </a:r>
            <a:br>
              <a:rPr sz="40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ревняя Ру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разование Древнерусского государства и роль варягов в этом процесс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уществование древнерусской народности и восприятие наследия Древней Руси как общего фундамента истории России, Украины и Беларус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сторический выбор Александра Невского в пользу подчинения русских земель Золотой Орд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15235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сковская  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ы возвышения Москвы, политика первых московских князей по отношению к ордынским ханам и правителям других русских земел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ль Ивана IV Грозного в российской истор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пытки ограничения власти главы государства в период Смуты и в эпоху дворцовых переворотов, возможные причины неудач этих попыт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соединение Украины к России (причины и последств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ундаментальные особенности социального и политического строя России (крепостное право, самодержавие) в сравнении с государствами Западной Евро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17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сийская имп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, особенности, последствия и цена петровских преобраз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ность политики просвещенного абсолютизма и ее последств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нутренней политики Александра I, Николая I, Александра II, Александра II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 общественного движения XIX – начала ХХ в. и оценка его роли в истории Ро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роли России в системе международных отношений в XIX – начале ХХ в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 национальной политики самодержавия и ее оц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оссийская империя в начале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уровня развития Российской империи в начале ХХ в.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падения монархии в России, прихода к власти большевиков и их победы в Гражданской войн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ая культура и первые волны эмиграции: «Философский пароход» и Русское зарубежь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1523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тская Россия в 1917-1945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 свертывания нэпа, оценка результатов индустриализации, коллективизации и преобразований в сфере куль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арактер национальной политики большевиков и ее оц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установления однопартийной диктатуры и единовластия И.В. Стали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а внешней политики СССР накануне и в начале Второй мировой вой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а победы СССР в Великой Отечественной вой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а роли СССР в развязывании «холодной войны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ская национальная полит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685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ветское общество в середин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950-х-второй половине 1980-х г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реформ Н.С. Хруще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ценка периода правления Л.И. Брежнева и роли диссидентского движ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«перестройки» и распада СССР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1760" y="1142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сийская Федерац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90-е гг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. – начале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ка причин, характера и последствий экономических реформ начала 1990-х гг. («шоковая терапия»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чины и последствия побед Б.Н. Ельцина в политических схватках 1990-х г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ка внешней политики России в 1990-е г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чины, последствия и оценка стабилизации экономики и политической системы России в 2000-е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447920" y="152280"/>
            <a:ext cx="10134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749cdc"/>
                </a:solidFill>
                <a:latin typeface="Calibri"/>
              </a:rPr>
              <a:t>Историко-культурный стандарт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5" descr="https://ds04.infourok.ru/uploads/ex/071d/000b51bc-39ccbefa/img5.jpg"/>
          <p:cNvPicPr/>
          <p:nvPr/>
        </p:nvPicPr>
        <p:blipFill>
          <a:blip r:embed="rId1"/>
          <a:stretch/>
        </p:blipFill>
        <p:spPr>
          <a:xfrm>
            <a:off x="609480" y="17524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9cdc"/>
                </a:solidFill>
                <a:latin typeface="Calibri"/>
              </a:rPr>
              <a:t>Задачи изучения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молодого поколения ориентиров для гражданской, этнонациональной, социальной, культурной самоидентификации в окружающем мир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ние учащимися знаниями об основных этапах развития человеческого общества с древности до наших дней, при особом внимании к месту и роли России во всемирно-историческ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 учащихся в духе патриотизма, уважения к своему Отечеству  многонациональному Российскому государ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пособностей учащихся анализировать содержащуюся в различных источниках информацию о событиях и явлениях прошлого и настояще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школьников умений применять исторические знания в учебной и внешко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учение истории России должно соответствовать системно-деятельностному подходу как одному из ключевых методологических принципов ФГОС нового поко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учебно-методический комплекс по отечественной истории должен включать в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учебник (в т.ч. электронны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хрестоматию или сборник докумен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исторические кар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рабочую тетрадь и сборник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нигу для чт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Ступени изучения Отечественной ис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066680" y="2454120"/>
            <a:ext cx="1497240" cy="533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9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Скругленный прямоугольник 6"/>
          <p:cNvGrpSpPr/>
          <p:nvPr/>
        </p:nvGrpSpPr>
        <p:grpSpPr>
          <a:xfrm>
            <a:off x="3902040" y="1822320"/>
            <a:ext cx="4687920" cy="1835280"/>
            <a:chOff x="3902040" y="1822320"/>
            <a:chExt cx="4687920" cy="1835280"/>
          </a:xfrm>
        </p:grpSpPr>
        <p:pic>
          <p:nvPicPr>
            <p:cNvPr id="60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3902040" y="1822320"/>
              <a:ext cx="46879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46400" y="1944720"/>
              <a:ext cx="440388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азовые знания об основных этапах исторического пути Рос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7"/>
          <p:cNvSpPr/>
          <p:nvPr/>
        </p:nvSpPr>
        <p:spPr>
          <a:xfrm>
            <a:off x="1066680" y="4533840"/>
            <a:ext cx="1497240" cy="533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-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Скругленный прямоугольник 8"/>
          <p:cNvGrpSpPr/>
          <p:nvPr/>
        </p:nvGrpSpPr>
        <p:grpSpPr>
          <a:xfrm>
            <a:off x="3902040" y="3700440"/>
            <a:ext cx="4687920" cy="2243160"/>
            <a:chOff x="3902040" y="3700440"/>
            <a:chExt cx="4687920" cy="2243160"/>
          </a:xfrm>
        </p:grpSpPr>
        <p:pic>
          <p:nvPicPr>
            <p:cNvPr id="6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02040" y="3700440"/>
              <a:ext cx="46879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067280" y="3838680"/>
              <a:ext cx="4362480" cy="19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История России в мировом контен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1)Историограф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2)Исторические источн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3)Различные исторические вер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Прямая со стрелкой 10"/>
          <p:cNvCxnSpPr/>
          <p:nvPr/>
        </p:nvCxnSpPr>
        <p:spPr>
          <a:xfrm>
            <a:off x="1742760" y="2960280"/>
            <a:ext cx="1080" cy="154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ая соединительная линия 12"/>
          <p:cNvSpPr/>
          <p:nvPr/>
        </p:nvSpPr>
        <p:spPr>
          <a:xfrm>
            <a:off x="2563920" y="2720880"/>
            <a:ext cx="13986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>
            <a:off x="2563920" y="4800600"/>
            <a:ext cx="13986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9cdc"/>
                </a:solidFill>
                <a:latin typeface="Calibri"/>
              </a:rPr>
              <a:t>Концепция историческог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23600" y="18079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ое изучение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3200400"/>
          <a:ext cx="7086600" cy="26668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88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Я 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РЕГИОНОВ И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СЕМЬИ И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72" name="Прямая со стрелкой 8"/>
          <p:cNvCxnSpPr/>
          <p:nvPr/>
        </p:nvCxnSpPr>
        <p:spPr>
          <a:xfrm>
            <a:off x="4495320" y="358128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Прямая со стрелкой 11"/>
          <p:cNvCxnSpPr/>
          <p:nvPr/>
        </p:nvCxnSpPr>
        <p:spPr>
          <a:xfrm>
            <a:off x="4495320" y="449568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1760" y="15998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ь стандар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формирование единого культурно-исторического пространства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уктура стандарт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рико-культурный стандарт включае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инципиальны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ценки ключевых событий прошл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одходы (методологию) отечественной истор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ень обязательных для изучения тем, понятий и терминов, событий и персонал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чень «трудных вопросов истори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17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учебник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лучить прочные знания по истории Росс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формировать представление об основных этапах развития многонационального российского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азать историю России как неотъемлемую часть мирового исторического процесс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вторы исходят из того, что российская история – это история всех территорий, стран и народов, которые входили в состав нашего государства в соответствующие эпох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176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обенности структуры учеб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я и процессы всеобщей истории изучаются синхронно с историей Ро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кцентируется внимание на  истории российской культур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ключается возможность возникновения внутренних противоречий и взаимоисключающих трактовок исторических событий, в том числе имеющих существенное значение для отдельных регионо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ивается доступность изложения, образность язы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ана</dc:creator>
  <dc:description/>
  <dc:language>en-US</dc:language>
  <cp:lastModifiedBy>Farida</cp:lastModifiedBy>
  <dcterms:modified xsi:type="dcterms:W3CDTF">2019-01-07T10:11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