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6A68-8BE1-47ED-83E7-1771F37B4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8F8A-27AC-4071-851D-8AA8246C6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8D1-1550-41DB-80E6-13D4AEBC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678-33D3-439C-95B2-28E6926C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F80-6A36-4DFD-943B-4FA929A3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448-2B85-4E47-9A59-17BB020B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EB6-B0C5-413B-AF2D-9A8705F9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3BC-FB6B-4129-A2E8-A24E1FD5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7F1-EA28-411D-9461-8D31001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E5C-D3F4-45A1-A378-90E774DA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8C3-2DC8-4508-8717-6ACF8E2D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A49-19B1-4CD5-9819-2F28002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E28-A774-4F4C-AFF3-0E8B159E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60C-2738-4EA6-9ECA-1DE370B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3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F73-53D2-4C42-8CDE-EB1F04DDA9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современного УМК по истории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ление на педагогическом сове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шкова Гали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чебник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ультурно-антропологический подход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обое место уделено личности в истории,  проблемам духовной и культурной жизни, формированию у школьников представления об общей исторической судьбе нашей Род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нокультурный компон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история страны через историю регионов. Преподавание региональной истории в контексте истории России. Для каждого из регионов России должен быть сформирован перечень «сквозных» исторических сюж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5880" y="35049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9cdc"/>
                </a:solidFill>
                <a:latin typeface="Calibri"/>
              </a:rPr>
              <a:t>ПРИМЕРНЫЙ ПЕРЕЧЕНЬ</a:t>
            </a:r>
            <a:br>
              <a:rPr sz="4000"/>
            </a:br>
            <a:r>
              <a:rPr b="0" lang="ru-RU" sz="4300" spc="-1" strike="noStrike">
                <a:solidFill>
                  <a:srgbClr val="749cdc"/>
                </a:solidFill>
                <a:latin typeface="Calibri"/>
              </a:rPr>
              <a:t>«Трудных вопросов истории»</a:t>
            </a:r>
            <a:br>
              <a:rPr sz="40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ревняя Ру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разование Древнерусского государства и роль варягов в этом процесс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уществование древнерусской народности и восприятие наследия Древней Руси как общего фундамента истории России, Украины и Беларус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сторический выбор Александра Невского в пользу подчинения русских земель Золотой Орд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1760" y="15235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сковская  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ы возвышения Москвы, политика первых московских князей по отношению к ордынским ханам и правителям других русских земел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ль Ивана IV Грозного в российской истор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пытки ограничения власти главы государства в период Смуты и в эпоху дворцовых переворотов, возможные причины неудач этих попыт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соединение Украины к России (причины и последств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ундаментальные особенности социального и политического строя России (крепостное право, самодержавие) в сравнении с государствами Западной Европ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17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сийская имп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ы, особенности, последствия и цена петровских преобразов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ность политики просвещенного абсолютизма и ее последств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нутренней политики Александра I, Николая I, Александра II, Александра II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 общественного движения XIX – начала ХХ в. и оценка его роли в истории Ро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роли России в системе международных отношений в XIX – начале ХХ в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 национальной политики самодержавия и ее оц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оссийская империя в начале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уровня развития Российской империи в начале ХХ в.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падения монархии в России, прихода к власти большевиков и их победы в Гражданской войн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ая культура и первые волны эмиграции: «Философский пароход» и Русское зарубежь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15235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ветская Россия в 1917-1945 г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ы свертывания нэпа, оценка результатов индустриализации, коллективизации и преобразований в сфере куль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арактер национальной политики большевиков и ее оц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установления однопартийной диктатуры и единовластия И.В. Стали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а внешней политики СССР накануне и в начале Второй мировой вой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на победы СССР в Великой Отечественной вой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а роли СССР в развязывании «холодной войны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ская национальная полит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685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ветское общество в середин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950-х-второй половине 1980-х г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реформ Н.С. Хрущев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ценка периода правления Л.И. Брежнева и роли диссидентского движ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«перестройки» и распада СССР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1760" y="1142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оссийская Федерац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90-е гг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. – начале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XXI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ценка причин, характера и последствий экономических реформ начала 1990-х гг. («шоковая терапия»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чины и последствия побед Б.Н. Ельцина в политических схватках 1990-х гг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ка внешней политики России в 1990-е гг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стабилизации экономики и политической системы России в 2000-е г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447920" y="152280"/>
            <a:ext cx="10134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749cdc"/>
                </a:solidFill>
                <a:latin typeface="Calibri"/>
              </a:rPr>
              <a:t>Историко-культурный стандарт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80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5" descr="https://ds04.infourok.ru/uploads/ex/071d/000b51bc-39ccbefa/img5.jpg"/>
          <p:cNvPicPr/>
          <p:nvPr/>
        </p:nvPicPr>
        <p:blipFill>
          <a:blip r:embed="rId1"/>
          <a:stretch/>
        </p:blipFill>
        <p:spPr>
          <a:xfrm>
            <a:off x="609480" y="1752480"/>
            <a:ext cx="8153640" cy="510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9cdc"/>
                </a:solidFill>
                <a:latin typeface="Calibri"/>
              </a:rPr>
              <a:t>Задачи изучения ис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молодого поколения ориентиров для гражданской, этнонациональной, социальной, культурной самоидентификации в окружающем мир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ладение учащимися знаниями об основных этапах развития человеческого общества с древности до наших дней, при особом внимании к месту и роли России во всемирно-историческом процесс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ние учащихся в духе патриотизма, уважения к своему Отечеству  многонациональному Российскому государств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пособностей учащихся анализировать содержащуюся в различных источниках информацию о событиях и явлениях прошлого и настояще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школьников умений применять исторические знания в учебной и внешко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зучение истории России должно соответствовать системно-деятельностному подходу как одному из ключевых методологических принципов ФГОС нового покол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9cdc"/>
                </a:solidFill>
                <a:latin typeface="Calibri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учебно-методический комплекс по отечественной истории должен включать в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учебник (в т.ч. электронны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хрестоматию или сборник докумен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исторические кар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рабочую тетрадь и сборник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книгу для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9cdc"/>
                </a:solidFill>
                <a:latin typeface="Calibri"/>
              </a:rPr>
              <a:t>Ступени изучения Отечественной ис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066680" y="2454120"/>
            <a:ext cx="1497240" cy="533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-9 кла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Скругленный прямоугольник 6"/>
          <p:cNvGrpSpPr/>
          <p:nvPr/>
        </p:nvGrpSpPr>
        <p:grpSpPr>
          <a:xfrm>
            <a:off x="3902040" y="1822320"/>
            <a:ext cx="4687920" cy="1835280"/>
            <a:chOff x="3902040" y="1822320"/>
            <a:chExt cx="4687920" cy="1835280"/>
          </a:xfrm>
        </p:grpSpPr>
        <p:pic>
          <p:nvPicPr>
            <p:cNvPr id="60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3902040" y="1822320"/>
              <a:ext cx="4687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46400" y="1944720"/>
              <a:ext cx="440388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Базовые знания об основных этапах исторического пути Росс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7"/>
          <p:cNvSpPr/>
          <p:nvPr/>
        </p:nvSpPr>
        <p:spPr>
          <a:xfrm>
            <a:off x="1066680" y="4533840"/>
            <a:ext cx="1497240" cy="533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-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Скругленный прямоугольник 8"/>
          <p:cNvGrpSpPr/>
          <p:nvPr/>
        </p:nvGrpSpPr>
        <p:grpSpPr>
          <a:xfrm>
            <a:off x="3902040" y="3700440"/>
            <a:ext cx="4687920" cy="2243160"/>
            <a:chOff x="3902040" y="3700440"/>
            <a:chExt cx="4687920" cy="2243160"/>
          </a:xfrm>
        </p:grpSpPr>
        <p:pic>
          <p:nvPicPr>
            <p:cNvPr id="6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902040" y="3700440"/>
              <a:ext cx="46879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067280" y="3838680"/>
              <a:ext cx="4362480" cy="19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История России в мировом контен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1)Историограф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2)Исторические источн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3)Различные исторические верс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" name="Прямая со стрелкой 10"/>
          <p:cNvCxnSpPr/>
          <p:nvPr/>
        </p:nvCxnSpPr>
        <p:spPr>
          <a:xfrm>
            <a:off x="1742760" y="2960280"/>
            <a:ext cx="1080" cy="154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рямая соединительная линия 12"/>
          <p:cNvSpPr/>
          <p:nvPr/>
        </p:nvSpPr>
        <p:spPr>
          <a:xfrm>
            <a:off x="2563920" y="2720880"/>
            <a:ext cx="13986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3"/>
          <p:cNvSpPr/>
          <p:nvPr/>
        </p:nvSpPr>
        <p:spPr>
          <a:xfrm>
            <a:off x="2563920" y="4800600"/>
            <a:ext cx="13986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9cdc"/>
                </a:solidFill>
                <a:latin typeface="Calibri"/>
              </a:rPr>
              <a:t>Концепция исторического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23600" y="180792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уровневое изучение ист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3200400"/>
          <a:ext cx="7086600" cy="266688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88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РИЯ ГОСУДА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 РЕГИОНОВ И НА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 СЕМЬИ И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cxnSp>
        <p:nvCxnSpPr>
          <p:cNvPr id="72" name="Прямая со стрелкой 8"/>
          <p:cNvCxnSpPr/>
          <p:nvPr/>
        </p:nvCxnSpPr>
        <p:spPr>
          <a:xfrm>
            <a:off x="4495320" y="358128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Прямая со стрелкой 11"/>
          <p:cNvCxnSpPr/>
          <p:nvPr/>
        </p:nvCxnSpPr>
        <p:spPr>
          <a:xfrm>
            <a:off x="4495320" y="449568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1760" y="15998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Цель стандарт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формирование единого культурно-исторического пространства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уктура стандарт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торико-культурный стандарт включае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инципиальны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ценки ключевых событий прошло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одходы (методологию) отечественной истор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чень обязательных для изучения тем, понятий и терминов, событий и персонал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чень «трудных вопросов истори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1760" y="16761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дачи учебник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лучить прочные знания по истории Росс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формировать представление об основных этапах развития многонационального российского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казать историю России как неотъемлемую часть мирового исторического процесс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вторы исходят из того, что российская история – это история всех территорий, стран и народов, которые входили в состав нашего государства в соответствующие эпох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6176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обенности структуры учеб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я и процессы всеобщей истории изучаются синхронно с историей Росс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кцентируется внимание на  истории российской культур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ключается возможность возникновения внутренних противоречий и взаимоисключающих трактовок исторических событий, в том числе имеющих существенное значение для отдельных регионов Ро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спечивается доступность изложения, образность язы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ана</dc:creator>
  <dc:description/>
  <dc:language>en-US</dc:language>
  <cp:lastModifiedBy>Farida</cp:lastModifiedBy>
  <dcterms:modified xsi:type="dcterms:W3CDTF">2019-01-07T10:11:5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