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816-08BE-473B-89E8-C4AB4D5D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053D-625D-4751-AFB2-A66F09DD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FD4BA-15A0-4464-959B-0941C7527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C26FF-4217-4A85-8466-A6C007C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B58EB0-20AB-4F5E-92B6-E76FF6F3C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D599E-C97A-4ABD-A42A-B4FB4A3D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F1D44-DF74-4734-A9F7-826495CE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3D371-179B-4D1B-BE7C-15FCD08D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6E130-3795-49A0-933A-B062A9422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F0AE78-31AB-4B4E-958B-26312F55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8E4526-FF43-4E0D-8E3A-65812949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08E9D-0D7D-4F04-8898-5794B2E0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733-0BB5-44FA-BBD8-26BE6BCFB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BE8EE4-66B9-4A9D-AB17-A95D9377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93E9D2-4835-4D68-9331-18E5D313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EB967-712D-4F4F-8435-E9D398C7C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16989-8978-4969-A72D-48A51DDE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916FD4-95D7-4E24-891C-F06D849C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5CE990-11CB-4B70-9936-D1D63CD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4DDCC-8FDC-40CF-93F7-585C154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60DF7D-CE2F-4C3D-9EF8-DAA8BF7C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653E3-CD61-4274-ACBA-B3C1E74D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62700A-7C8F-4334-8405-48A8801D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1388-44BF-44F4-B1B9-E38969BC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15F6B-AEE1-4DE3-9956-4D30A518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0648E-3F85-46CE-8CC5-6A2B5584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DC835C-20D5-4F0F-903D-549E16722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DA8E55-9BDF-4735-9D5F-64BCE22F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A80A3-C7C6-423E-9FA2-6563F6D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08923-90B5-40AB-8336-0113A4FD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CB84A-5615-41BB-9C51-8D888B63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26A4F-952D-4BF4-B333-025FB71C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4565F1-0B68-446C-886C-394C1398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83587D-F44B-4B36-A2B4-7C691BC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CBAD-B9D6-4CD8-AF6F-0F630D75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210146-8DA4-4AC4-AB4F-BD859368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8379E-67DD-4FF3-B592-C0EC00D4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C5980-9590-4171-8D59-5CE7D1A67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F0BEA9-DE15-42DD-BF1C-DD8CE8CB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CFBB3C-D04D-432D-8B6F-6711C4B7F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FFA79F-B370-413C-B6A5-D231961E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F522A-3B78-4544-A08F-F79EE299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02750-6566-4809-BD83-17BBD43F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0AE148-B7EB-4B2F-912A-7A46AB8A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9DE6F-DF45-4DD1-B6E4-D99E73338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2A1BE-C62D-4576-A1D4-F337C373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A8BDF3-7C1D-4516-B833-B40117D5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B18E0F-3091-4A0B-AAFB-A2A9CFD25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E73EC0-5E12-4F8C-9D05-86F80960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26A1D6-C2E7-46E3-AAFF-47F858C7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3EF6A8-1DD2-410B-9E9F-8247C250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6510E-2E86-4140-AC41-2062DC1B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889E98-0849-4B4C-BEFA-B1D1C90AA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3F1017-5F99-4A34-A871-117E947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55636D-3B50-4428-A027-BB2A7B0EB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A93D38-B9A4-431B-B378-EBA4C651D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AD7F4-0FE3-43D6-8AC3-6DCD6446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C21157-4618-4F8A-B1C2-E7EEF9E2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CF5AA4-0581-4286-AF70-DAC60C33B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727178-3CCD-49F1-B190-B14FD1FC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E56759-D6A6-4B0A-AD74-4618C871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2D79F0-0993-4FE0-8D8E-0441E2E2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0822A-8DB6-4EDF-BE2E-C58DC9308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29479C-9FE8-4EAA-A4CB-5ED5068E8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7B118A-EF54-40C6-BA3B-B8D86CCB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CCF74-07B0-4BFE-9F04-3F480232D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511CB6-5DEE-4490-864E-685013CED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51DA6-3352-45C9-81E7-05BFF231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CA9008-51AC-4441-A161-C6322BEF9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64A4EB-3995-4A10-8E50-DA6390AE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41B12A-40BF-49DC-9852-52584DA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7F5086-89B0-4EDA-BD61-88FDDE27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30C9D6-9E16-4F33-83E2-932E2129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A91FD2-4C59-498F-A1C8-B3E947F2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D5F40-5FF9-4028-A0DE-AA8A26296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7FE11-5B29-4660-AABE-5D3EAD3B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8652C0-DF6B-4685-B5D9-AE2FD1B2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B5C-16D8-4C2C-A344-D6F5728F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B4BD-084E-42F9-BDCE-FC8051C2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7623A-F9A5-4C6C-858D-25B2469A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A4A0-7DBC-4325-B86B-0570B480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DA60-EC11-4F0A-8C3F-597E6BF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112AC-99D8-400C-ADE2-170A90D3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B0B03-20D4-420F-A3EA-961F7453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4913-B802-42FE-9895-AD5AB782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4BC6-8F18-4F7A-94D8-9F393636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FAFD7-69B9-4DE8-88AC-9823AD5DE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06222-7572-4041-A326-088789840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DC700-D839-417E-87A3-D4197ED8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F84D-EA72-45DB-B569-C0ED8380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CF30-8E65-4E05-89DA-8E0C492D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64B2-76A2-4846-9D91-42DADDA2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B09EB-99BE-4120-9CF9-812F7AC1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4D8F-6AEF-4183-AAE3-4454E92D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27F0FE-3E50-4D33-B914-1C4DF30D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0742-D279-43BE-9908-C401A444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D8DDE-0701-4772-9EC1-457DDC1B9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2785D-F215-4CCF-B40E-04756E92F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55CF3-B67E-4572-9E19-E01DDC972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8B93F-FEB0-4FC6-9703-E7A622A5A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F85C0-CFAA-41B0-9258-2EE756EF8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68DA-3E89-4258-8563-77E29FD5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D81-D6E7-44F8-A435-D1FDFBE65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80A22-8CDE-4CE4-B5C7-B112053C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3AE08-9C47-416D-88E0-473862BF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19F5-4AD8-43E2-9D27-A8FCDBAD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B402BF-4412-4BA8-8A2F-9696136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6D8CB-A994-4B54-AB27-20F0C217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37252-A8E9-4C38-8B61-8968617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27C11-C852-4A8A-9B9F-D4ECF06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36E28-B2D7-4705-BEBB-624730CF3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C73CD-4B00-4579-8AC6-59A3D5D32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4895-E03C-402E-A633-CB387FF9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D748-00CD-438B-A30E-F197BB1C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A18BB-30D2-4148-B97F-11BA039E0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FEB13A-BF35-49A3-9112-7AEB20E08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65F0E-B030-48BE-AA7C-E44DDD790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A1FC6-63C6-40CA-B6C9-08DBBB62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1CF243-0BEC-4C6E-962C-FB0C88F7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EDEE5E-9B6C-47BE-BEAA-0F94868C7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0CEB72-3BFC-4FEF-A693-5F567E6E0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09B9-F8BA-4189-8DF6-77607A26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5D24A-1FC6-44ED-8D2D-9234671C7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8CC13-24B0-4615-8958-11571EFE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998-172E-425E-86A6-FC333335D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66B09-C33E-4CAB-A483-BC306F822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C8221E-9FB0-4919-82B3-4041D847D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7BE98-B58E-407C-B32C-B1DEF2B0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C08DD1-F0AF-4EAE-90A3-2E6AAA4F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7504FA-8264-45DF-A931-20CFE4B2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0F98D-0829-43C6-8615-019C3C13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2E2B5-3F55-4055-94D7-5170CEBF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8492E7-2507-423E-8474-1D05F2B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A9135-3D7B-42CC-9745-049FA25E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CF96-F3B0-4E5B-AE68-26489489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D0F0-47DF-493E-842C-B1390CC1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18138-802D-48CE-A48F-F074E45AD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D9356-E458-4380-A97C-29AACD85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ABE06-4481-48EF-983C-EF1DEC90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6586-B9FB-4391-A810-E4769FEC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211E-0D99-4530-B715-8F1150F6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D85A6-510D-4DB5-9C32-37058676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08A27-9F6E-419C-B2D0-ABDE6BA5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D059-A02C-45EC-9B40-775543E2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130C14-760D-43E9-98A1-DBE5A1B8A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8AA3D6-007B-4B28-A70E-DB07B6F4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74A-AE33-4511-B45C-3849FFA7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B55D5-6EC1-4840-8C4D-453DC2652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224D4-0B67-455C-A504-13C40D81C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5EEF0-BC71-486B-ABD0-99E9077A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A52C8-BB07-4C1E-A4D2-036F729F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FD4A8-76D6-4CCA-A19D-197FC130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6716C-E789-416D-899D-E11301C7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00FC67-D89C-4040-BA71-6B4B129EF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96A30-2637-4FC5-B13C-875B6FDB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E12A3-5514-4AF1-8705-2FE7DB3F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DC3E7-10EF-4464-BF65-D66D56731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EA4F-4746-49E3-95CA-4A9B346B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0172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463B6-F6BF-4B23-8EC6-67741FFC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B650E-27B0-49F2-8385-368270DA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23F52-F4F2-45E3-80F8-1134DE7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71DE-7EAE-444A-A9AF-0C1FF4E6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0172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C9CCE-5FA8-4AF1-BFB0-8B1B5B666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876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017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1876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8BE8D-B642-4D5C-BC9E-AE1BC9C41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84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3666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01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84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3666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8E64D8-BA8E-4E1A-83BD-74814DA2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34104-CF26-405E-BF1C-F66A9560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17555-DBDB-4943-B362-0375DE54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D564A-D351-4AAF-83FD-0624EF29A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67A5-3113-4F7A-8598-144CDD71DB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DE29B-6039-4A87-89C8-6399EFB25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A6D12-A428-45A1-8740-A70F2E4D1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00014-C1B6-401D-A7A3-932E4EDF6F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EDE1-DBAD-4142-A52C-C9937CD0F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5D553-1FE4-48E0-B2FB-68765AA2BA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3FA3-C48F-4B19-8277-C8F541CF9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68ED-27A1-49F7-8502-9E40D3E67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7C84-4CB5-4B69-94C5-3C9C827AD5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30D-22DD-44A9-969D-82726A0C8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C6383-80D9-4F98-B501-3BA7912AC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9B18-2DDE-4D25-B7E6-AC57BB4944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E0130-10C8-4FC0-8C34-2C949E295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8C3D7-E13B-4B47-B0FF-7C0F8B46C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18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0" y="0"/>
            <a:ext cx="514368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чудное прив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нивы и пол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ое раздоль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ая земл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горы-испо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жу реки и мор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ие карт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один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у пенье жавор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ышу трели соловь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усская сторон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– родина мо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90520" y="992160"/>
            <a:ext cx="5005440" cy="291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2 декабря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–</a:t>
            </a:r>
            <a:br>
              <a:rPr sz="36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День </a:t>
            </a:r>
            <a:br>
              <a:rPr sz="4800"/>
            </a:br>
            <a:r>
              <a:rPr b="1" lang="ru-RU" sz="4800" spc="-1" strike="noStrike">
                <a:solidFill>
                  <a:srgbClr val="a50021"/>
                </a:solidFill>
                <a:latin typeface="Arial"/>
              </a:rPr>
              <a:t>Конституции Р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"/>
          <p:cNvPicPr/>
          <p:nvPr/>
        </p:nvPicPr>
        <p:blipFill>
          <a:blip r:embed="rId1"/>
          <a:srcRect l="0" t="0" r="0" b="4222"/>
          <a:stretch/>
        </p:blipFill>
        <p:spPr>
          <a:xfrm>
            <a:off x="5356080" y="304920"/>
            <a:ext cx="3421080" cy="4643280"/>
          </a:xfrm>
          <a:prstGeom prst="rect">
            <a:avLst/>
          </a:prstGeom>
          <a:ln w="0">
            <a:noFill/>
          </a:ln>
        </p:spPr>
      </p:pic>
      <p:sp>
        <p:nvSpPr>
          <p:cNvPr id="578" name="Text Box 7"/>
          <p:cNvSpPr/>
          <p:nvPr/>
        </p:nvSpPr>
        <p:spPr>
          <a:xfrm>
            <a:off x="3646440" y="5398920"/>
            <a:ext cx="531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Times New Roman"/>
              </a:rPr>
              <a:t>Конституция – основной закон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0" y="660240"/>
            <a:ext cx="456264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Прямоугольник 3"/>
          <p:cNvSpPr/>
          <p:nvPr/>
        </p:nvSpPr>
        <p:spPr>
          <a:xfrm>
            <a:off x="464760" y="1496880"/>
            <a:ext cx="276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образ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Прямоугольник 4"/>
          <p:cNvSpPr/>
          <p:nvPr/>
        </p:nvSpPr>
        <p:spPr>
          <a:xfrm>
            <a:off x="18720" y="2117880"/>
            <a:ext cx="451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медицинское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Прямоугольник 5"/>
          <p:cNvSpPr/>
          <p:nvPr/>
        </p:nvSpPr>
        <p:spPr>
          <a:xfrm>
            <a:off x="1126440" y="2689200"/>
            <a:ext cx="189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тру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Прямоугольник 6"/>
          <p:cNvSpPr/>
          <p:nvPr/>
        </p:nvSpPr>
        <p:spPr>
          <a:xfrm>
            <a:off x="852480" y="33256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раво на  жилищ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0" y="660240"/>
            <a:ext cx="456264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БЯЗА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Прямоугольник 3"/>
          <p:cNvSpPr/>
          <p:nvPr/>
        </p:nvSpPr>
        <p:spPr>
          <a:xfrm>
            <a:off x="173880" y="1496880"/>
            <a:ext cx="33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бязаны прилежно 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Прямоугольник 4"/>
          <p:cNvSpPr/>
          <p:nvPr/>
        </p:nvSpPr>
        <p:spPr>
          <a:xfrm>
            <a:off x="307800" y="2117880"/>
            <a:ext cx="393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достойно вести себя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ямоугольник 5"/>
          <p:cNvSpPr/>
          <p:nvPr/>
        </p:nvSpPr>
        <p:spPr>
          <a:xfrm>
            <a:off x="711000" y="2689200"/>
            <a:ext cx="27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уважать труд старш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Прямоугольник 6"/>
          <p:cNvSpPr/>
          <p:nvPr/>
        </p:nvSpPr>
        <p:spPr>
          <a:xfrm>
            <a:off x="113400" y="3325680"/>
            <a:ext cx="37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нать символику своей стр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Рисунок 7" descr="C:\Documents and Settings\1\Мои документы\079.jpg"/>
          <p:cNvPicPr/>
          <p:nvPr/>
        </p:nvPicPr>
        <p:blipFill>
          <a:blip r:embed="rId1"/>
          <a:stretch/>
        </p:blipFill>
        <p:spPr>
          <a:xfrm>
            <a:off x="5834160" y="291960"/>
            <a:ext cx="3097080" cy="2652840"/>
          </a:xfrm>
          <a:prstGeom prst="rect">
            <a:avLst/>
          </a:prstGeom>
          <a:ln w="0">
            <a:noFill/>
          </a:ln>
        </p:spPr>
      </p:pic>
      <p:pic>
        <p:nvPicPr>
          <p:cNvPr id="590" name="Рисунок 8" descr="C:\Documents and Settings\1\Мои документы\1307198404_zh.jpg"/>
          <p:cNvPicPr/>
          <p:nvPr/>
        </p:nvPicPr>
        <p:blipFill>
          <a:blip r:embed="rId2"/>
          <a:stretch/>
        </p:blipFill>
        <p:spPr>
          <a:xfrm>
            <a:off x="6095880" y="4303800"/>
            <a:ext cx="3164040" cy="2687400"/>
          </a:xfrm>
          <a:prstGeom prst="rect">
            <a:avLst/>
          </a:prstGeom>
          <a:ln w="0">
            <a:noFill/>
          </a:ln>
        </p:spPr>
      </p:pic>
      <p:pic>
        <p:nvPicPr>
          <p:cNvPr id="591" name="Рисунок 9" descr="C:\Documents and Settings\1\Мои документы\besplatnoe-obrazovanie.jpg"/>
          <p:cNvPicPr/>
          <p:nvPr/>
        </p:nvPicPr>
        <p:blipFill>
          <a:blip r:embed="rId3"/>
          <a:stretch/>
        </p:blipFill>
        <p:spPr>
          <a:xfrm>
            <a:off x="4011480" y="2505240"/>
            <a:ext cx="3645000" cy="2450880"/>
          </a:xfrm>
          <a:prstGeom prst="rect">
            <a:avLst/>
          </a:prstGeom>
          <a:ln w="0">
            <a:noFill/>
          </a:ln>
        </p:spPr>
      </p:pic>
      <p:sp>
        <p:nvSpPr>
          <p:cNvPr id="592" name="Прямоугольник 10"/>
          <p:cNvSpPr/>
          <p:nvPr/>
        </p:nvSpPr>
        <p:spPr>
          <a:xfrm>
            <a:off x="377280" y="4002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беречь и охранять приро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Прямоугольник 11"/>
          <p:cNvSpPr/>
          <p:nvPr/>
        </p:nvSpPr>
        <p:spPr>
          <a:xfrm>
            <a:off x="734400" y="471636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защищать Род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8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914400" y="663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блюдать Конституцию и другие Законы стра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). Уважать права и свободу других гражд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). Беречь памятники истории и куль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). Платить налоги и сбо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5). Защищать свою страну, свое Отече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79320" y="844200"/>
            <a:ext cx="82296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абота с пословицами.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  <a:ea typeface="Times New Roman"/>
              </a:rPr>
              <a:t>Одна у человека мать, одна у него и Родина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90520" y="1600200"/>
            <a:ext cx="8740800" cy="13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 чужой стороне и весна не крас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ная сторона - мать, чужая — мач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1"/>
          <p:cNvSpPr/>
          <p:nvPr/>
        </p:nvSpPr>
        <p:spPr>
          <a:xfrm>
            <a:off x="0" y="3022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сякому мила своя сторо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езде хорошо, но милее Родины нет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0" y="4066920"/>
            <a:ext cx="930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ет в мире краше Родины наш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лупа та птица, которой свое гнездо не ми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591000" y="574560"/>
            <a:ext cx="7603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оя Родина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илые с детства м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диной мы зов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я сем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й отчий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пе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а чудесный кр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чно цветущий ма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тства мой добрый друг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остный сердца сту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17 Моя Родина -.mp3" descr=""/>
          <p:cNvPicPr/>
          <p:nvPr/>
        </p:nvPicPr>
        <p:blipFill>
          <a:blip r:embed="rId1"/>
          <a:stretch/>
        </p:blipFill>
        <p:spPr>
          <a:xfrm>
            <a:off x="829944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ru"/>
  </p:transition>
  <p:timing>
    <p:tnLst>
      <p:par>
        <p:cTn id="139" dur="indefinite" restart="never" nodeType="tmRoot">
          <p:childTnLst>
            <p:seq>
              <p:cTn id="140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4" dur="121008" fill="hold"/>
                                        <p:tgtEl>
                                          <p:spTgt spid="6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017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гра «Да! Нет!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8017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это в пользу человека – говорим: «Да! И хлопаем». Если это противоречит закону, говорим: «Нет! И топаем 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10:35:24Z</dcterms:created>
  <dc:creator>1</dc:creator>
  <dc:description/>
  <dc:language>en-US</dc:language>
  <cp:lastModifiedBy>Пользователь</cp:lastModifiedBy>
  <dcterms:modified xsi:type="dcterms:W3CDTF">2019-01-08T08:30:28Z</dcterms:modified>
  <cp:revision>75</cp:revision>
  <dc:subject/>
  <dc:title>Слайд 1</dc:title>
</cp:coreProperties>
</file>