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FE0A-ADC3-4829-912F-254260A2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7C27-BEC1-46E1-A13E-19DA2A78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17ECA-4E8A-402D-8056-09B6CE77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CF90E-352A-4F2A-92F6-C6B25A2C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0FA21-26D4-4A79-8FD0-2A0FB3C5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51BDA-EBB2-443D-8C70-01613A79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A6CA9B-7B15-40DA-869F-41DF50736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CC2E60-8ABC-4F82-B433-A73CAFA4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7C9A49-D708-4FC5-AB1E-0F52BC87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1502A4-4E4D-4A0F-A649-4B1EB7BF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2161C5-FDA6-4245-9600-3268BFA9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572B63-9281-4D22-9263-EC1E5BDA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BB48-FCEF-4840-96C9-EA0E19B5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3162D-F3C9-44ED-B537-BDB9EC36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B054B-8BF0-49F0-BE0C-20DF8E442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7C4F31-348A-4F13-89C4-A0B2ED13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DAB283-3D0D-465D-AC22-72CF503E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B2F94-397C-4A93-A666-12975791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8F303-A30A-42CF-8D4F-93B77F8D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74C71-8E31-4347-B726-35739283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6FD92-8312-4C11-8327-BB866A09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7CD228-D99F-4D99-A9B9-9921E18F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D15B2F-748A-48CE-B3E2-02F389748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009-D88A-4D34-852C-EC7B07B0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E05EA-2B59-490D-AA58-153B0DBCD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4627E-BF33-4853-B4CF-03B7D041B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A3ED1E-8975-4B0E-A1AD-A3ADF7C2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E1C94-7195-4823-B053-76CC8B630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23D46-18EE-4DB0-A465-54B021325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399EB5-D169-4A80-83D0-0C2B63E5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8053C-F302-4F5F-A253-62041478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F6641-BFDF-43B0-AF9F-922A09EA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19516-741B-47E3-9B2C-7340D610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C2CAB-C44B-4843-AA90-C91630ED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586B-3DC0-4149-A6DD-D12BC8DA4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D35A4C-FF25-43D0-8B34-EF66B569B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04E999-B71A-4ABE-A120-B5C7C7C14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CD8CCE-5373-46E6-ABF4-C7827D50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B47ACA-ACC3-40E3-A915-E7CD88747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AF5243-81F8-485C-B78C-0F4A798E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28279-8049-4708-9F0E-164E9D0E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D2C8B-CA76-49E6-8DDE-8C73B544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CA3AA5-CFA4-4EF5-8D6A-F250577D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AF9B1A-B3CE-41CE-878D-D4DE64C0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28428A-D09E-4B1E-AC3C-A78BBF9D7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C49B-DD85-4C7F-A7F9-71D64C83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93A016-79AE-467A-BF42-1DD46FD3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21EF1-7B39-476C-83FD-65D58918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B0C79A-3CFF-4800-91E0-D0A945B5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E671F1-52E0-4625-AE4A-F3B5AB51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DBBE0-52F2-4331-9385-E51F5DF7C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13EFD0-61CC-4A53-9889-BA0B12C7F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3A931-36FD-4B8F-B0E5-69EC9D3CF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75402C-9D48-4C18-9598-18AA7EF0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0EFBBB-2313-41F4-A831-E818AA88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279033-5DA4-4924-BFEB-E346730D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FDAD2-EDDB-4F02-BC41-DE51BBB3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A0697-1867-4C44-82D4-820BF144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3E85B9-E3C7-4662-B7ED-923E12A87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05A85-6D2F-402B-A7B0-8A2D327C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2FD4E-8805-40D2-831E-7F98F367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D63BC5-EDEB-49D9-87E9-CC40FF75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E489CF-C3E6-4B3B-9A61-05353966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57E35F-8EDE-494E-BCAB-92CF94A10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91C4A1-9E39-4EB7-BC6A-24127AB2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86AF3C-6D11-465A-B79B-445ED30F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6147F5-BF57-4DFE-9154-ECFCED7D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92E37-26C0-4373-A9E2-1EA19EAC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D1E918-8141-4649-B8D2-DA1CE2CC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38DE5C-DA62-416B-9B59-1C49CBCA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208287-1C55-4689-BDD3-DF0C1A6E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48478-9E2B-46E1-90F3-2CDF0DFF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389159-FE34-4329-B178-F460658A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C926FC-42DD-4662-9B7D-DF9D90FA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B5DD3E-F7D5-424B-A93F-C4A85D86D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8C4E46-519D-477E-A07A-73B01C9A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81C89-019D-4390-A4A3-9EA88246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F2B0-7B69-49D0-BAF8-31A31D565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B22B-7F6F-4E23-9D77-095958F2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0397-A931-410F-9251-056AE359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289-AE68-402C-8850-7A022B65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DFC7-A96E-4204-99D1-6EC45800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06BA-546C-49D7-9D0C-CC0080AB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F4902-E7F6-412F-A4D3-FE32AC46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D61FE-26B9-4D33-A75D-65E6A6FCF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6550C-38EB-47FB-84B8-2DF16DBB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3ACD5-5DF3-4FCC-8046-7F344E5C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D05CF-1FBD-4053-84AB-8D7F293F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DA09D-30FE-4CA1-B800-014C3A30C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574CB-BB27-4FBA-87CC-9539D80B6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7ACFE-7A01-4279-A2E5-C013B1625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91B9-251F-46AD-A637-6C05D85D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29FA0-DFB8-4EB7-AAAA-D99F6F6C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FD2AF-DCAF-4419-A24F-09504594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8716B-970A-4962-A0B6-0F72C1D2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A0D40-6D34-4CC0-9A97-2D4F49F7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0E9D7-B45A-4D53-B68E-5B454E604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A59CD-4019-4223-908B-FF3562D9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8678A-E28F-4C4A-8450-6ADEBAE0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C36A9-CD6F-4495-A158-C8638F16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230AF-70C3-4B2B-96B8-35AEC2D7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B09FA-A0C5-44E5-A56F-AB711169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374-C27F-40AD-B532-D7268F351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3D7C0-BCA2-4F3D-B34C-227123CB5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A8332-BE81-4062-9C0F-B5F8CC303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6B915-EC91-42B2-BBC1-5E0916AD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E0541-7145-4AE0-A777-5D18FF20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65590-0289-4993-8513-3A2AB88C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116BE-B2DB-46D8-A618-FA6764DB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FE0B2-8FC4-4AC2-BDE6-5EA7BD59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317ED-4670-4BC7-9B22-0C9630E5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75EAA-8551-415C-B872-A486DA2D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238C29-FE97-4C30-BA8F-7900D626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FCA-A98C-41E1-99ED-311868E6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36CE9-E213-4F24-BB04-D83B7173D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FA204-5614-40C1-A919-33CF7FD8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F4982-626F-465A-BD6C-55E3FA1A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6D2BC1-A9EC-4284-BBD8-A0C9D295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44284-A333-4AC4-824A-BC7D0A48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17113-F155-4B76-AF01-EC8871F4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05D49-9BA0-4DF7-B60D-90D78515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839B3-5A6B-4C6B-AEBD-6EC6D8C8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1CDD3-53FB-4C54-8E51-C8155F45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9268F-4260-480D-9D76-BCAF1A6F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2A4-2641-4E8A-916A-463CD78D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805F1-6793-48AC-9243-82D88BD7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32F555-E760-467D-8937-DAA5372C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8B4F5-D7D3-493B-993E-EA42C81D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578D16-9E58-448A-AA3A-3F9DAADD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6B1A2-6154-43D3-817A-B0C4F826C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6DA04-E04A-4910-BA24-D4F32B78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4EB56F-15FA-49A9-AB7A-CCE07097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F9E37-213B-4BAD-89B3-AFA1922D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D9F72-4820-4FF2-88F3-6DAC2C89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D55A7-6516-4B65-BA4D-18781BDA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357B-43B6-4D31-9261-0F5A4E3E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B6638-6C81-487C-938C-06A2DA29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CA9FD-C574-47D1-A43E-9ABA40652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67688-4FA5-475A-BE14-4F8705C9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CEAAA-A024-44CA-898B-79AF043D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5DB7E-479E-41A9-A8AE-3A27E9101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5FB6D-B4AC-40DA-88DF-8C04A7EA1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82EA2-DD59-4AD6-8FC8-6D669C50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63C6C-1E65-4A4E-94DC-7AB6CC0E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5584A-ADFB-4A8E-9A01-93449A82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93ACA2-1793-4BF8-A87F-6EBB1888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851B-DE44-4AEE-BEE4-631DC271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D9053-B271-4B17-BF93-3A6E35BD4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626088-358D-41A6-846F-0C6A385E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E9C0DD-740E-4B3E-BB9A-94B99C95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A2F7E-3F66-4BE1-959A-F536C7C0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06720-FEC6-4208-8BE3-055DB0DFB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64E9E7-8905-4AD9-8E23-5A25DB6C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6D027-A0DA-499B-94ED-E6B4A3E6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0A69A-820B-4261-AC1B-2F54C259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36D58-3DA2-4F2F-8492-E747FA4F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A5736-7206-4F97-B051-2561314E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D85-1E31-43EE-95DA-5EC37FABF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28BD6-A56A-403B-B5AE-261AB0D0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869C0-595D-466B-A8E0-E9F2B6EA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42740-E050-46FA-B373-515EC3579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BCD97-CC0C-4D8A-9C7D-BBD28650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6C1F34-9D07-4F83-9C9E-D009A22A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9EB11-080A-4BC5-BFDD-7FB4B951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589A9-E8D1-4966-B8A8-C939C0AF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2691E-8A43-4FE6-8C72-3492A135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C1CF4-200F-4B82-8C3C-A165BAFA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511DAB-B00F-4906-AB23-F581849C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0A320-6EE7-4C9A-B020-F40677A57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57D2-6609-464F-8728-861FD99A4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15E1-452E-47DA-B1AB-2D5FE4AF9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D898-9008-4E08-A65D-88CDDF4D1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305B-A0E5-418A-8CF3-431EA2B29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C2BEA-7805-4689-8F47-A3289F519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9F5A6-2184-4304-9228-A77729E28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EBAA5-2577-4F64-975A-A2BCF3D11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1BA7-14D0-4FEA-877B-77E73D190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734F-A622-4608-98F1-F0BB07DD6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73B1-0ADD-4EFD-A34B-C827D1F7A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FBCD-8E1A-46A2-9289-30D5C6B94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0DDBB-5072-4111-8A5F-950291850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A2F0-299C-439F-8363-C88E6B1394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8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51436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жу чудное привол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жу нивы и по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– русское раздол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– русская земл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жу горы-испол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жу реки и мо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– русские карт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– родина мо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ышу пенье жаворо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ышу трели соловь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– русская сторо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– родина мо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90520" y="992160"/>
            <a:ext cx="500544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2 декабря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–</a:t>
            </a:r>
            <a:br>
              <a:rPr sz="3600"/>
            </a:b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День 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Конституции Р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"/>
          <p:cNvPicPr/>
          <p:nvPr/>
        </p:nvPicPr>
        <p:blipFill>
          <a:blip r:embed="rId1"/>
          <a:srcRect l="0" t="0" r="0" b="4222"/>
          <a:stretch/>
        </p:blipFill>
        <p:spPr>
          <a:xfrm>
            <a:off x="5356080" y="304920"/>
            <a:ext cx="3421080" cy="464328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7"/>
          <p:cNvSpPr/>
          <p:nvPr/>
        </p:nvSpPr>
        <p:spPr>
          <a:xfrm>
            <a:off x="3646440" y="5398920"/>
            <a:ext cx="531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Конституция – основной закон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0" y="660240"/>
            <a:ext cx="456264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оугольник 3"/>
          <p:cNvSpPr/>
          <p:nvPr/>
        </p:nvSpPr>
        <p:spPr>
          <a:xfrm>
            <a:off x="464760" y="149688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 на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оугольник 4"/>
          <p:cNvSpPr/>
          <p:nvPr/>
        </p:nvSpPr>
        <p:spPr>
          <a:xfrm>
            <a:off x="18720" y="2117880"/>
            <a:ext cx="45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 на медицинское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5"/>
          <p:cNvSpPr/>
          <p:nvPr/>
        </p:nvSpPr>
        <p:spPr>
          <a:xfrm>
            <a:off x="1126440" y="268920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оугольник 6"/>
          <p:cNvSpPr/>
          <p:nvPr/>
        </p:nvSpPr>
        <p:spPr>
          <a:xfrm>
            <a:off x="852480" y="33256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 на  жил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0" y="660240"/>
            <a:ext cx="456264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ЯЗА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оугольник 3"/>
          <p:cNvSpPr/>
          <p:nvPr/>
        </p:nvSpPr>
        <p:spPr>
          <a:xfrm>
            <a:off x="173880" y="14968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язаны прилежно уч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4"/>
          <p:cNvSpPr/>
          <p:nvPr/>
        </p:nvSpPr>
        <p:spPr>
          <a:xfrm>
            <a:off x="307800" y="211788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стойно вести себя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5"/>
          <p:cNvSpPr/>
          <p:nvPr/>
        </p:nvSpPr>
        <p:spPr>
          <a:xfrm>
            <a:off x="711000" y="268920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важать труд стар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6"/>
          <p:cNvSpPr/>
          <p:nvPr/>
        </p:nvSpPr>
        <p:spPr>
          <a:xfrm>
            <a:off x="113400" y="332568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нать символику своей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Рисунок 7" descr="C:\Documents and Settings\1\Мои документы\079.jpg"/>
          <p:cNvPicPr/>
          <p:nvPr/>
        </p:nvPicPr>
        <p:blipFill>
          <a:blip r:embed="rId1"/>
          <a:stretch/>
        </p:blipFill>
        <p:spPr>
          <a:xfrm>
            <a:off x="5834160" y="291960"/>
            <a:ext cx="3097080" cy="2652840"/>
          </a:xfrm>
          <a:prstGeom prst="rect">
            <a:avLst/>
          </a:prstGeom>
          <a:ln w="0">
            <a:noFill/>
          </a:ln>
        </p:spPr>
      </p:pic>
      <p:pic>
        <p:nvPicPr>
          <p:cNvPr id="590" name="Рисунок 8" descr="C:\Documents and Settings\1\Мои документы\1307198404_zh.jpg"/>
          <p:cNvPicPr/>
          <p:nvPr/>
        </p:nvPicPr>
        <p:blipFill>
          <a:blip r:embed="rId2"/>
          <a:stretch/>
        </p:blipFill>
        <p:spPr>
          <a:xfrm>
            <a:off x="6095880" y="4303800"/>
            <a:ext cx="3164040" cy="2687400"/>
          </a:xfrm>
          <a:prstGeom prst="rect">
            <a:avLst/>
          </a:prstGeom>
          <a:ln w="0">
            <a:noFill/>
          </a:ln>
        </p:spPr>
      </p:pic>
      <p:pic>
        <p:nvPicPr>
          <p:cNvPr id="591" name="Рисунок 9" descr="C:\Documents and Settings\1\Мои документы\besplatnoe-obrazovanie.jpg"/>
          <p:cNvPicPr/>
          <p:nvPr/>
        </p:nvPicPr>
        <p:blipFill>
          <a:blip r:embed="rId3"/>
          <a:stretch/>
        </p:blipFill>
        <p:spPr>
          <a:xfrm>
            <a:off x="4011480" y="2505240"/>
            <a:ext cx="3645000" cy="2450880"/>
          </a:xfrm>
          <a:prstGeom prst="rect">
            <a:avLst/>
          </a:prstGeom>
          <a:ln w="0">
            <a:noFill/>
          </a:ln>
        </p:spPr>
      </p:pic>
      <p:sp>
        <p:nvSpPr>
          <p:cNvPr id="592" name="Прямоугольник 10"/>
          <p:cNvSpPr/>
          <p:nvPr/>
        </p:nvSpPr>
        <p:spPr>
          <a:xfrm>
            <a:off x="377280" y="400212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еречь и охранять при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11"/>
          <p:cNvSpPr/>
          <p:nvPr/>
        </p:nvSpPr>
        <p:spPr>
          <a:xfrm>
            <a:off x="734400" y="471636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щищать Род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914400" y="66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людать Конституцию и другие Законы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. Уважать права и свободу других граж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. Беречь памятники истории и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. Платить налоги и сб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). Защищать свою страну, свое Отеч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79320" y="84420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бота с пословицами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Одна у человека мать, одна у него и Родина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90520" y="1600200"/>
            <a:ext cx="8740800" cy="13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чужой стороне и весна не крас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ная сторона - мать, чужая — мач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"/>
          <p:cNvSpPr/>
          <p:nvPr/>
        </p:nvSpPr>
        <p:spPr>
          <a:xfrm>
            <a:off x="0" y="3022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сякому мила своя стор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де хорошо, но милее Родины не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0" y="4066920"/>
            <a:ext cx="930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 в мире краше Родины на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упа та птица, которой свое гнездо не м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591000" y="574560"/>
            <a:ext cx="760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оя Род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лые с детства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ной мы зов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моя сем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мой отч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п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тва чудесны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чно цветущий м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тва мой добры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стный сердца ст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17 Моя Родина -.mp3" descr=""/>
          <p:cNvPicPr/>
          <p:nvPr/>
        </p:nvPicPr>
        <p:blipFill>
          <a:blip r:embed="rId1"/>
          <a:stretch/>
        </p:blipFill>
        <p:spPr>
          <a:xfrm>
            <a:off x="829944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21008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«Да! Нет!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это в пользу человека – говорим: «Да! И хлопаем». Если это противоречит закону, говорим: «Нет! И топаем 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Пользователь</cp:lastModifiedBy>
  <dcterms:modified xsi:type="dcterms:W3CDTF">2019-01-08T08:30:28Z</dcterms:modified>
  <cp:revision>75</cp:revision>
  <dc:subject/>
  <dc:title>Слайд 1</dc:title>
</cp:coreProperties>
</file>