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1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2.gif" ContentType="image/gif"/>
  <Override PartName="/ppt/media/image10.jpeg" ContentType="image/jpeg"/>
  <Override PartName="/ppt/media/image6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378-91BE-4E44-9AD4-5F6FC66B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024-A5FD-4979-BEDB-FF01E2F7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19D-000C-457D-B0F3-97E78119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69A-1753-4DA0-BE79-961F3E8E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D6D-C3DD-42E8-82FC-7F339B0F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0C1-47DE-4E12-A582-2F6D0C90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AEB-7295-49CA-8B26-04318AA4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416-F9DE-44EF-AAF4-6F707AA0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DBA-6C2C-4545-B234-1683EEFF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44A-B9B3-48C2-85E2-9C433527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CC1-2B4E-41C4-A5DE-45114C6D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338-4EC3-4CEC-8877-DC7FF5B5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1D11A-0C62-44AD-AA87-60E97A89978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 L"/>
              </a:rPr>
              <a:t>БЕЛЫЕ СНЕЖИН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Schoolbook L"/>
              </a:rPr>
              <a:t>(Из кинофиль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Schoolbook L"/>
              </a:rPr>
              <a:t>«Джентльмены удачи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Schoolbook L"/>
              </a:rPr>
              <a:t>Слова: Игорь Шафе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Schoolbook L"/>
              </a:rPr>
              <a:t>Музыка: Геннадий Глад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128520"/>
            <a:ext cx="82216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 L"/>
              </a:rPr>
              <a:t>Привезут из леса елку в детский са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457200" y="128520"/>
            <a:ext cx="822168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entury Schoolbook L"/>
              </a:rPr>
              <a:t>Привезут из леса елку в детский са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-6480" y="54000"/>
            <a:ext cx="9150480" cy="680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457200" y="128520"/>
            <a:ext cx="822636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ff99"/>
                </a:solidFill>
                <a:latin typeface="Century Schoolbook L"/>
              </a:rPr>
              <a:t>Дед Мороз поздрав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ff99"/>
                </a:solidFill>
                <a:latin typeface="Century Schoolbook L"/>
              </a:rPr>
              <a:t>с праздником ребя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128520"/>
            <a:ext cx="796608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286160" y="29322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86160" y="29322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Century Schoolbook L"/>
              </a:rPr>
              <a:t>Десять раз в неделю мы считаем дн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128520"/>
            <a:ext cx="796608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86160" y="29322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286160" y="29322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0" y="7308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83200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 L"/>
              </a:rPr>
              <a:t>Чтоб зажглись скорее яркие ог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a"/>
                </a:solidFill>
                <a:latin typeface="Century Schoolbook L"/>
                <a:ea typeface="Lohit Hindi"/>
              </a:rPr>
              <a:t>Белые снежинки кружатся с у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  <a:ea typeface="Lohit Hindi"/>
              </a:rPr>
              <a:t>Выросли сугробы посреди двора</a:t>
            </a:r>
            <a:r>
              <a:rPr b="1" lang="ru-RU" sz="3200" spc="-1" strike="noStrike">
                <a:solidFill>
                  <a:srgbClr val="66ffff"/>
                </a:solidFill>
                <a:latin typeface="Century Schoolbook L"/>
                <a:ea typeface="Lohit Hind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61920"/>
            <a:ext cx="9086760" cy="7066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 L"/>
                <a:ea typeface="Lohit Hindi"/>
              </a:rPr>
              <a:t>Стала от снежино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 L"/>
                <a:ea typeface="Lohit Hindi"/>
              </a:rPr>
              <a:t>улица светле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76400"/>
            <a:ext cx="822168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Только одеваться нужно потеп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  <a:ea typeface="Lohit Hindi"/>
              </a:rPr>
              <a:t>Просто невозможно зиму не люб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670200" y="3962520"/>
            <a:ext cx="1797120" cy="21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7065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Скоро будем бабу снежную ле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-1440"/>
            <a:ext cx="9183600" cy="7129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Если на прогулке в снег мы упа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457200" y="128520"/>
            <a:ext cx="822636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Встанем, отряхнем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и опять пойд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3:34:41Z</dcterms:created>
  <dc:creator>User</dc:creator>
  <dc:description/>
  <cp:keywords/>
  <dc:language>en-US</dc:language>
  <cp:lastModifiedBy>Пользователь Windows</cp:lastModifiedBy>
  <dcterms:modified xsi:type="dcterms:W3CDTF">2019-01-08T12:00:37Z</dcterms:modified>
  <cp:revision>5</cp:revision>
  <dc:subject/>
  <dc:title>Слайд 1</dc:title>
</cp:coreProperties>
</file>