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1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2.gif" ContentType="image/gif"/>
  <Override PartName="/ppt/media/image10.jpeg" ContentType="image/jpeg"/>
  <Override PartName="/ppt/media/image6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C10-D53E-4B6A-B5AA-83C9D669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085-D7DF-46F1-A166-95B2C8E8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28F-D101-49D5-9BFE-F31E7540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469-7CE9-48BB-A886-10C677AF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ACF-536B-4F9E-BDD8-DE4E452A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1C5-2E4E-4C80-B525-EEFDCE96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4AB-7652-4970-8E4C-1410C25B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935-B546-421C-BFF9-8382A671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075-AD86-44DB-9152-EBB997AB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24DF-A0E0-4893-AB20-BF999A3E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137-6C7C-47BF-9DF8-2480947F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154-00E8-469F-9A96-8523EEAE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309AE-47DB-4C33-962D-36AB4DC9344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457200" y="128520"/>
            <a:ext cx="82281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entury Schoolbook L"/>
              </a:rPr>
              <a:t>БЕЛЫЕ СНЕЖИН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entury Schoolbook L"/>
              </a:rPr>
              <a:t>(Из кинофильм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entury Schoolbook L"/>
              </a:rPr>
              <a:t>«Джентльмены удачи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entury Schoolbook L"/>
              </a:rPr>
              <a:t>Слова: Игорь Шафе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entury Schoolbook L"/>
              </a:rPr>
              <a:t>Музыка: Геннадий Глад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128520"/>
            <a:ext cx="822168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 L"/>
              </a:rPr>
              <a:t>Привезут из леса елку в детский са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-1908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457200" y="128520"/>
            <a:ext cx="822168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Century Schoolbook L"/>
              </a:rPr>
              <a:t>Привезут из леса елку в детский са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-6480" y="54000"/>
            <a:ext cx="9150480" cy="6804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457200" y="128520"/>
            <a:ext cx="822636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ff99"/>
                </a:solidFill>
                <a:latin typeface="Century Schoolbook L"/>
              </a:rPr>
              <a:t>Дед Мороз поздрав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ff99"/>
                </a:solidFill>
                <a:latin typeface="Century Schoolbook L"/>
              </a:rPr>
              <a:t>с праздником ребя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128520"/>
            <a:ext cx="796608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286160" y="29322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86160" y="29322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0" y="6192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Century Schoolbook L"/>
              </a:rPr>
              <a:t>Десять раз в неделю мы считаем дн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128520"/>
            <a:ext cx="796608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286160" y="29322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4286160" y="29322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0" y="7308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83200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Schoolbook L"/>
              </a:rPr>
              <a:t>Чтоб зажглись скорее яркие ог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457200" y="128520"/>
            <a:ext cx="82281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a"/>
                </a:solidFill>
                <a:latin typeface="Century Schoolbook L"/>
                <a:ea typeface="Lohit Hindi"/>
              </a:rPr>
              <a:t>Белые снежинки кружатся с ут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457200" y="128520"/>
            <a:ext cx="82281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 L"/>
                <a:ea typeface="Lohit Hindi"/>
              </a:rPr>
              <a:t>Выросли сугробы посреди двора</a:t>
            </a:r>
            <a:r>
              <a:rPr b="1" lang="ru-RU" sz="3200" spc="-1" strike="noStrike">
                <a:solidFill>
                  <a:srgbClr val="66ffff"/>
                </a:solidFill>
                <a:latin typeface="Century Schoolbook L"/>
                <a:ea typeface="Lohit Hind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61920"/>
            <a:ext cx="9086760" cy="7066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457200" y="128520"/>
            <a:ext cx="82281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 L"/>
                <a:ea typeface="Lohit Hindi"/>
              </a:rPr>
              <a:t>Стала от снежинок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 L"/>
                <a:ea typeface="Lohit Hindi"/>
              </a:rPr>
              <a:t>улица светлей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76400"/>
            <a:ext cx="822168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entury Schoolbook L"/>
              </a:rPr>
              <a:t>Только одеваться нужно потеп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457200" y="128520"/>
            <a:ext cx="82281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 L"/>
                <a:ea typeface="Lohit Hindi"/>
              </a:rPr>
              <a:t>Просто невозможно зиму не люби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128520"/>
            <a:ext cx="82281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670200" y="3962520"/>
            <a:ext cx="1797120" cy="2157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7065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 L"/>
              </a:rPr>
              <a:t>Скоро будем бабу снежную ле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-1440"/>
            <a:ext cx="9183600" cy="7129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 L"/>
              </a:rPr>
              <a:t>Если на прогулке в снег мы упа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457200" y="128520"/>
            <a:ext cx="822636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 L"/>
              </a:rPr>
              <a:t>Встанем, отряхнем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 L"/>
              </a:rPr>
              <a:t>и опять пойд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13:34:41Z</dcterms:created>
  <dc:creator>User</dc:creator>
  <dc:description/>
  <cp:keywords/>
  <dc:language>en-US</dc:language>
  <cp:lastModifiedBy>Пользователь Windows</cp:lastModifiedBy>
  <dcterms:modified xsi:type="dcterms:W3CDTF">2019-01-08T12:00:37Z</dcterms:modified>
  <cp:revision>5</cp:revision>
  <dc:subject/>
  <dc:title>Слайд 1</dc:title>
</cp:coreProperties>
</file>