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C67-14C8-4327-BED3-5F154E9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D0C-2040-4654-930F-0BEBAA6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909-A9CE-499E-AD21-C1B7AAB1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D14-F777-4536-82B6-CDE66C7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965-557C-43A1-9902-54246075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8FC-AA4C-4AEC-AA43-2076EC8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43A-D9F9-4132-8FA5-A08496C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A130-B37A-4281-A629-A0B541B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A1F-8888-472B-A0C2-D9834CF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82C2-E956-4C1C-85B3-0D8FC0B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248-C45C-4D90-A9BB-32E540E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2DD-FCD3-46DD-A6BD-2146799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210E-0184-4E78-9E13-63314BD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B17B-A49F-41D0-A68E-A0C28EB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2D2-876A-4B56-BD85-5166F5B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6B5-43F5-4E09-B967-B4BA8D4D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1FCE-B95B-45EB-B53E-068585CB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115-A671-4B1B-9617-EED949C3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E44-639A-4CF8-A94E-043D5A4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B2C-F463-4479-A7F5-F7FCC6C6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0E1-CBE0-42B6-B1C6-9A800F11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EB3-9C01-47B6-8B61-C3BDE85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B22-5D27-4C2A-AF2E-208461A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DEA-45F1-466A-8F33-4F9FA676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03A-27E4-4F59-AF5A-8997C3B11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2837-5602-40A3-B0C1-58B80645AC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libex.ru/dimg/1605f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in.ru/museum/img/history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Знакомство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с Бианки В.В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20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« Вести из леса»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Картинка 2 из 340"/>
          <p:cNvPicPr/>
          <p:nvPr/>
        </p:nvPicPr>
        <p:blipFill>
          <a:blip r:embed="rId1"/>
          <a:stretch/>
        </p:blipFill>
        <p:spPr>
          <a:xfrm rot="21065400">
            <a:off x="531720" y="633240"/>
            <a:ext cx="2251080" cy="295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Картинка 24 из 51"/>
          <p:cNvPicPr/>
          <p:nvPr/>
        </p:nvPicPr>
        <p:blipFill>
          <a:blip r:embed="rId2"/>
          <a:stretch/>
        </p:blipFill>
        <p:spPr>
          <a:xfrm>
            <a:off x="3432240" y="906480"/>
            <a:ext cx="2376360" cy="30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Картинка 3 из 17"/>
          <p:cNvPicPr/>
          <p:nvPr/>
        </p:nvPicPr>
        <p:blipFill>
          <a:blip r:embed="rId3"/>
          <a:stretch/>
        </p:blipFill>
        <p:spPr>
          <a:xfrm rot="921000">
            <a:off x="6617880" y="901800"/>
            <a:ext cx="1997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901022012"/>
          <p:cNvPicPr/>
          <p:nvPr/>
        </p:nvPicPr>
        <p:blipFill>
          <a:blip r:embed="rId1"/>
          <a:stretch/>
        </p:blipFill>
        <p:spPr>
          <a:xfrm rot="411000">
            <a:off x="6877080" y="1989000"/>
            <a:ext cx="2133720" cy="345600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дцать пять лет писал Бианки о лесе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Картинка 4 из 75"/>
          <p:cNvPicPr/>
          <p:nvPr/>
        </p:nvPicPr>
        <p:blipFill>
          <a:blip r:embed="rId2"/>
          <a:stretch/>
        </p:blipFill>
        <p:spPr>
          <a:xfrm rot="828600">
            <a:off x="4196880" y="1274400"/>
            <a:ext cx="2463840" cy="316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Картинка 1 из 12"/>
          <p:cNvPicPr/>
          <p:nvPr/>
        </p:nvPicPr>
        <p:blipFill>
          <a:blip r:embed="rId3"/>
          <a:stretch/>
        </p:blipFill>
        <p:spPr>
          <a:xfrm rot="21132600">
            <a:off x="383760" y="1180800"/>
            <a:ext cx="2095560" cy="31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Картинка 7 из 13">
            <a:hlinkClick r:id="rId4"/>
          </p:cNvPr>
          <p:cNvPicPr/>
          <p:nvPr/>
        </p:nvPicPr>
        <p:blipFill>
          <a:blip r:embed="rId5"/>
          <a:stretch/>
        </p:blipFill>
        <p:spPr>
          <a:xfrm rot="21429000">
            <a:off x="1784520" y="3186000"/>
            <a:ext cx="2180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каз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6536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казки 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сказ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6" descr="Картинка 119 из 93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51280" y="33336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p155345"/>
          <p:cNvPicPr/>
          <p:nvPr/>
        </p:nvPicPr>
        <p:blipFill>
          <a:blip r:embed="rId2"/>
          <a:stretch/>
        </p:blipFill>
        <p:spPr>
          <a:xfrm>
            <a:off x="690480" y="3076560"/>
            <a:ext cx="2122560" cy="333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54000074434"/>
          <p:cNvPicPr/>
          <p:nvPr/>
        </p:nvPicPr>
        <p:blipFill>
          <a:blip r:embed="rId3"/>
          <a:stretch/>
        </p:blipFill>
        <p:spPr>
          <a:xfrm>
            <a:off x="3571920" y="3789360"/>
            <a:ext cx="2189160" cy="290196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  <p:pic>
        <p:nvPicPr>
          <p:cNvPr id="155" name="Picture 10" descr="21edf"/>
          <p:cNvPicPr/>
          <p:nvPr/>
        </p:nvPicPr>
        <p:blipFill>
          <a:blip r:embed="rId4"/>
          <a:stretch/>
        </p:blipFill>
        <p:spPr>
          <a:xfrm>
            <a:off x="6659640" y="3573360"/>
            <a:ext cx="21733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_bianki_1"/>
          <p:cNvPicPr/>
          <p:nvPr/>
        </p:nvPicPr>
        <p:blipFill>
          <a:blip r:embed="rId1"/>
          <a:stretch/>
        </p:blipFill>
        <p:spPr>
          <a:xfrm>
            <a:off x="179280" y="404640"/>
            <a:ext cx="3673440" cy="587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852720" y="1844640"/>
            <a:ext cx="53992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ИАНКИ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ТАЛИЙ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АЛЕНТИНОВИ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(1894 –1959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40000" y="260280"/>
            <a:ext cx="393048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талий Бианки родился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етербург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history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341360"/>
            <a:ext cx="727236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73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том семья Бианки уезжала в деревню Лебяж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j0430519"/>
          <p:cNvPicPr/>
          <p:nvPr/>
        </p:nvPicPr>
        <p:blipFill>
          <a:blip r:embed="rId1"/>
          <a:stretch/>
        </p:blipFill>
        <p:spPr>
          <a:xfrm>
            <a:off x="468360" y="277920"/>
            <a:ext cx="8207280" cy="53118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15920"/>
            <a:ext cx="8497800" cy="60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лавным лесным учителе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 Бианки стал отец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Отец с Виталием"/>
          <p:cNvPicPr/>
          <p:nvPr/>
        </p:nvPicPr>
        <p:blipFill>
          <a:blip r:embed="rId1"/>
          <a:stretch/>
        </p:blipFill>
        <p:spPr>
          <a:xfrm>
            <a:off x="2556000" y="1052640"/>
            <a:ext cx="4032000" cy="561636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97360" y="333360"/>
            <a:ext cx="44640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талий Бианки был знаком с Самуилом Яковлевичем Маршаком, который привёл его в студию детских писате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Картинка 105 из 931"/>
          <p:cNvPicPr/>
          <p:nvPr/>
        </p:nvPicPr>
        <p:blipFill>
          <a:blip r:embed="rId1"/>
          <a:stretch/>
        </p:blipFill>
        <p:spPr>
          <a:xfrm>
            <a:off x="611280" y="26028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23156"/>
          <p:cNvPicPr/>
          <p:nvPr/>
        </p:nvPicPr>
        <p:blipFill>
          <a:blip r:embed="rId2"/>
          <a:stretch/>
        </p:blipFill>
        <p:spPr>
          <a:xfrm>
            <a:off x="3635280" y="3357720"/>
            <a:ext cx="4753080" cy="331128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</p:spTree>
  </p:cSld>
  <p:transition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317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первый рассказ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анки «Путешествие красноголового воробь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амая перва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ниж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ывалас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Чей нос лучше?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13593"/>
          <p:cNvPicPr/>
          <p:nvPr/>
        </p:nvPicPr>
        <p:blipFill>
          <a:blip r:embed="rId1"/>
          <a:stretch/>
        </p:blipFill>
        <p:spPr>
          <a:xfrm>
            <a:off x="539640" y="2421000"/>
            <a:ext cx="3240360" cy="3960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амой знаменитой книг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ианки стал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«Лесная газета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Картинка 1 из 51"/>
          <p:cNvPicPr/>
          <p:nvPr/>
        </p:nvPicPr>
        <p:blipFill>
          <a:blip r:embed="rId1"/>
          <a:stretch/>
        </p:blipFill>
        <p:spPr>
          <a:xfrm rot="21091800">
            <a:off x="312480" y="1263600"/>
            <a:ext cx="2538360" cy="39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Картинка 2 из 51"/>
          <p:cNvPicPr/>
          <p:nvPr/>
        </p:nvPicPr>
        <p:blipFill>
          <a:blip r:embed="rId2"/>
          <a:stretch/>
        </p:blipFill>
        <p:spPr>
          <a:xfrm>
            <a:off x="3203640" y="1557360"/>
            <a:ext cx="2592360" cy="424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артинка 9 из 51"/>
          <p:cNvPicPr/>
          <p:nvPr/>
        </p:nvPicPr>
        <p:blipFill>
          <a:blip r:embed="rId3"/>
          <a:stretch/>
        </p:blipFill>
        <p:spPr>
          <a:xfrm rot="454200">
            <a:off x="6207120" y="953640"/>
            <a:ext cx="25225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анки работал над книгой «Лесная газета» до конца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Картинка 38 из 279"/>
          <p:cNvPicPr/>
          <p:nvPr/>
        </p:nvPicPr>
        <p:blipFill>
          <a:blip r:embed="rId1"/>
          <a:stretch/>
        </p:blipFill>
        <p:spPr>
          <a:xfrm>
            <a:off x="4356000" y="476280"/>
            <a:ext cx="4176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26:43Z</dcterms:created>
  <dc:creator>Ольга</dc:creator>
  <dc:description/>
  <dc:language>en-US</dc:language>
  <cp:lastModifiedBy>kozlikboris1@rambler.ru</cp:lastModifiedBy>
  <dcterms:modified xsi:type="dcterms:W3CDTF">2019-01-08T13:53:26Z</dcterms:modified>
  <cp:revision>56</cp:revision>
  <dc:subject/>
  <dc:title>БИАНКИ  ВИТАЛИЙ  ВАЛЕНТИНОВИЧ</dc:title>
</cp:coreProperties>
</file>