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AEF-6012-4010-90D3-24CEC51F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6E5-B7FA-4DA1-A7BB-EEC0DEA0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3E4-432A-407E-BE41-32C235BA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F1C-32CF-4D32-B21F-E205BA01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59B4-36C3-4A86-914A-C5ABBE0A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2A55-3355-4502-B2CC-D80A90AC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03FC-1AE3-467C-BF4E-96EE2B23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720D-DEC0-436A-910B-DB3A4343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9C1C-4C8C-4034-9A0E-98C12E8B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C68D-6A4E-495A-9C6A-33A154DD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900F-2AEC-45F1-A322-E188F3A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A19-F5CB-4FBF-BEA1-94A5E43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2480-498E-4AD7-8D99-44ACBC9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185B-0922-4398-826E-1C26E586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F89E-E206-4B76-8ED9-5E9809AE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A04E-B035-4826-BF6A-665D08D3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D04C-D507-4B7A-96B0-359B242A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904-2DAF-4DCD-82C1-41CA5018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F90-3316-4438-9EF5-9CFADED7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771-043E-4CD5-BC00-A242D689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3D3-1761-49A2-850D-62C5E8A7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018-7BE8-4795-9765-19F2C2DB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B0B-C251-4659-9EC4-37AFF991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2CB-4DAB-40A3-822A-9008BF8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AF70-3413-4739-95FA-E1966D5F63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A27D-B942-4698-9033-FAFC987E75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libex.ru/dimg/1605f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in.ru/museum/img/history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Знакомство 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с Бианки В.В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820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« Вести из леса»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Картинка 2 из 340"/>
          <p:cNvPicPr/>
          <p:nvPr/>
        </p:nvPicPr>
        <p:blipFill>
          <a:blip r:embed="rId1"/>
          <a:stretch/>
        </p:blipFill>
        <p:spPr>
          <a:xfrm rot="21065400">
            <a:off x="531720" y="633240"/>
            <a:ext cx="2251080" cy="295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Картинка 24 из 51"/>
          <p:cNvPicPr/>
          <p:nvPr/>
        </p:nvPicPr>
        <p:blipFill>
          <a:blip r:embed="rId2"/>
          <a:stretch/>
        </p:blipFill>
        <p:spPr>
          <a:xfrm>
            <a:off x="3432240" y="906480"/>
            <a:ext cx="2376360" cy="30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Картинка 3 из 17"/>
          <p:cNvPicPr/>
          <p:nvPr/>
        </p:nvPicPr>
        <p:blipFill>
          <a:blip r:embed="rId3"/>
          <a:stretch/>
        </p:blipFill>
        <p:spPr>
          <a:xfrm rot="921000">
            <a:off x="6617880" y="901800"/>
            <a:ext cx="19972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901022012"/>
          <p:cNvPicPr/>
          <p:nvPr/>
        </p:nvPicPr>
        <p:blipFill>
          <a:blip r:embed="rId1"/>
          <a:stretch/>
        </p:blipFill>
        <p:spPr>
          <a:xfrm rot="411000">
            <a:off x="6877080" y="1989000"/>
            <a:ext cx="2133720" cy="3456000"/>
          </a:xfrm>
          <a:prstGeom prst="rect">
            <a:avLst/>
          </a:prstGeom>
          <a:ln w="28440">
            <a:solidFill>
              <a:srgbClr val="0058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дцать пять лет писал Бианки о лесе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Картинка 4 из 75"/>
          <p:cNvPicPr/>
          <p:nvPr/>
        </p:nvPicPr>
        <p:blipFill>
          <a:blip r:embed="rId2"/>
          <a:stretch/>
        </p:blipFill>
        <p:spPr>
          <a:xfrm rot="828600">
            <a:off x="4196880" y="1274400"/>
            <a:ext cx="2463840" cy="316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Картинка 1 из 12"/>
          <p:cNvPicPr/>
          <p:nvPr/>
        </p:nvPicPr>
        <p:blipFill>
          <a:blip r:embed="rId3"/>
          <a:stretch/>
        </p:blipFill>
        <p:spPr>
          <a:xfrm rot="21132600">
            <a:off x="383760" y="1180800"/>
            <a:ext cx="2095560" cy="310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Картинка 7 из 13">
            <a:hlinkClick r:id="rId4"/>
          </p:cNvPr>
          <p:cNvPicPr/>
          <p:nvPr/>
        </p:nvPicPr>
        <p:blipFill>
          <a:blip r:embed="rId5"/>
          <a:stretch/>
        </p:blipFill>
        <p:spPr>
          <a:xfrm rot="21429000">
            <a:off x="1784520" y="3186000"/>
            <a:ext cx="2180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каз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86536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казки 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сказк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6" descr="Картинка 119 из 93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51280" y="33336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p155345"/>
          <p:cNvPicPr/>
          <p:nvPr/>
        </p:nvPicPr>
        <p:blipFill>
          <a:blip r:embed="rId2"/>
          <a:stretch/>
        </p:blipFill>
        <p:spPr>
          <a:xfrm>
            <a:off x="690480" y="3076560"/>
            <a:ext cx="2122560" cy="3333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54000074434"/>
          <p:cNvPicPr/>
          <p:nvPr/>
        </p:nvPicPr>
        <p:blipFill>
          <a:blip r:embed="rId3"/>
          <a:stretch/>
        </p:blipFill>
        <p:spPr>
          <a:xfrm>
            <a:off x="3571920" y="3789360"/>
            <a:ext cx="2189160" cy="2901960"/>
          </a:xfrm>
          <a:prstGeom prst="rect">
            <a:avLst/>
          </a:prstGeom>
          <a:ln w="28440">
            <a:solidFill>
              <a:srgbClr val="005800"/>
            </a:solidFill>
            <a:miter/>
          </a:ln>
        </p:spPr>
      </p:pic>
      <p:pic>
        <p:nvPicPr>
          <p:cNvPr id="155" name="Picture 10" descr="21edf"/>
          <p:cNvPicPr/>
          <p:nvPr/>
        </p:nvPicPr>
        <p:blipFill>
          <a:blip r:embed="rId4"/>
          <a:stretch/>
        </p:blipFill>
        <p:spPr>
          <a:xfrm>
            <a:off x="6659640" y="3573360"/>
            <a:ext cx="21733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i_bianki_1"/>
          <p:cNvPicPr/>
          <p:nvPr/>
        </p:nvPicPr>
        <p:blipFill>
          <a:blip r:embed="rId1"/>
          <a:stretch/>
        </p:blipFill>
        <p:spPr>
          <a:xfrm>
            <a:off x="179280" y="404640"/>
            <a:ext cx="3673440" cy="5877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852720" y="1844640"/>
            <a:ext cx="53992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БИАНКИ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ТАЛИЙ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АЛЕНТИНОВИ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(1894 –1959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340000" y="260280"/>
            <a:ext cx="393048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талий Бианки родился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етербург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8" descr="history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341360"/>
            <a:ext cx="727236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73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том семья Бианки уезжала в деревню Лебяжь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j0430519"/>
          <p:cNvPicPr/>
          <p:nvPr/>
        </p:nvPicPr>
        <p:blipFill>
          <a:blip r:embed="rId1"/>
          <a:stretch/>
        </p:blipFill>
        <p:spPr>
          <a:xfrm>
            <a:off x="468360" y="277920"/>
            <a:ext cx="8207280" cy="53118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p:transition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115920"/>
            <a:ext cx="8497800" cy="60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лавным лесным учителе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 Бианки стал отец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Отец с Виталием"/>
          <p:cNvPicPr/>
          <p:nvPr/>
        </p:nvPicPr>
        <p:blipFill>
          <a:blip r:embed="rId1"/>
          <a:stretch/>
        </p:blipFill>
        <p:spPr>
          <a:xfrm>
            <a:off x="2556000" y="1052640"/>
            <a:ext cx="4032000" cy="5616360"/>
          </a:xfrm>
          <a:prstGeom prst="rect">
            <a:avLst/>
          </a:prstGeom>
          <a:ln w="28440">
            <a:solidFill>
              <a:srgbClr val="005800"/>
            </a:solidFill>
            <a:miter/>
          </a:ln>
        </p:spPr>
      </p:pic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97360" y="333360"/>
            <a:ext cx="44640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талий Бианки был знаком с Самуилом Яковлевичем Маршаком, который привёл его в студию детских писател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Картинка 105 из 931"/>
          <p:cNvPicPr/>
          <p:nvPr/>
        </p:nvPicPr>
        <p:blipFill>
          <a:blip r:embed="rId1"/>
          <a:stretch/>
        </p:blipFill>
        <p:spPr>
          <a:xfrm>
            <a:off x="611280" y="26028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23156"/>
          <p:cNvPicPr/>
          <p:nvPr/>
        </p:nvPicPr>
        <p:blipFill>
          <a:blip r:embed="rId2"/>
          <a:stretch/>
        </p:blipFill>
        <p:spPr>
          <a:xfrm>
            <a:off x="3635280" y="3357720"/>
            <a:ext cx="4753080" cy="3311280"/>
          </a:xfrm>
          <a:prstGeom prst="rect">
            <a:avLst/>
          </a:prstGeom>
          <a:ln w="28440">
            <a:solidFill>
              <a:srgbClr val="005800"/>
            </a:solidFill>
            <a:miter/>
          </a:ln>
        </p:spPr>
      </p:pic>
    </p:spTree>
  </p:cSld>
  <p:transition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317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первый рассказ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анки «Путешествие красноголового воробь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амая перва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ниж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ывалас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Чей нос лучше?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6" descr="13593"/>
          <p:cNvPicPr/>
          <p:nvPr/>
        </p:nvPicPr>
        <p:blipFill>
          <a:blip r:embed="rId1"/>
          <a:stretch/>
        </p:blipFill>
        <p:spPr>
          <a:xfrm>
            <a:off x="539640" y="2421000"/>
            <a:ext cx="3240360" cy="3960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амой знаменитой книго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ианки стала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«Лесная газета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Картинка 1 из 51"/>
          <p:cNvPicPr/>
          <p:nvPr/>
        </p:nvPicPr>
        <p:blipFill>
          <a:blip r:embed="rId1"/>
          <a:stretch/>
        </p:blipFill>
        <p:spPr>
          <a:xfrm rot="21091800">
            <a:off x="312480" y="1263600"/>
            <a:ext cx="2538360" cy="399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Картинка 2 из 51"/>
          <p:cNvPicPr/>
          <p:nvPr/>
        </p:nvPicPr>
        <p:blipFill>
          <a:blip r:embed="rId2"/>
          <a:stretch/>
        </p:blipFill>
        <p:spPr>
          <a:xfrm>
            <a:off x="3203640" y="1557360"/>
            <a:ext cx="2592360" cy="424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Картинка 9 из 51"/>
          <p:cNvPicPr/>
          <p:nvPr/>
        </p:nvPicPr>
        <p:blipFill>
          <a:blip r:embed="rId3"/>
          <a:stretch/>
        </p:blipFill>
        <p:spPr>
          <a:xfrm rot="454200">
            <a:off x="6207120" y="953640"/>
            <a:ext cx="25225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анки работал над книгой «Лесная газета» до конца жиз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Картинка 38 из 279"/>
          <p:cNvPicPr/>
          <p:nvPr/>
        </p:nvPicPr>
        <p:blipFill>
          <a:blip r:embed="rId1"/>
          <a:stretch/>
        </p:blipFill>
        <p:spPr>
          <a:xfrm>
            <a:off x="4356000" y="476280"/>
            <a:ext cx="4176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9:26:43Z</dcterms:created>
  <dc:creator>Ольга</dc:creator>
  <dc:description/>
  <dc:language>en-US</dc:language>
  <cp:lastModifiedBy>kozlikboris1@rambler.ru</cp:lastModifiedBy>
  <dcterms:modified xsi:type="dcterms:W3CDTF">2019-01-08T13:53:26Z</dcterms:modified>
  <cp:revision>56</cp:revision>
  <dc:subject/>
  <dc:title>БИАНКИ  ВИТАЛИЙ  ВАЛЕНТИНОВИЧ</dc:title>
</cp:coreProperties>
</file>