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3F68-04A0-4553-B754-7395E98D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F0B1-0BD3-41F6-BC7A-F219FEC1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9929-24D6-41CD-80AD-C234647E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F84C-715E-4548-9A27-EDCB40F3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0336-619B-400B-9E27-E5D8F331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0841-9B29-4563-89FC-D62A078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9E40-9B3B-4D1E-A1F1-4958EC6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38C-7BBA-4D0B-BFBC-0DF0520B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097A-99DD-4B56-A48B-156FA196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A66-9591-4731-BC77-25CEF1AC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D85-E39B-4FC6-8CAD-2697ABE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50D0-0242-47F4-A9B2-28147948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CE2E-04CC-4812-9006-11FDC93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869-30C4-4865-BEB8-EEF1B184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F748-DEB7-4FDB-81B3-B5FD936C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C997-474E-4CDA-8C71-24F436D0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2F82-F574-458C-A122-9F51E5D0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5ABF-152D-437B-AF9D-E7FE059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CA1E-56AC-4844-8737-E3BC8982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373C-8D7C-44FA-B5AC-576D84A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0981-8E8D-4AB0-A4CA-39AD3A9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2B5E-8071-4A9A-A201-3575440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1A81-FD2D-4953-8881-5CB568CE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C726-A5B2-46A6-A6CC-663EDC5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535A-F18C-4CF1-89A0-7D5AF97E78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C770-7128-4B82-92ED-AC327C6223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Дидактические игры  для обучения правильному речевому дыханию 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1531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узыка Н. 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идактическое пособие  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тушок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"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915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етушо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етушо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ы послушай наш стиш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удо-хвост ты распуш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ышать нас науч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92720" y="2035080"/>
            <a:ext cx="370188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27280" y="4221000"/>
            <a:ext cx="4032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Дидактическая игра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«Разноцветные шарик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08000" y="1413000"/>
            <a:ext cx="5076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ля этой игры необходимы соломинка для коктейля и бутылка с разноцветными помпонами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диаметр помпонов должен быть больше, чем диаметр трубочки, чтобы дети случайно не вдохнули в себя!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)Посередине широкого языка кладется соломинка, конец которой опускается в бутылку. Ребенок дует через соломинку, чтобы шарики привести в движение. Следите, чтобы щеки не надувались, а губы были неподвиж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9369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гра </a:t>
            </a:r>
            <a:r>
              <a:rPr b="0" i="1" lang="en-US" sz="4400" spc="-1" strike="noStrike">
                <a:solidFill>
                  <a:srgbClr val="e5e5ff"/>
                </a:solidFill>
                <a:latin typeface="Garamond"/>
              </a:rPr>
              <a:t>«Шаловливый ветерок»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редставь, что это волшебное дерев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одул ветерок - и зашелестели на дерев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сточк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Вот так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А теперь ты подуй!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3532320" cy="2046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8948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гра </a:t>
            </a:r>
            <a:r>
              <a:rPr b="0" i="1" lang="en-US" sz="4400" spc="-1" strike="noStrike">
                <a:solidFill>
                  <a:srgbClr val="e5e5ff"/>
                </a:solidFill>
                <a:latin typeface="Garamond"/>
              </a:rPr>
              <a:t>«Божья коровка»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мотри, какие красивые божьи коровки! Посмотрим, умеют ли они лет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Взрослый дует на божью коровку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мотри, полетели! Как живые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перь ты попробуй поду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ая божья коровка улети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льш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4508640"/>
            <a:ext cx="3059280" cy="1947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3789360"/>
            <a:ext cx="3108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628640"/>
            <a:ext cx="89139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Желаю успехов в обучении правильному речевому дыханию!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-19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376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83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боту по  развитию речи у детей раннего возраста необходимо  начинать с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рмирования правильного речевого дых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которое предполагает выработку воздушной струи. Выработка воздушной струи считается одним из необходимых и значимых условий постановки звуков: звуки произносятся в фазе выдох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авильное речевое дыхание будет обеспечивать нормальное звукообразование, а также создаст условия для поддержания нормальной громкости речи, четкого соблюдения пауз, сохранения плавности речи и интонационной вырази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-42120"/>
            <a:ext cx="7354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8075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формировани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ечевого дыхания посредством дидактических игр и упражн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способствовать увеличению объёма дых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развивать умение выполнять плавный длительный выдох, направлять струю воздуха в нужном направлен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активизировать работу мышц гу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Рекоменд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93916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здух необходимо набирать через нос, плечи не подним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дох должен быть длительным, плав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обходимо следить, чтобы не надувались щеки (н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чальном этапе можно прижимать их ладоням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пражнения можно выполнять как в положении сидя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 и сто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переусердствуйте! Достаточно 3—5 повторений. Многократное выполнение дыхательных упражнений может привести к головокружен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рез несколько занятий усложните упра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Атрибуты к дидактическим играм на развитие дыха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уть разными способами на предмет на ниточке: бабочки, чайки, лебеди, снежинки, незабудки, одуванчики, тучки веселые и грустные, осенние кленовые листья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808360" cy="2103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2736720" cy="204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00720" y="1289160"/>
            <a:ext cx="2735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-126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дуть с картинки стрекозу, божью коровку, бабочку, одуванчик, синичку на ниточк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456000" cy="254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64000" y="281160"/>
            <a:ext cx="3456000" cy="2533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529080" cy="262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50920" y="4005360"/>
            <a:ext cx="3673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Накор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роша ягодками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Помоги лягушонк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браться до листочка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733920" cy="2811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727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2852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ложить дорожку из осенних листьев, затем подуть на эту дорожк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688000" cy="2549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6361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идактическое пособие  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"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ьминожек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"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ьминожек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ьминож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 тебя так много нож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б ты играл в футб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один забил бы гол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ебенку предлагает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ть глубокий вдох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дох, так чтобы все ножки 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ьминог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 задвигалис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916360" cy="21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718080"/>
            <a:ext cx="2879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7T18:01:36Z</dcterms:created>
  <dc:creator>SamLab.ws</dc:creator>
  <dc:description/>
  <dc:language>en-US</dc:language>
  <cp:lastModifiedBy>SamLab.ws</cp:lastModifiedBy>
  <dcterms:modified xsi:type="dcterms:W3CDTF">2019-01-07T21:34:29Z</dcterms:modified>
  <cp:revision>8</cp:revision>
  <dc:subject/>
  <dc:title>Слайд 1</dc:title>
</cp:coreProperties>
</file>