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88E6-6824-4191-A81F-53263766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BE46-0BF5-4DF6-A060-8BFBE7D3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ED4E-FB59-4D91-A317-A0E3D9FB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D93E-0F49-4D25-B47F-BDF39D73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495-2AAF-4A56-9242-29A11507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E16-02CE-46EA-B14F-F63D0945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2426-BC9A-446B-8908-CCF1187B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7733-C261-4990-9053-2245249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2B5B-A073-4F6D-ACC9-56CCBA26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57A-E357-4E86-9511-F889257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37F8-F0D2-45AE-8E2A-8E86338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4FD2-9162-4641-AF3C-FE2F424E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989-4D2B-48B7-B048-8680097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F7A6-211C-4AFD-A6C3-9B4E5DA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9F03-C258-497D-85B9-9C89737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969-7B65-4ECB-84A9-2AAD0DE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AFD-3C81-4F76-9A4D-759E29FB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14BC-6982-4386-A0DD-9752366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3BF7-0EFC-4908-9A1C-6E6C40B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E7DA-F37E-414A-BBCE-76FC4AE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075F-DD42-43FF-973E-135F23F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93B1-6C35-4681-8D43-1CBD173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2BB9-D03B-4E27-9748-64986A03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6FC4-C4BC-4F20-8822-07CE364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732-A241-4B69-9611-4C6B19C186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E95-4380-450D-A341-11CDE3CE9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Дидактические игры  для обучения правильному речевому дыханию 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1531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узыка Н. 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идактическое пособие  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«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тушок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"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91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етушо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етушо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ы послушай наш стиш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удо-хвост ты распуш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ышать нас науч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92720" y="2035080"/>
            <a:ext cx="370188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27280" y="4221000"/>
            <a:ext cx="4032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Дидактическая игра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«Разноцветные шарик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08000" y="1413000"/>
            <a:ext cx="507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ля этой игры необходимы соломинка для коктейля и бутылка с разноцветными помпонами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диаметр помпонов должен быть больше, чем диаметр трубочки, чтобы дети случайно не вдохнули в себя!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)Посередине широкого языка кладется соломинка, конец которой опускается в бутылку. Ребенок дует через соломинку, чтобы шарики привести в движение. Следите, чтобы щеки не надувались, а губы были неподвиж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9369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гра </a:t>
            </a:r>
            <a:r>
              <a:rPr b="0" i="1" lang="en-US" sz="4400" spc="-1" strike="noStrike">
                <a:solidFill>
                  <a:srgbClr val="e5e5ff"/>
                </a:solidFill>
                <a:latin typeface="Garamond"/>
              </a:rPr>
              <a:t>«Шаловливый ветерок»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редставь, что это волшебное дере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Подул ветерок - и зашелестели на дерев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сточк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Вот так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А теперь ты подуй!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3532320" cy="2046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8948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гра </a:t>
            </a:r>
            <a:r>
              <a:rPr b="0" i="1" lang="en-US" sz="4400" spc="-1" strike="noStrike">
                <a:solidFill>
                  <a:srgbClr val="e5e5ff"/>
                </a:solidFill>
                <a:latin typeface="Garamond"/>
              </a:rPr>
              <a:t>«Божья коровка»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мотри, какие красивые божьи коровки! Посмотрим, умеют ли они лет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Взрослый дует на божью коровку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мотри, полетели! Как живые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перь ты попробуй поду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ая божья коровка улети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льш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4508640"/>
            <a:ext cx="3059280" cy="194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3789360"/>
            <a:ext cx="3108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628640"/>
            <a:ext cx="89139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Желаю успехов в обучении правильному речевому дыханию!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-19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376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476280"/>
            <a:ext cx="83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боту по  развитию речи у детей раннего возраста необходимо  начинать с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ормирования правильного речевого дых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которое предполагает выработку воздушной струи. Выработка воздушной струи считается одним из необходимых и значимых условий постановки звуков: звуки произносятся в фазе выдох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авильное речевое дыхание будет обеспечивать нормальное звукообразование, а также создаст условия для поддержания нормальной громкости речи, четкого соблюдения пауз, сохранения плавности речи и интонационной вырази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-42120"/>
            <a:ext cx="7354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формировани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ечевого дыхания посредством дидактических игр и упражн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способствовать увеличению объёма дых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развивать умение выполнять плавный длительный выдох, направлять струю воздуха в нужном направлен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активизировать работу мышц гу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Рекоменд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93916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здух необходимо набирать через нос, плечи не подним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дох должен быть длительным, плав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обходимо следить, чтобы не надувались щеки (н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чальном этапе можно прижимать их ладоням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пражнения можно выполнять как в положении сидя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и сто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переусердствуйте! Достаточно 3—5 повторений. Многократное выполнение дыхательных упражнений может привести к головокружен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рез несколько занятий усложнит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Атрибуты к дидактическим играм на развитие дыха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ть разными способами на предмет на ниточке: бабочки, чайки, лебеди, снежинки, незабудки, одуванчики, тучки веселые и грустные, осенние кленовые листья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808360" cy="2103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00720" y="1289160"/>
            <a:ext cx="2735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-126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дуть с картинки стрекозу, божью коровку, бабочку, одуванчик, синичку на ниточк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456000" cy="254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64000" y="281160"/>
            <a:ext cx="3456000" cy="253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529080" cy="262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0920" y="4005360"/>
            <a:ext cx="3673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Накор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роша ягодками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Помоги лягушонк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браться до листочка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733920" cy="281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727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2852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ложить дорожку из осенних листьев, затем подуть на эту дорожк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688000" cy="254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6361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идактическое пособие  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ьминожек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"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же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ж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 тебя так много нож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б ты играл в футб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один забил бы гол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ебенку предлагает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ть глубокий вдох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ох, так чтобы все ножки 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ьминог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 задвигали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916360" cy="21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718080"/>
            <a:ext cx="2879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7T18:01:36Z</dcterms:created>
  <dc:creator>SamLab.ws</dc:creator>
  <dc:description/>
  <dc:language>en-US</dc:language>
  <cp:lastModifiedBy>SamLab.ws</cp:lastModifiedBy>
  <dcterms:modified xsi:type="dcterms:W3CDTF">2019-01-07T21:34:29Z</dcterms:modified>
  <cp:revision>8</cp:revision>
  <dc:subject/>
  <dc:title>Слайд 1</dc:title>
</cp:coreProperties>
</file>