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7AC2-514A-46EF-B62E-9D0968768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376A-3D1B-40E7-87E5-A45F662528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738F-DF76-485F-8C05-FD91F1A4C7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6FEC-9548-40A6-A10F-E89DA15C6C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0393-AE4E-4B87-9208-C6475CA43E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903C-8231-41FD-A5FC-4E8DB63F94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179A-B9A7-48B8-83BB-CE070AC0DC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690-F0D2-48EE-9B34-7F2E4587F3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BB7-0716-4810-B4F8-F19BAB84EF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244-824C-4A51-8E78-71C35D4D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291-6F87-4693-908A-907F799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F75C5-4281-42EC-B49E-1741EDF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28F46-3164-4696-994D-0D488B1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E6CD0-7252-421E-B08D-49E2DBD6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A091E-5E2E-4A1E-A79E-E558C916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67D14-50D9-498A-8BA7-093538B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68D0B-8889-4375-ACCF-1FBB79F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467FF-7483-44E0-989D-ACE9E54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9237A-1174-4328-8D5F-A0DCE9F5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34D5-36E7-4FF6-81A2-146CAC36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15E31-1B64-4F06-896D-5D67E22B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78E-46D0-4DAF-BB0D-C1358ECD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FC303-D1F7-45A7-9818-C17D13DF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7AD71-2403-41D4-9C24-FF3F812F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C0547-24DC-4645-AAC2-CC46045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E0B91-49D8-47FE-8827-692B6C6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E98C5-20FE-44E5-B239-B5FE8CBB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51EC5-5C0E-4F30-88B6-67B9992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96657-0DFB-4866-ABEA-EF81236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D498F-3F06-49D8-B29B-5BD8B6A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60FD8-0D3E-444E-9470-2D2BB21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5AA24-EDF7-41A4-B88A-BC31663B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F74-4EF4-4AE1-90E1-18D083A9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AAE1-4682-4B8D-9BBC-90FEA0DE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7842C-29B7-470C-9C4A-4991A6F0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A7664-BA46-4275-89DD-BCA1D1E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9C2E2-AD85-4BEF-BBB8-C0794EE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944B0-F48D-49C7-A137-54BA07C0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E9E7F-1B63-431B-93DA-114F2F97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78273-C2EB-4B42-88F5-5C7FD3E5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69BFA-C896-4652-8171-3B6247F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5948B-6C02-4FE9-B900-97C86CB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5A15E-765D-44E8-927C-04B3483E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E3A2C-93A1-4A15-A27A-C24C12E5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61E19-4189-4E37-B4A6-58ED56E4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875DB-2FB0-4C02-B0C7-4C2F02A1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88652-4227-4EFB-BAD2-33E3DE66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160A-D36D-4DB9-8E11-375851AB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9F53B-E7B4-4A10-B9AC-F26EFC3F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F22D4-97E2-4259-A47B-49C7A07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036D5-3914-4C80-A148-BA11666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4AE60-D803-4983-B762-103B8A53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C84F6-6DD4-491D-B20B-23BB993C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2EBBD-23F6-4BAB-9766-8032BD2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DCEF-3235-47B3-B4DF-6B2FDBA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6C82D-5F42-4D0A-A7BC-CA92B9E9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D8D77-EB5E-4ADB-B150-7F3F110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F547D-678D-4346-8952-8BCD69D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DF62F-56E7-4888-B7EC-4E4BBD61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23DF2-333C-43D6-AA1E-51BC5E08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3148-4B5B-4AE1-B5E9-4009B15F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24739-61B2-488A-8D03-D45F46E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D4083-B0A7-43C1-AC2F-A1112ED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36AF8-54B4-4538-AA2D-885EB993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78F2-9E85-41CE-9762-119090D2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A62-D83B-4BBF-AA73-DF8FDC90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E6B10-95FE-4AD5-8C8D-76FBD12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B9D07-4424-481E-8F0F-1836387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B8820-B34A-4123-AEE7-24BBD8FB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F68BC-90AA-4FB7-A108-491A73E7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A36B3-524F-4050-BB23-8364FE2B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A2FD-0675-40CC-9B5E-8EDA6554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00CA-53CA-46B1-89BD-656CA77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CAD0-F02E-4F06-A44F-5FCDA802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9AB7-001D-4E63-94EF-32F8AF3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1C1C-2EB0-42B3-BAE5-A14F00FC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BBF-9513-436C-B968-0D1F2A1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814E-0107-4B34-8D2C-876384FB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9EBF-14F8-45AA-B370-DA81219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81AD-A825-486A-A619-3B1A6BE3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8F6E-4409-49B4-9929-EB8DF29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CC10-320D-461B-A647-7E25BDD2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5EA0-873F-43C3-88C6-D7D5E0B6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361C-82E8-4410-805C-E7B997C7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02EF-24A5-47A2-A348-8727A9AD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CB41-5140-4FDF-8FBD-6483ECF5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002C-BDC9-4A2D-91E3-5FB4991A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594-F120-46B4-A476-3DD3A498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7D19D-2E6E-40F5-B224-B8BC5E7D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89209-ED1B-4BE9-96C2-8A4D9FD0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1FB3-AEA3-466C-A6EA-02ED4B05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D254-05EA-44C7-AEB4-B49DD08B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1DF7-F020-4E9B-8FB6-3C129CB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C5E1-4F99-4AFE-BF3E-98F01F0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FA72-7107-4594-B244-5AF30FA7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E07A-458A-4064-9E28-20E1D5F0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6F61-C918-49A0-82FA-988D0603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0656-E8DC-453A-A897-33D140FE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773-0AAD-468C-BDFD-A4E1A465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FC787-8E81-4C19-9FCB-7C0C5C9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32CD-90D7-4E8D-ACA7-B6E3D893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6B41-2CED-45F0-8370-024659B5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4D329-DEE8-4CD4-9A2A-74DBDCFB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6E46-65BE-4D0D-89C0-7CD2031D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E6F05-E5B1-477C-B1CB-28AB837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E091-C26A-45E5-AB2C-FE93E5C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1ECFC-31BD-476B-B47A-8B96FFAF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E978-CF57-4C45-BB89-EA5F6C3C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946A0-354E-4E32-BC06-F68E63B3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FFE-40ED-42AA-9C5D-FDE6BD6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E68BD-0411-4606-945F-EEA77D2A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AD432-175F-4D21-960F-74ACEE19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C2781-D8E4-47F8-AC57-6CD0B940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F5466-86DD-4E62-8D1B-07A82114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AA42-2A43-4603-85FD-1B3804C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51571-C057-47BF-BD0F-30FF07B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6D70E-3466-410D-BECA-D4431FD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6943-9DAD-42A5-A6F9-A27A7E8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F0341-D82F-4FD6-BA87-DA7B723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E46F-902B-4B3D-942B-86BEE7D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10B-A22F-4EC6-B65A-C7DC07D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330AC-3FF3-4F89-981D-807E2A00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B7B0-9CDA-4DB7-BC24-524818DE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EB08C-77A0-43C0-AD4F-A1AA4ED1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DC0AD-324A-415D-B6A4-2FE2F8F2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86D1C-FF9B-436E-BD7F-B5385F53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5955-A7E5-491F-88BA-09D6DCD4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E0E34-9E6A-4E22-B3C0-97D04F72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2C6E-2B30-439C-9163-F9809A40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9235-C30B-410A-BC68-949064B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F1DAB-847E-468C-94BF-E8A2D15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343-ED83-4904-B8EE-B24DE430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D57B7-BBDE-482E-BF39-B3BB4C5A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C54FC-42DF-4918-9B26-F59293F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92BE-6665-4FD9-9C4E-9BBE7EB6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E86A-B278-40CF-BE98-D35F46A7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9682-5D53-4E03-B21E-E9706769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6F8DC-FF05-4091-8817-AE27818E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8BDE6-07B8-492F-95F5-570D5BF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2C9FD-D977-45EC-96F8-B50C6BF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34AF-913B-475F-AD84-8E236518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EBC97-AC38-4D91-A115-8508C7E1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D68-FB87-4040-837D-08D0ECCD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83B9-35DA-4AAD-BDC0-367CC61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80159-5033-425A-8907-2172D5F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056A-B24E-4A4C-89BE-BE02CB3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DB74-933C-45BF-A2F0-A5ABDFE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002D-A0C3-4B2A-924F-6E2EB79F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45289-6861-4C49-8062-3CB4D74D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1175-4E63-4830-AFD3-B07B900D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3204B-22FE-4336-B73B-74132552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E06B-A526-42D6-9D52-9FE6809B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7342B-9062-4DE4-ACED-1078CE67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A348-CAC6-489E-AA47-874AEB8DB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28AC-DCA1-4169-AB12-DA11B3BEF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8837-FC60-4F83-A059-259E24E4A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B449-1A37-4EC9-927A-05D838DE6E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4CA-B827-4032-9C27-B8364DA2C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667-6EE1-41B8-9458-F1000DAF9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A8E-AAAE-47DD-88D0-E7EB7ECC2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371D-9FAC-4DC3-BC98-5D4FC2EFA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43F-2F37-4D41-9CDD-562F73EFC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2A58-7546-40E4-89A7-06828CA49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6E80-B73D-4599-B78C-19DD59EEE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FFE5-06BF-47E4-9DFC-8CED1370D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следовательск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«Родники нашего город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</a:rPr>
              <a:t>(исследование водной экосистем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Автор: Асадуллин Айдар Руководитель: Гайфутдинова  А.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Описание родников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ник №1 «Габи» Это родник по улицы  Бигаш – очень древний родник. С помощью нефтяников родник был очищен, обустроили его в виде «Теремка» Вода этого родника чистая, холодная и очень вкусная. Многие жители нашего города каждый день сюда ходят за водой. Воды родника «Габи» впадают в реку «Зай» Но к сожалению  с  каждым   годом   всё  больше   отдыхающих   ходят   на родник  и  оставляют  после  себя     мусо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Содержимое 11" descr="DSC03645.JPG"/>
          <p:cNvPicPr/>
          <p:nvPr/>
        </p:nvPicPr>
        <p:blipFill>
          <a:blip r:embed="rId1"/>
          <a:stretch/>
        </p:blipFill>
        <p:spPr>
          <a:xfrm>
            <a:off x="533520" y="365760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Содержимое 12" descr="DSC03640.JPG"/>
          <p:cNvPicPr/>
          <p:nvPr/>
        </p:nvPicPr>
        <p:blipFill>
          <a:blip r:embed="rId2"/>
          <a:stretch/>
        </p:blipFill>
        <p:spPr>
          <a:xfrm>
            <a:off x="4800600" y="3581280"/>
            <a:ext cx="34876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ник №2 «Родник у стадиона»  находится на живописном каскаде , особенно радует глаз вдоль речки аккуратные дорожки, мост через речку Бигаш , и постоянные обитатели водной среды, дикие утки. Кормление этих пернатых, а также других птиц — излюбленное занятие горожа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Содержимое 6" descr="DSC03639.JPG"/>
          <p:cNvPicPr/>
          <p:nvPr/>
        </p:nvPicPr>
        <p:blipFill>
          <a:blip r:embed="rId1"/>
          <a:stretch/>
        </p:blipFill>
        <p:spPr>
          <a:xfrm>
            <a:off x="457200" y="2635200"/>
            <a:ext cx="3800520" cy="2851200"/>
          </a:xfrm>
          <a:prstGeom prst="rect">
            <a:avLst/>
          </a:prstGeom>
          <a:ln w="0">
            <a:noFill/>
          </a:ln>
        </p:spPr>
      </p:pic>
      <p:pic>
        <p:nvPicPr>
          <p:cNvPr id="531" name="Содержимое 7" descr="DSC03637.JPG"/>
          <p:cNvPicPr/>
          <p:nvPr/>
        </p:nvPicPr>
        <p:blipFill>
          <a:blip r:embed="rId2"/>
          <a:stretch/>
        </p:blipFill>
        <p:spPr>
          <a:xfrm>
            <a:off x="4884840" y="2635200"/>
            <a:ext cx="3801960" cy="285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519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ние проводилось с помощью следующих методов: наблюдения, анкетирования, социологического опро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анкетирования «Мое отношение к родника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а состояла из следующих вопро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Знаешь ли ты места, где расположены родни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Как ты относишься к родника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Пил ли ты воду из родник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Нашел ли ты различие между родниковой и водопроводной водо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При посещении родника возникли ли у тебя мысли о помощи родник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Помог ли ты родник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известно, в природе  чистая вода практически не встречается в её составе всегда содержатся различные примеси в виде солей  кальция, магния, железа  и.т.д Воду, в составе которой содержится много солей  кальция, магния  называют жесткой. В жесткой воде плохо мылится мыло, плохо развариваются овощи, а при использовании такой воды в паровых котлах образуется накипь, которая может привести к взрыву котла . Я решил исследовать содержание примесей в моих собранных проба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исание и проведение опы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457200" y="137160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ведении опыта я использовал пробы воды из родников «Габи» (пробирка №1) и «Родника у стадиона»(пробирка №2). Для сравнения анализа взял дистиллированную воду (пробирка №3) и для интереса водопроводную воду (пробирка №4). В качестве реактива добавлял во все пробирки пищевую соду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Содержимое 8" descr="DSC03661.JPG"/>
          <p:cNvPicPr/>
          <p:nvPr/>
        </p:nvPicPr>
        <p:blipFill>
          <a:blip r:embed="rId1"/>
          <a:stretch/>
        </p:blipFill>
        <p:spPr>
          <a:xfrm>
            <a:off x="1752480" y="3200400"/>
            <a:ext cx="52056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ведение опы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Содержимое 4" descr="DSC03665.JPG"/>
          <p:cNvPicPr/>
          <p:nvPr/>
        </p:nvPicPr>
        <p:blipFill>
          <a:blip r:embed="rId1"/>
          <a:stretch/>
        </p:blipFill>
        <p:spPr>
          <a:xfrm>
            <a:off x="457200" y="2448000"/>
            <a:ext cx="3935520" cy="2952720"/>
          </a:xfrm>
          <a:prstGeom prst="rect">
            <a:avLst/>
          </a:prstGeom>
          <a:ln w="0">
            <a:noFill/>
          </a:ln>
        </p:spPr>
      </p:pic>
      <p:pic>
        <p:nvPicPr>
          <p:cNvPr id="539" name="Содержимое 5" descr="DSC03669.JPG"/>
          <p:cNvPicPr/>
          <p:nvPr/>
        </p:nvPicPr>
        <p:blipFill>
          <a:blip r:embed="rId2"/>
          <a:stretch/>
        </p:blipFill>
        <p:spPr>
          <a:xfrm>
            <a:off x="4648320" y="2448000"/>
            <a:ext cx="398448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, в трёх пробирках ,наблюдал выделение пузырьков . Это был углекислый газ.  А в пробирке №3,пузырьков не наблюдалось. Значит в пробах трёх пробирок №1,2,4 в составе воды есть какие то вещества ,которые взаимодействуют с содой. В химии такое взаимодействие веществ называют химической реакцией. После полного растворения соды ,в пробирках с пробами вод образовался белый осадок .Особенно в большом количестве белого осадка выпало в пробирке №4 ,а в пробирке №3 (с дистиллированной водой ) осадка практически не наблюдалось. Значит можно сделать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которые выводы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Содержимое 5" descr="DSC03647.JPG"/>
          <p:cNvPicPr/>
          <p:nvPr/>
        </p:nvPicPr>
        <p:blipFill>
          <a:blip r:embed="rId1"/>
          <a:srcRect l="22921" t="0" r="0" b="1072"/>
          <a:stretch/>
        </p:blipFill>
        <p:spPr>
          <a:xfrm>
            <a:off x="2971800" y="3505320"/>
            <a:ext cx="3276720" cy="315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ганолептические   свойств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используемых вод   в   опы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начально во всех образцах  прозрачность воды была одинаковая и не имела определенного запах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ле растворения с содой вода в образцах №1№2№4помутнела,а в дистиллированной воде оставалась более прозрач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 общего количества примесе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ния показали, что  пробы воды, взятые из исследуемых источников,  имеёт разное количественное содержание примесей:  самое большое содержание примесей обнаружилось в образце №4 (водопроводной воды),  затем  в образце №1 (родник Габи) и меньшее количество  было в образце  №2 (родник у стадиона) не считая образец №3( дистиллированная вода)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ледовательно родниковая вода второй пробы значительно чищ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Содержимое 4" descr="DSC03657.JPG"/>
          <p:cNvPicPr/>
          <p:nvPr/>
        </p:nvPicPr>
        <p:blipFill>
          <a:blip r:embed="rId1"/>
          <a:srcRect l="21333" t="0" r="0" b="-3113"/>
          <a:stretch/>
        </p:blipFill>
        <p:spPr>
          <a:xfrm>
            <a:off x="5791320" y="1905120"/>
            <a:ext cx="2743200" cy="394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чество воды наших родников  можно посмотреть по таблице сравнивая жесткость родника Габи и родник у стади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Содержимое 4" descr="Рисунок1.png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итогам комплексного обследования родников ведется  работа по составлению  экологического паспор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5" descr="PG0022"/>
          <p:cNvPicPr/>
          <p:nvPr/>
        </p:nvPicPr>
        <p:blipFill>
          <a:blip r:embed="rId1"/>
          <a:srcRect l="2770" t="31691" r="1617" b="13156"/>
          <a:stretch/>
        </p:blipFill>
        <p:spPr>
          <a:xfrm>
            <a:off x="2743200" y="2819520"/>
            <a:ext cx="39355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родник? Это вода, которая просачивается на поверхность через земляные породы </a:t>
            </a:r>
            <a:br>
              <a:rPr sz="2400"/>
            </a:b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Нередко они дают начало ручьям или рекам. Могут выходить на крутых склонах, выбиваться на дне небольшого бассейна или просачиваться сквозь землю тонким слоем воды. Родник  - это откровение земное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Picture 6" descr="http://lib.podelise.ru/tw_files2/urls_511/4/d-3853/img1.jpg"/>
          <p:cNvPicPr/>
          <p:nvPr/>
        </p:nvPicPr>
        <p:blipFill>
          <a:blip r:embed="rId1"/>
          <a:stretch/>
        </p:blipFill>
        <p:spPr>
          <a:xfrm>
            <a:off x="4800600" y="4260960"/>
            <a:ext cx="380844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66ffff"/>
                </a:solidFill>
                <a:latin typeface="Tahoma"/>
              </a:rPr>
              <a:t>Выводы и предло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результатам проведенных исследований можно сделать следующ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вывод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Общее состояние исследуемых родников можно оценить как хорош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Вода родников пригодна для хозяйственно-питьевых нуж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дло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Вести контроль за состоянием родников, осуществлять своевременный  уход (очистка, уборка мусор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Исследовать состояние еще двух родников, расположенных вблизи населенного пункт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Эрэмэ чишмэсе», «Тегермэн шарлавыгы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0492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мы бываем возле родников на природе, в городе, не замечаем свое поведение- оставляем мусор, смотрим на тех кто оставляет мус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блема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сознание человеком  ценностей   природы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Picture 4" descr="http://osinovoe-pleso.ucoz.ru/_nw/0/98938659.jpg"/>
          <p:cNvPicPr/>
          <p:nvPr/>
        </p:nvPicPr>
        <p:blipFill>
          <a:blip r:embed="rId1"/>
          <a:stretch/>
        </p:blipFill>
        <p:spPr>
          <a:xfrm>
            <a:off x="1981080" y="2514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59092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дачи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рганизовать сбор информации о родник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Провести анкетирование среди учащихся на тему «Моё отношение к родника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ести опрос среди учащихся как они помогают при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Изучить материал по теме «Родниковая вода» и провести анализ родниковых вод г. Альметьевс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выступить на уроке  дать понятие  о природе на примере родников «вода-это жизн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4" descr="http://www.teclasap.com.br/wp-content/uploads/2009/05/dick.jpg"/>
          <p:cNvPicPr/>
          <p:nvPr/>
        </p:nvPicPr>
        <p:blipFill>
          <a:blip r:embed="rId1"/>
          <a:stretch/>
        </p:blipFill>
        <p:spPr>
          <a:xfrm>
            <a:off x="457200" y="1447920"/>
            <a:ext cx="2195640" cy="367812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6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AutoShape 10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228240"/>
            <a:ext cx="6019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ама по себе вода не имеет питательной ценностей, но она является  неприменной составной частью всего живого. В растениях содержится до 90% воды, в то время как тело взрослого человека состоит из нее примерно 60-65%. Кости содержат 22% воды, мозг 75%, в то время кровь состоит из нее на целых 92%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востепенно роль воды в жизни всех живых существ, и человека в том числе, связана с тем, что она является универсальным растворителем огромного количества химических веществ. Т.Е. фактически  является той средой, в которой и протекают все процессы жизнедеятельност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Picture 6" descr="http://pozitivchik.info/wp-content/uploads/HLIC/3432d5c998ff88afeee6febe7bdc7f32.jpg"/>
          <p:cNvPicPr/>
          <p:nvPr/>
        </p:nvPicPr>
        <p:blipFill>
          <a:blip r:embed="rId1"/>
          <a:stretch/>
        </p:blipFill>
        <p:spPr>
          <a:xfrm>
            <a:off x="6678720" y="866880"/>
            <a:ext cx="1765080" cy="3124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http://fatless.ru/wp-content/uploads/2012/12/f20120402085726-pic_132317263951751534.jpg"/>
          <p:cNvPicPr/>
          <p:nvPr/>
        </p:nvPicPr>
        <p:blipFill>
          <a:blip r:embed="rId2"/>
          <a:stretch/>
        </p:blipFill>
        <p:spPr>
          <a:xfrm>
            <a:off x="6337440" y="4419720"/>
            <a:ext cx="2447640" cy="174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99ff"/>
                </a:solidFill>
                <a:latin typeface="Tahoma"/>
              </a:rPr>
              <a:t>Наши бессловесные друзь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речки, пруды, озера — начинают болеть: вода становится грязной, мутной, летом она может зацвести. Постепенно угасает жизнь в во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914400" y="3108240"/>
            <a:ext cx="2765520" cy="3384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D:\DCIM\102MSDCF\DSC03590.JPG"/>
          <p:cNvPicPr/>
          <p:nvPr/>
        </p:nvPicPr>
        <p:blipFill>
          <a:blip r:embed="rId2"/>
          <a:stretch/>
        </p:blipFill>
        <p:spPr>
          <a:xfrm>
            <a:off x="4572000" y="2971800"/>
            <a:ext cx="3581280" cy="3755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6200" y="3045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анной работы: приобщить детей любви к  природе, показать зависимость человека от природы на примере родников  на уроках окружающего мира, показать и провести анализ качественного состава  различных 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icture 5"/>
          <p:cNvSpPr/>
          <p:nvPr/>
        </p:nvSpPr>
        <p:spPr>
          <a:xfrm>
            <a:off x="304920" y="228600"/>
            <a:ext cx="3352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7" descr="http://www.xyz-in.ru/uploads/posts/2013-03/1362913454_6-glavnyh-voprosov-o-pitevoy-vode.jpg"/>
          <p:cNvPicPr/>
          <p:nvPr/>
        </p:nvPicPr>
        <p:blipFill>
          <a:blip r:embed="rId1"/>
          <a:srcRect l="5533" t="18073" r="7612" b="6917"/>
          <a:stretch/>
        </p:blipFill>
        <p:spPr>
          <a:xfrm>
            <a:off x="463680" y="2438280"/>
            <a:ext cx="3035160" cy="194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Методы и материалы исследования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циологический опрос среди учащихся и обобщение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еделение органолептических показателей (прозрачность, запах, вкус и привкус, цветность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еделение общего количества примесей в отобранных пробах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533520" y="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ходе наблюдения  и опроса учащихся было замечено, что ученики ассоциируют родник  с источником питьевой воды . Для проведения анализа и качества родниковой воды, мной был собран материал некоторых родников города Альметьевс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Picture 9" descr="http://delogazeta.ru/up/news/20112/2011-11-17-voda.jpg"/>
          <p:cNvPicPr/>
          <p:nvPr/>
        </p:nvPicPr>
        <p:blipFill>
          <a:blip r:embed="rId1"/>
          <a:stretch/>
        </p:blipFill>
        <p:spPr>
          <a:xfrm>
            <a:off x="3124080" y="3979800"/>
            <a:ext cx="2772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монова Мария</dc:creator>
  <dc:description/>
  <dc:language>en-US</dc:language>
  <cp:lastModifiedBy>Гимназия</cp:lastModifiedBy>
  <dcterms:modified xsi:type="dcterms:W3CDTF">2019-01-08T08:33:33Z</dcterms:modified>
  <cp:revision>239</cp:revision>
  <dc:subject/>
  <dc:title>Исследование род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