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CBA2-BF70-43EE-B3AA-AF9A10B8D0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7952-B467-4E5C-84DD-62EC83BE98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9831-BE0B-4B8F-B50B-55A24FE234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7A7F-5C5F-49E1-A92E-6D4E7B09CC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CF26-131D-4537-B668-4C9206E8B0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FABB-4219-4543-89C3-EF048EEE80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4BAB-E2F5-419E-A6ED-F269D96790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1DE6-A3E6-4337-967B-2C427EB097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E3B5-C503-42C7-83CE-85CA28F464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DA24-633E-4C64-AC36-F42AA12D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B888-CE38-42C4-B0C9-CB119938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E2E65-837C-4F50-92A9-75F6336F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5FD31-7901-4551-BA82-388D7C42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61ECB-7F9D-4299-BCEF-983294B4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BD25F-ED5F-4205-BB28-0DD59E6A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148BA-896D-44A8-86CB-D41A14FB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93183-ABF9-44DB-BC7E-81ABE477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E24C0-4F37-4DBF-87E5-99EF8DE9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95FBA-5D5A-46B2-A29D-1B1D77D8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A6991-A4BF-4710-A254-C4D72C7B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840A5-BD83-4478-AA74-7E9971B0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DC6A-ADC6-48EA-A760-38EA383C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048EF-2F7E-456C-938E-354F3DB0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85BAC-C93E-4935-947C-690D85F5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87D6B-E0BA-43E4-BB41-99E785F9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04518-2C16-4D63-8BB1-7F8E7FE1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D52CD-35CD-44C2-AB7D-6214537D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051BF-90E2-4085-A031-24ED8AD1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ACCFF-CCEE-4770-84A2-8F658270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620B8-E667-4A8A-B631-917911D5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BC711-ECFC-4060-A35F-33614621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4305D-24C0-4A5C-A4D1-CD1B33CB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0BD4-359C-494F-B50D-05224CD5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6F823-171C-45E2-9991-BF99B524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F48C4-181B-40D1-9849-2B3983B3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1C216-4100-4B69-B24D-E370CF5C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86F4C-2DB0-4653-ABCF-34B4E942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A6991-7072-486E-96D9-FC1083A9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97819-453D-4F17-A91C-18A4DE7C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54779-C31C-4D1E-A9AD-F78C71D2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5F60D-FFA9-4D08-ACDF-8A360697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107D5-F547-4DC3-A734-4D660BB6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2DD7A-86E0-4400-8774-ACE75746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984EE-1302-4958-A945-3ED1B436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E7812-EB94-4004-9E5D-7CBDA67D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944E2-0835-40EB-B5EB-858B6B98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438B1-718E-4AA4-9594-7F1638A3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55470-619C-44D5-B2AB-10FA1626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6A042-DB89-4201-A0D3-6D1C3F6D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B783C-B08E-41CE-8655-EFE24467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FE082-4548-45FC-BB3C-FDE3520A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51F4E-4334-4A7C-BDFE-0389A3C0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8CB7B-04F2-4C84-B68C-BA0C5517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B349C-302F-4E0A-9136-A321460E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E8FA9-AEF1-4102-BD5C-23AFA6AD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9F9A4-9E4C-43DC-95E6-D41176FA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59F81-935A-4883-B761-207D1F66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9C13F-003F-40A0-BDB1-ED2532E4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45554-BF11-45BB-8A13-D621B7EE2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118442-62D2-47F0-AE84-8A3B20B0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6B4FB-E822-426C-ACEF-FAD9353D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0F386-F177-41C5-9890-EE9E6FD4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A377A-EC86-4BFB-97E8-F68D2CC0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4734C-770F-45A6-B9CB-FE0A62B0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A5502-B0BE-4A7C-B9A7-BEA58067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A790-8FE3-4364-94CF-E0F525BE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BA762-0E08-4D4B-A463-4CF1B7DD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5D504-347A-45A4-B401-F1D1E468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B7665-CD89-4F46-A197-7ACA446B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D42E3-8700-45FA-A68C-6776B4F9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01801-0BEE-4A42-B256-F7FBACFA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D5445-4781-4C11-A865-907D62B7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44D9A-F140-4132-8434-DEFA808F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68B50-1ED3-448F-8948-0DA18A6E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710B0-7F59-4A58-8303-A52EE1F4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0FD4F-74E1-46B8-902D-6DF5D0FE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557B-4412-4D27-85BC-C719FA7C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294A1-64F0-4328-9610-AD910EDD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C49A3-117E-4E94-825D-46DC941E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5F7B9-1840-443A-8C90-57A418BB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38C2C-BC27-4610-AA4B-EADBA945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A7B01-13C2-4E25-A378-FCAC86EC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4CF10-7D67-44A2-9717-00AFDAED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92848-191D-4C45-A668-EDE04E2B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D68B6-E707-4CBB-AA21-6BED49AA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6B7ED-037B-49EF-86E5-99B7FC06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344EC-6BC0-498B-9800-11AAEE11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424-3B76-4386-8166-7DE6B25D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F10C3-45FC-48F1-9013-9A75CCA0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08941-4E24-416E-A883-3B738603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4D9B0-EB62-43F9-8D51-BD5BA070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9DB08-8E5E-4AE0-A727-1C62D48B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33217-858C-4DF2-9B95-9F17B05F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2A8D1-C472-43CA-8D41-8F212D7C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FB900-ADB0-4FCD-A60B-0E69DBCB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14211-D409-4F01-B407-C36C0A91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BBA3C-4FE9-4F9E-8E32-1394771E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EB979-D741-4C04-B10A-9631F603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C958-7AAF-458D-AAD3-E73D0B4D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56ED1-68E4-4AD0-9757-7AC024DD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00F38-7437-4624-BA00-6335BAA9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FD50E-23BB-4A27-A037-80555B33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E62DB-DADE-4CC6-9D7B-EC4B058D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F7DEB-6EC0-4261-941E-8AB723AC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819E2-BF58-42BF-9CD9-C28B1AF5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5602F-4FA1-42AD-9CEB-EFC753D0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791F2-8C52-4BEA-8C34-A454E4AE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81729-EFF1-4BFF-B775-69392BF7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8C104-2564-40D0-B61B-BE785B72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83AD-3FE5-4E80-815D-FD759B8E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DC987-C4A7-4C0F-8703-F5433D7D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0B541-3364-4A86-B1B0-525F0A8E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7A765-C9F6-49F7-B6AB-F62E0A95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460B9-B069-461F-BF36-19ECC9A3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3D52A-3CC0-4052-868F-9A7A9A87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8ABF8-328F-4C88-8267-7D38B9CC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B687A-E210-4E1A-AB58-6CFF1E73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FFF19-F2C5-4AC0-8B1C-0A4292AC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0F370-1AD6-456D-8E05-48F69984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51316-D98A-42EF-82B4-90EADF4D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5F26-1A77-4566-B4A9-BE805DF8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909BA-B861-45B1-8783-B0F05BDF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2C1CD-84C6-476E-A83B-F04D0C58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C615D-E33D-421B-AF54-C223EF50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A0E85-72B9-4E40-BB91-EA0C0FF6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B57D1-11BE-4B4A-84E6-FB7C9F50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E5167-B0F4-4DB5-BE29-077562CE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C5E8B-2D3B-445A-80CC-4709E3A4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62F2D-26DC-4593-BEA0-C71D9FAB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52682-F134-4BE6-850D-C6B8FF9D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4BA6A-B71D-4C4C-A7D4-5100315E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5024-28C8-4043-A27E-D2AD8EAE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E4525-A84D-4283-B288-7A54A420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968FD-0572-4B05-91A0-117376FE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125CA-1E4A-4D6C-886F-CCC74918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9F1FF-E022-4A30-8575-20D07732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BCBA5-15A6-4548-816E-2F2DF2BE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5F0AE-57D6-437C-9004-6EA8D143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902ED-B3A9-43A5-9DB2-884CAB8F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18ED9-AE3B-4AC0-95B8-8421236F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A4E36-7777-4CDF-AC71-9A4180C0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8792A-F0FB-49B3-9FFC-07CE51E6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DCF6-0AB5-4497-9CBF-4E376A89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3ACB9-A20E-41BB-BF2D-6A126770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6ED81-B833-41E7-8D9D-7305C0D2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40A46-59A9-4E45-90B0-C95EFB8D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0E196-5AD0-4010-963A-A74E9032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F4A24-73FE-41E2-BB59-77931F26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A2876-2846-4C52-9431-B16E93D3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B03A1-9B6B-4637-972A-33774E96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2500C-67BA-4E18-AF3F-5782E000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7D0D1-81FE-456B-AB7D-1741F468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2A039-8C59-49FA-9C09-8A8EC45E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053D-252A-4596-9B0A-D1ED56BD84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A3B5-5832-45A7-9BA5-16A8A83DB5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ACD6-A547-4FE5-A6A4-08B8AAA222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95AD-A5F7-4939-B906-E2E282E3099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BEF8-4E9F-4001-99D0-607E5F74CD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2447-C093-40A4-B799-915F1B1AEF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4BAE-B207-41CB-A848-BB881E52A1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3951-2477-44C8-A11C-82A03E7F5F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DD9E-0E4B-4309-99DC-F7D6BE121E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82E7-3D43-4CD2-BB16-7CA0FC6C60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F50F-572E-4AD3-AB0D-5D172FA350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4783-53A9-4393-91F9-5D91631AA7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сследовательская работ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9250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«Родники нашего города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Times New Roman"/>
              </a:rPr>
              <a:t>(исследование водной экосистем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ahoma"/>
              </a:rPr>
              <a:t>Автор: Асадуллин Айдар Руководитель: Гайфутдинова  А.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Описание родников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ник №1 «Габи» Это родник по улицы  Бигаш – очень древний родник. С помощью нефтяников родник был очищен, обустроили его в виде «Теремка» Вода этого родника чистая, холодная и очень вкусная. Многие жители нашего города каждый день сюда ходят за водой. Воды родника «Габи» впадают в реку «Зай» Но к сожалению  с  каждым   годом   всё  больше   отдыхающих   ходят   на родник  и  оставляют  после  себя     мусор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7" name="Содержимое 11" descr="DSC03645.JPG"/>
          <p:cNvPicPr/>
          <p:nvPr/>
        </p:nvPicPr>
        <p:blipFill>
          <a:blip r:embed="rId1"/>
          <a:stretch/>
        </p:blipFill>
        <p:spPr>
          <a:xfrm>
            <a:off x="533520" y="3657600"/>
            <a:ext cx="3454200" cy="2590920"/>
          </a:xfrm>
          <a:prstGeom prst="rect">
            <a:avLst/>
          </a:prstGeom>
          <a:ln w="0">
            <a:noFill/>
          </a:ln>
        </p:spPr>
      </p:pic>
      <p:pic>
        <p:nvPicPr>
          <p:cNvPr id="528" name="Содержимое 12" descr="DSC03640.JPG"/>
          <p:cNvPicPr/>
          <p:nvPr/>
        </p:nvPicPr>
        <p:blipFill>
          <a:blip r:embed="rId2"/>
          <a:stretch/>
        </p:blipFill>
        <p:spPr>
          <a:xfrm>
            <a:off x="4800600" y="3581280"/>
            <a:ext cx="348768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ник №2 «Родник у стадиона»  находится на живописном каскаде , особенно радует глаз вдоль речки аккуратные дорожки, мост через речку Бигаш , и постоянные обитатели водной среды, дикие утки. Кормление этих пернатых, а также других птиц — излюбленное занятие горожа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0" name="Содержимое 6" descr="DSC03639.JPG"/>
          <p:cNvPicPr/>
          <p:nvPr/>
        </p:nvPicPr>
        <p:blipFill>
          <a:blip r:embed="rId1"/>
          <a:stretch/>
        </p:blipFill>
        <p:spPr>
          <a:xfrm>
            <a:off x="457200" y="2635200"/>
            <a:ext cx="3800520" cy="2851200"/>
          </a:xfrm>
          <a:prstGeom prst="rect">
            <a:avLst/>
          </a:prstGeom>
          <a:ln w="0">
            <a:noFill/>
          </a:ln>
        </p:spPr>
      </p:pic>
      <p:pic>
        <p:nvPicPr>
          <p:cNvPr id="531" name="Содержимое 7" descr="DSC03637.JPG"/>
          <p:cNvPicPr/>
          <p:nvPr/>
        </p:nvPicPr>
        <p:blipFill>
          <a:blip r:embed="rId2"/>
          <a:stretch/>
        </p:blipFill>
        <p:spPr>
          <a:xfrm>
            <a:off x="4884840" y="2635200"/>
            <a:ext cx="3801960" cy="2851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457200" y="1519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следование проводилось с помощью следующих методов: наблюдения, анкетирования, социологического опрос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дение анкетирования «Мое отношение к родникам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кета состояла из следующих вопрос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Знаешь ли ты места, где расположены родник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Как ты относишься к родника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Пил ли ты воду из родников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Нашел ли ты различие между родниковой и водопроводной водой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При посещении родника возникли ли у тебя мысли о помощи роднику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.Помог ли ты роднику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известно, в природе  чистая вода практически не встречается в её составе всегда содержатся различные примеси в виде солей  кальция, магния, железа  и.т.д Воду, в составе которой содержится много солей  кальция, магния  называют жесткой. В жесткой воде плохо мылится мыло, плохо развариваются овощи, а при использовании такой воды в паровых котлах образуется накипь, которая может привести к взрыву котла . Я решил исследовать содержание примесей в моих собранных пробах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писание и проведение опы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Прямоугольник 4"/>
          <p:cNvSpPr/>
          <p:nvPr/>
        </p:nvSpPr>
        <p:spPr>
          <a:xfrm>
            <a:off x="457200" y="1371600"/>
            <a:ext cx="769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проведении опыта я использовал пробы воды из родников «Габи» (пробирка №1) и «Родника у стадиона»(пробирка №2). Для сравнения анализа взял дистиллированную воду (пробирка №3) и для интереса водопроводную воду (пробирка №4). В качестве реактива добавлял во все пробирки пищевую соду 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6" name="Содержимое 8" descr="DSC03661.JPG"/>
          <p:cNvPicPr/>
          <p:nvPr/>
        </p:nvPicPr>
        <p:blipFill>
          <a:blip r:embed="rId1"/>
          <a:stretch/>
        </p:blipFill>
        <p:spPr>
          <a:xfrm>
            <a:off x="1752480" y="3200400"/>
            <a:ext cx="520560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ведение опыт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8" name="Содержимое 4" descr="DSC03665.JPG"/>
          <p:cNvPicPr/>
          <p:nvPr/>
        </p:nvPicPr>
        <p:blipFill>
          <a:blip r:embed="rId1"/>
          <a:stretch/>
        </p:blipFill>
        <p:spPr>
          <a:xfrm>
            <a:off x="457200" y="2448000"/>
            <a:ext cx="3935520" cy="2952720"/>
          </a:xfrm>
          <a:prstGeom prst="rect">
            <a:avLst/>
          </a:prstGeom>
          <a:ln w="0">
            <a:noFill/>
          </a:ln>
        </p:spPr>
      </p:pic>
      <p:pic>
        <p:nvPicPr>
          <p:cNvPr id="539" name="Содержимое 5" descr="DSC03669.JPG"/>
          <p:cNvPicPr/>
          <p:nvPr/>
        </p:nvPicPr>
        <p:blipFill>
          <a:blip r:embed="rId2"/>
          <a:stretch/>
        </p:blipFill>
        <p:spPr>
          <a:xfrm>
            <a:off x="4648320" y="2448000"/>
            <a:ext cx="3984480" cy="2987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, в трёх пробирках ,наблюдал выделение пузырьков . Это был углекислый газ.  А в пробирке №3,пузырьков не наблюдалось. Значит в пробах трёх пробирок №1,2,4 в составе воды есть какие то вещества ,которые взаимодействуют с содой. В химии такое взаимодействие веществ называют химической реакцией. После полного растворения соды ,в пробирках с пробами вод образовался белый осадок .Особенно в большом количестве белого осадка выпало в пробирке №4 ,а в пробирке №3 (с дистиллированной водой ) осадка практически не наблюдалось. Значит можно сделать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которые выводы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1" name="Содержимое 5" descr="DSC03647.JPG"/>
          <p:cNvPicPr/>
          <p:nvPr/>
        </p:nvPicPr>
        <p:blipFill>
          <a:blip r:embed="rId1"/>
          <a:srcRect l="22921" t="0" r="0" b="1072"/>
          <a:stretch/>
        </p:blipFill>
        <p:spPr>
          <a:xfrm>
            <a:off x="2971800" y="3505320"/>
            <a:ext cx="3276720" cy="3154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рганолептические   свойства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используемых вод   в   опы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значально во всех образцах  прозрачность воды была одинаковая и не имела определенного запах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сле растворения с содой вода в образцах №1№2№4помутнела,а в дистиллированной воде оставалась более прозрачн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Определение общего количества примесей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сследования показали, что  пробы воды, взятые из исследуемых источников,  имеёт разное количественное содержание примесей:  самое большое содержание примесей обнаружилось в образце №4 (водопроводной воды),  затем  в образце №1 (родник Габи) и меньшее количество  было в образце  №2 (родник у стадиона) не считая образец №3( дистиллированная вода) 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Следовательно родниковая вода второй пробы значительно чищ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4" name="Содержимое 4" descr="DSC03657.JPG"/>
          <p:cNvPicPr/>
          <p:nvPr/>
        </p:nvPicPr>
        <p:blipFill>
          <a:blip r:embed="rId1"/>
          <a:srcRect l="21333" t="0" r="0" b="-3113"/>
          <a:stretch/>
        </p:blipFill>
        <p:spPr>
          <a:xfrm>
            <a:off x="5791320" y="1905120"/>
            <a:ext cx="2743200" cy="3949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чество воды наших родников  можно посмотреть по таблице сравнивая жесткость родника Габи и родник у стадио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6" name="Содержимое 4" descr="Рисунок1.png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4647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 итогам комплексного обследования родников ведется  работа по составлению  экологического паспор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8" name="Picture 5" descr="PG0022"/>
          <p:cNvPicPr/>
          <p:nvPr/>
        </p:nvPicPr>
        <p:blipFill>
          <a:blip r:embed="rId1"/>
          <a:srcRect l="2770" t="31691" r="1617" b="13156"/>
          <a:stretch/>
        </p:blipFill>
        <p:spPr>
          <a:xfrm>
            <a:off x="2743200" y="2819520"/>
            <a:ext cx="3935520" cy="2666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52578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такое родник? Это вода, которая просачивается на поверхность через земляные породы </a:t>
            </a:r>
            <a:br>
              <a:rPr sz="2400"/>
            </a:br>
            <a:r>
              <a:rPr b="1" lang="ru-RU" sz="2400" spc="-1" strike="noStrike">
                <a:solidFill>
                  <a:srgbClr val="66ffff"/>
                </a:solidFill>
                <a:latin typeface="Times New Roman"/>
              </a:rPr>
              <a:t>Нередко они дают начало ручьям или рекам. Могут выходить на крутых склонах, выбиваться на дне небольшого бассейна или просачиваться сквозь землю тонким слоем воды. Родник  - это откровение земное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3" name="Picture 6" descr="http://lib.podelise.ru/tw_files2/urls_511/4/d-3853/img1.jpg"/>
          <p:cNvPicPr/>
          <p:nvPr/>
        </p:nvPicPr>
        <p:blipFill>
          <a:blip r:embed="rId1"/>
          <a:stretch/>
        </p:blipFill>
        <p:spPr>
          <a:xfrm>
            <a:off x="4800600" y="4260960"/>
            <a:ext cx="3808440" cy="2216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ru-RU" sz="2000" spc="-1" strike="noStrike">
                <a:solidFill>
                  <a:srgbClr val="66ffff"/>
                </a:solidFill>
                <a:latin typeface="Tahoma"/>
              </a:rPr>
              <a:t>Выводы и предлож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 результатам проведенных исследований можно сделать следующие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выводы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. Общее состояние исследуемых родников можно оценить как хороше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. Вода родников пригодна для хозяйственно-питьевых нуж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редлож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. Вести контроль за состоянием родников, осуществлять своевременный  уход (очистка, уборка мусора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. Исследовать состояние еще двух родников, расположенных вблизи населенного пункта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«Эрэмэ чишмэсе», «Тегермэн шарлавыгы»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5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5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04920" y="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 мы бываем возле родников на природе, в городе, не замечаем свое поведение- оставляем мусор, смотрим на тех кто оставляет мус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блема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осознание человеком  ценностей   природы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5" name="Picture 4" descr="http://osinovoe-pleso.ucoz.ru/_nw/0/98938659.jpg"/>
          <p:cNvPicPr/>
          <p:nvPr/>
        </p:nvPicPr>
        <p:blipFill>
          <a:blip r:embed="rId1"/>
          <a:stretch/>
        </p:blipFill>
        <p:spPr>
          <a:xfrm>
            <a:off x="1981080" y="25146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2590920" y="76212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адачи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рганизовать сбор информации о родниках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Провести анкетирование среди учащихся на тему «Моё отношение к родникам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ровести опрос среди учащихся как они помогают приро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Изучить материал по теме «Родниковая вода» и провести анализ родниковых вод г. Альметьевск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 выступить на уроке  дать понятие  о природе на примере родников «вода-это жизнь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7" name="Picture 4" descr="http://www.teclasap.com.br/wp-content/uploads/2009/05/dick.jpg"/>
          <p:cNvPicPr/>
          <p:nvPr/>
        </p:nvPicPr>
        <p:blipFill>
          <a:blip r:embed="rId1"/>
          <a:stretch/>
        </p:blipFill>
        <p:spPr>
          <a:xfrm>
            <a:off x="457200" y="1447920"/>
            <a:ext cx="2195640" cy="3678120"/>
          </a:xfrm>
          <a:prstGeom prst="rect">
            <a:avLst/>
          </a:prstGeom>
          <a:ln w="0">
            <a:noFill/>
          </a:ln>
        </p:spPr>
      </p:pic>
      <p:sp>
        <p:nvSpPr>
          <p:cNvPr id="508" name="AutoShape 6"/>
          <p:cNvSpPr/>
          <p:nvPr/>
        </p:nvSpPr>
        <p:spPr>
          <a:xfrm>
            <a:off x="163440" y="-1866960"/>
            <a:ext cx="3743280" cy="38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AutoShape 8"/>
          <p:cNvSpPr/>
          <p:nvPr/>
        </p:nvSpPr>
        <p:spPr>
          <a:xfrm>
            <a:off x="163440" y="-1866960"/>
            <a:ext cx="3743280" cy="38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AutoShape 10"/>
          <p:cNvSpPr/>
          <p:nvPr/>
        </p:nvSpPr>
        <p:spPr>
          <a:xfrm>
            <a:off x="163440" y="-1866960"/>
            <a:ext cx="3743280" cy="38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AutoShape 12"/>
          <p:cNvSpPr/>
          <p:nvPr/>
        </p:nvSpPr>
        <p:spPr>
          <a:xfrm>
            <a:off x="163440" y="-1866960"/>
            <a:ext cx="3743280" cy="38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457200" y="228240"/>
            <a:ext cx="60199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ама по себе вода не имеет питательной ценностей, но она является  неприменной составной частью всего живого. В растениях содержится до 90% воды, в то время как тело взрослого человека состоит из нее примерно 60-65%. Кости содержат 22% воды, мозг 75%, в то время кровь состоит из нее на целых 92%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ервостепенно роль воды в жизни всех живых существ, и человека в том числе, связана с тем, что она является универсальным растворителем огромного количества химических веществ. Т.Е. фактически  является той средой, в которой и протекают все процессы жизнедеятельности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3" name="Picture 6" descr="http://pozitivchik.info/wp-content/uploads/HLIC/3432d5c998ff88afeee6febe7bdc7f32.jpg"/>
          <p:cNvPicPr/>
          <p:nvPr/>
        </p:nvPicPr>
        <p:blipFill>
          <a:blip r:embed="rId1"/>
          <a:stretch/>
        </p:blipFill>
        <p:spPr>
          <a:xfrm>
            <a:off x="6678720" y="866880"/>
            <a:ext cx="1765080" cy="31240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8" descr="http://fatless.ru/wp-content/uploads/2012/12/f20120402085726-pic_132317263951751534.jpg"/>
          <p:cNvPicPr/>
          <p:nvPr/>
        </p:nvPicPr>
        <p:blipFill>
          <a:blip r:embed="rId2"/>
          <a:stretch/>
        </p:blipFill>
        <p:spPr>
          <a:xfrm>
            <a:off x="6337440" y="4419720"/>
            <a:ext cx="2447640" cy="1747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99ff"/>
                </a:solidFill>
                <a:latin typeface="Tahoma"/>
              </a:rPr>
              <a:t>Наши бессловесные друзь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— речки, пруды, озера — начинают болеть: вода становится грязной, мутной, летом она может зацвести. Постепенно угасает жизнь в вод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6" name="Picture 4" descr=""/>
          <p:cNvPicPr/>
          <p:nvPr/>
        </p:nvPicPr>
        <p:blipFill>
          <a:blip r:embed="rId1"/>
          <a:stretch/>
        </p:blipFill>
        <p:spPr>
          <a:xfrm>
            <a:off x="914400" y="3108240"/>
            <a:ext cx="2765520" cy="33847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3" descr="D:\DCIM\102MSDCF\DSC03590.JPG"/>
          <p:cNvPicPr/>
          <p:nvPr/>
        </p:nvPicPr>
        <p:blipFill>
          <a:blip r:embed="rId2"/>
          <a:stretch/>
        </p:blipFill>
        <p:spPr>
          <a:xfrm>
            <a:off x="4572000" y="2971800"/>
            <a:ext cx="3581280" cy="3755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3886200" y="304560"/>
            <a:ext cx="5029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Цел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данной работы: приобщить детей любви к  природе, показать зависимость человека от природы на примере родников  на уроках окружающего мира, показать и провести анализ качественного состава  различных во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icture 5"/>
          <p:cNvSpPr/>
          <p:nvPr/>
        </p:nvSpPr>
        <p:spPr>
          <a:xfrm>
            <a:off x="304920" y="228600"/>
            <a:ext cx="33526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0" name="Picture 7" descr="http://www.xyz-in.ru/uploads/posts/2013-03/1362913454_6-glavnyh-voprosov-o-pitevoy-vode.jpg"/>
          <p:cNvPicPr/>
          <p:nvPr/>
        </p:nvPicPr>
        <p:blipFill>
          <a:blip r:embed="rId1"/>
          <a:srcRect l="5533" t="18073" r="7612" b="6917"/>
          <a:stretch/>
        </p:blipFill>
        <p:spPr>
          <a:xfrm>
            <a:off x="463680" y="2438280"/>
            <a:ext cx="3035160" cy="1946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Методы и материалы исследования</a:t>
            </a: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циологический опрос среди учащихся и обобщение результа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пределение органолептических показателей (прозрачность, запах, вкус и привкус, цветность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пределение общего количества примесей в отобранных пробах в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533520" y="4572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ходе наблюдения  и опроса учащихся было замечено, что ученики ассоциируют родник  с источником питьевой воды . Для проведения анализа и качества родниковой воды, мной был собран материал некоторых родников города Альметьевс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4" name="Picture 9" descr="http://delogazeta.ru/up/news/20112/2011-11-17-voda.jpg"/>
          <p:cNvPicPr/>
          <p:nvPr/>
        </p:nvPicPr>
        <p:blipFill>
          <a:blip r:embed="rId1"/>
          <a:stretch/>
        </p:blipFill>
        <p:spPr>
          <a:xfrm>
            <a:off x="3124080" y="3979800"/>
            <a:ext cx="2772000" cy="2268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амонова Мария</dc:creator>
  <dc:description/>
  <dc:language>en-US</dc:language>
  <cp:lastModifiedBy>Гимназия</cp:lastModifiedBy>
  <dcterms:modified xsi:type="dcterms:W3CDTF">2019-01-08T08:33:33Z</dcterms:modified>
  <cp:revision>239</cp:revision>
  <dc:subject/>
  <dc:title>Исследование родник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