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151C-C6BD-4449-834B-69583BDD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2D3D-8147-4A81-ACB4-0E3D1FDD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9409-07DB-4CBC-8F75-82990748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F12-7658-4626-812B-70BDC2EB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4341-CE63-4F4D-980C-0AAD02BA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6E6E-2299-4F42-8829-D7D45656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2394-D7E7-404D-BDC3-436EFEC2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2087-CCFF-4EF8-AAEE-44B32FF9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D738-65C2-4E05-AF0D-A9135A12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AAD5-8669-4B9B-BE97-F4BE07A7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06DC-691D-48EA-98DE-93D1D4F6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B3EC-7913-4146-B8C1-95803435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8033-6796-4ACE-AEB0-B832A639A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33"/>
                </a:solidFill>
                <a:latin typeface="Georgia"/>
              </a:rPr>
              <a:t>Из истории русского языка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4038120"/>
            <a:ext cx="60958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езентация спецк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полнили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Катенко Юл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Донцова Иль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читель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Н.Н.Толмач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2819520"/>
            <a:ext cx="2392200" cy="3352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312408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1840" y="2819520"/>
            <a:ext cx="619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Arial"/>
              </a:rPr>
              <a:t>Происхождение назван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Arial"/>
              </a:rPr>
              <a:t>русских паде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Творительный падеж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1199"/>
              </a:spcBef>
              <a:buClr>
                <a:srgbClr val="00cc66"/>
              </a:buClr>
              <a:buFont typeface="Franklin Gothic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66"/>
                </a:solidFill>
                <a:latin typeface="Franklin Gothic Heavy"/>
              </a:rPr>
              <a:t>От глагола «</a:t>
            </a:r>
            <a:r>
              <a:rPr b="1" i="1" lang="en-US" sz="4800" spc="-1" strike="noStrike">
                <a:solidFill>
                  <a:srgbClr val="00cc66"/>
                </a:solidFill>
                <a:latin typeface="Franklin Gothic Heavy"/>
              </a:rPr>
              <a:t>творить»</a:t>
            </a:r>
            <a:r>
              <a:rPr b="1" lang="en-US" sz="4800" spc="-1" strike="noStrike">
                <a:solidFill>
                  <a:srgbClr val="00cc66"/>
                </a:solidFill>
                <a:latin typeface="Franklin Gothic Heavy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66"/>
                </a:solidFill>
                <a:latin typeface="Arial"/>
              </a:rPr>
              <a:t>   </a:t>
            </a:r>
            <a:r>
              <a:rPr b="0" i="1" lang="en-US" sz="4800" spc="-1" strike="noStrike">
                <a:solidFill>
                  <a:srgbClr val="00cc66"/>
                </a:solidFill>
                <a:latin typeface="Arial"/>
              </a:rPr>
              <a:t>(«делать», «созидать»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ctr">
              <a:lnSpc>
                <a:spcPct val="100000"/>
              </a:lnSpc>
              <a:spcBef>
                <a:spcPts val="1199"/>
              </a:spcBef>
              <a:buClr>
                <a:srgbClr val="00cc66"/>
              </a:buClr>
              <a:buFont typeface="Franklin Gothic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66"/>
                </a:solidFill>
                <a:latin typeface="Franklin Gothic Heavy"/>
              </a:rPr>
              <a:t>Кем? Че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cc66"/>
                </a:solidFill>
                <a:latin typeface="Arial"/>
              </a:rPr>
              <a:t>   </a:t>
            </a:r>
            <a:r>
              <a:rPr b="0" i="1" lang="en-US" sz="4800" spc="-1" strike="noStrike">
                <a:solidFill>
                  <a:srgbClr val="00cc66"/>
                </a:solidFill>
                <a:latin typeface="Arial"/>
              </a:rPr>
              <a:t>Сообщает о том инструменте, которым что-то творя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ЭТО ИНТЕРЕСН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504960" y="1371600"/>
            <a:ext cx="5181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первые термин 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«творительный падеж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оявился в 1596 году в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«Грамматике словенской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Лаврентия Зиз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древнегреческом языке творительного падежа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246852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0000"/>
                </a:solidFill>
                <a:latin typeface="Arial"/>
              </a:rPr>
              <a:t>ЭТО ИНТЕРЕСН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Не все так ясно и просто в названиях русских падеже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ак вы думаете, в чем </a:t>
            </a:r>
            <a:r>
              <a:rPr b="1" i="1" lang="en-US" sz="4800" spc="-1" strike="noStrike">
                <a:solidFill>
                  <a:srgbClr val="000000"/>
                </a:solidFill>
                <a:latin typeface="Georgia"/>
              </a:rPr>
              <a:t>«виноват»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винительный падеж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Arial"/>
              </a:rPr>
              <a:t>ИСТОРИЧЕСКАЯ СПРАВ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лово 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вина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имело в старославянском и древнерусском языках, кроме современного значения, также и значение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«причина».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Переводчик выбрал именно такой перевод слова.</a:t>
            </a:r>
            <a:r>
              <a:rPr b="1" lang="en-US" sz="4000" spc="-1" strike="noStrike">
                <a:solidFill>
                  <a:srgbClr val="33c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100000">
              <a:srgbClr val="e13bb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адежи древнерусского язы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ctr">
              <a:spcBef>
                <a:spcPts val="1199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cc00"/>
                </a:solidFill>
                <a:latin typeface="Arial"/>
              </a:rPr>
              <a:t>Именитель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11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9933"/>
                </a:solidFill>
                <a:latin typeface="Arial"/>
              </a:rPr>
              <a:t>Родитель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99"/>
                </a:solidFill>
                <a:latin typeface="Arial"/>
              </a:rPr>
              <a:t>Датель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Винитель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11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ccff"/>
                </a:solidFill>
                <a:latin typeface="Arial"/>
              </a:rPr>
              <a:t>Мест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1199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ff99"/>
                </a:solidFill>
                <a:latin typeface="Arial"/>
              </a:rPr>
              <a:t>Зватель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6633"/>
                </a:solidFill>
                <a:latin typeface="Arial"/>
              </a:rPr>
              <a:t>ТВОРЧЕСК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ися НовЪгородЪ у Ярослава сынъ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ысть пожарь великъ КыевЪ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од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поди, Иисусе Христе, Сыне Божий, помилуй меня грешного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Иисусова молитв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ди ко мнЪ, брат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Москов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38080" y="4343400"/>
            <a:ext cx="2667240" cy="2325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Справк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937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современном русском языке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одился в Новгороде у Ярослава сы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ыл великий пожар в городе Кие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ормы современного П.п., но без предл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40384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3300"/>
                </a:solidFill>
                <a:latin typeface="Arial"/>
              </a:rPr>
              <a:t>ЭТО ИНТЕРЕСН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937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СОВРЕМЕННОМ РУССКОМ ЯЗЫКЕ – П.п. употребляется только с предлог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ДРЕВНЕРУССКОМ ЯЗЫКЕ – П.п. употреблялся без предлога , когда слово обозначало местополож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.п.– местный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(определительный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Предложны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его назвал М.В.Ломоносов.(«Российская грамматика» 1755г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293364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10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ормы </a:t>
            </a:r>
            <a:r>
              <a:rPr b="1" i="1" lang="en-US" sz="4000" spc="-1" strike="noStrike">
                <a:solidFill>
                  <a:srgbClr val="000000"/>
                </a:solidFill>
                <a:latin typeface="comic"/>
              </a:rPr>
              <a:t>Господи , Иисусе , Христе , Сыне , брате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ормы </a:t>
            </a:r>
            <a:r>
              <a:rPr b="1" i="1" lang="en-US" sz="4000" spc="-1" strike="noStrike" u="sng">
                <a:solidFill>
                  <a:srgbClr val="666633"/>
                </a:solidFill>
                <a:uFillTx/>
                <a:latin typeface="Arial"/>
              </a:rPr>
              <a:t>звательног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падежа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для обращени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(от гл. «звать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114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251460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80880" y="3505320"/>
            <a:ext cx="2095560" cy="2514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934320" y="3505320"/>
            <a:ext cx="1774800" cy="2539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Происхождение названий падеж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Падеж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лово греческ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ревней Греции люди игр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«кости»-кубики, на сторо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ых были «очки» от 1 до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дение брошенной кости той или иной стороной кверху греки называли </a:t>
            </a: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ptosi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паде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 16 в.- 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пад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Позже - 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падеж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086600" y="20574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30592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Форма </a:t>
            </a:r>
            <a:r>
              <a:rPr b="1" i="1" lang="en-US" sz="5400" spc="-1" strike="noStrike">
                <a:solidFill>
                  <a:srgbClr val="66ccff"/>
                </a:solidFill>
                <a:latin typeface="Arial"/>
              </a:rPr>
              <a:t>звательного падежа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была вытеснена И.п.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в 14-15 в.в. и сохранилась в церковно-славянском язык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5192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3300"/>
                </a:solidFill>
                <a:latin typeface="Arial"/>
              </a:rPr>
              <a:t>Первым это слово в качестве термина использовал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660066"/>
                </a:solidFill>
                <a:latin typeface="Georgia"/>
              </a:rPr>
              <a:t>Аристотель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124080" y="3352680"/>
            <a:ext cx="6019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Georgia"/>
              </a:rPr>
              <a:t>	</a:t>
            </a:r>
            <a:r>
              <a:rPr b="0" i="1" lang="en-US" sz="4400" spc="-1" strike="noStrike">
                <a:solidFill>
                  <a:srgbClr val="660066"/>
                </a:solidFill>
                <a:latin typeface="Georgia"/>
              </a:rPr>
              <a:t>Считал, чт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Georgia"/>
              </a:rPr>
              <a:t>падеж - отклонение от основной формы сло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2239920" cy="3005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Arial"/>
              </a:rPr>
              <a:t>ЭТО ИНТЕРЕСН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лгое время к падежам относили только </a:t>
            </a:r>
            <a:r>
              <a:rPr b="1" i="1" lang="en-US" sz="3200" spc="-1" strike="noStrike">
                <a:solidFill>
                  <a:srgbClr val="663300"/>
                </a:solidFill>
                <a:latin typeface="Arial"/>
              </a:rPr>
              <a:t>косвенны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падеж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2743200"/>
            <a:ext cx="1143000" cy="129528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048120" y="2819520"/>
            <a:ext cx="304560" cy="167616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3048120"/>
            <a:ext cx="228600" cy="19810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2819520"/>
            <a:ext cx="1295640" cy="1752480"/>
          </a:xfrm>
          <a:prstGeom prst="line">
            <a:avLst/>
          </a:prstGeom>
          <a:ln w="7632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2743200"/>
            <a:ext cx="2209680" cy="1523880"/>
          </a:xfrm>
          <a:prstGeom prst="line">
            <a:avLst/>
          </a:prstGeom>
          <a:ln w="76320">
            <a:solidFill>
              <a:srgbClr val="e13b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191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род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4572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да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5029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ин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4572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твор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4191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13bb2"/>
                </a:solidFill>
                <a:latin typeface="Arial"/>
              </a:rPr>
              <a:t>предло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f843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Как появились современные названия «падений»-падеж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Именительный падеж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го-либо или что-либо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имену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го часто употребляют, чтобы назвать кого-то или что-то по име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32004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cc3300"/>
          </a:solidFill>
          <a:ln w="9360">
            <a:solidFill>
              <a:srgbClr val="e1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первые название </a:t>
            </a:r>
            <a:r>
              <a:rPr b="1" i="1" lang="ru-RU" sz="4400" spc="-1" strike="noStrike">
                <a:solidFill>
                  <a:srgbClr val="000000"/>
                </a:solidFill>
                <a:latin typeface="Borealis"/>
              </a:rPr>
              <a:t>именительный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падеж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16 в. употреби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Милентий Смотрицки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19320" y="3505320"/>
            <a:ext cx="2558880" cy="3085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86200" y="3505320"/>
            <a:ext cx="4748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втор одной из первых русских граммати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Родительный падеж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«родственное падени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1600200"/>
            <a:ext cx="1067040" cy="1676520"/>
          </a:xfrm>
          <a:prstGeom prst="downArrow">
            <a:avLst>
              <a:gd name="adj1" fmla="val 50000"/>
              <a:gd name="adj2" fmla="val 3928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324480" y="4876920"/>
            <a:ext cx="16002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b3e1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Перевод с греческого языка на русский (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genike</a:t>
            </a: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родительный) считается неудачным. Падеж должен был , по-видимому, обозначат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9900"/>
                </a:solidFill>
                <a:latin typeface="Arial"/>
              </a:rPr>
              <a:t>род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, к которому относится данный предмет, а не по происхожде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b3e1"/>
            </a:gs>
            <a:gs pos="100000">
              <a:srgbClr val="6600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Дательный падеж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11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00"/>
                </a:solidFill>
                <a:latin typeface="Arial"/>
              </a:rPr>
              <a:t>«Дательное паде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i="1" lang="en-US" sz="4800" spc="-1" strike="noStrike">
                <a:solidFill>
                  <a:srgbClr val="003300"/>
                </a:solidFill>
                <a:latin typeface="Arial"/>
              </a:rPr>
              <a:t>(«калька»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spcBef>
                <a:spcPts val="11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00"/>
                </a:solidFill>
                <a:latin typeface="Arial"/>
              </a:rPr>
              <a:t>Происхождение: от слова «дать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i="1" lang="en-US" sz="4800" spc="-1" strike="noStrike">
                <a:solidFill>
                  <a:srgbClr val="003300"/>
                </a:solidFill>
                <a:latin typeface="Arial"/>
              </a:rPr>
              <a:t>Дать ( кому? чему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8-12-23T16:28:2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