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1CB-A461-4757-AF2E-C7560B30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ACC-F7DB-4055-A1B5-7BE1D18F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166-FE8D-4D83-82BF-271085D2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078-41DA-4EEF-A721-08A6BA03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2E5-F133-40BF-8A5D-7DE820D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B6E-E79B-4F37-907F-BB8EC51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26A-EA4C-4559-88CE-D0444F07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403-23FF-412A-AE36-BF5FB594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4D2-5C5C-4D23-8C3F-2EC5F59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EAD-701F-4954-871E-A51DBE4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C38-DC12-4435-980E-52C484D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D0B-0128-4027-A14B-3201823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400-7D66-4AEB-A513-677CFC1C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Georgia"/>
              </a:rPr>
              <a:t>Из истории русского язы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6095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зентация спец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атенко Ю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Донцова Иль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Н.Н.Толмач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39220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1240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819520"/>
            <a:ext cx="61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Происхождение назв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Arial"/>
              </a:rPr>
              <a:t>русских паде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Творительный падеж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От глагола «</a:t>
            </a:r>
            <a:r>
              <a:rPr b="1" i="1" lang="en-US" sz="4800" spc="-1" strike="noStrike">
                <a:solidFill>
                  <a:srgbClr val="00cc66"/>
                </a:solidFill>
                <a:latin typeface="Franklin Gothic Heavy"/>
              </a:rPr>
              <a:t>творить»</a:t>
            </a: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(«делать», «созидать»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100000"/>
              </a:lnSpc>
              <a:spcBef>
                <a:spcPts val="1199"/>
              </a:spcBef>
              <a:buClr>
                <a:srgbClr val="00cc66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Franklin Gothic Heavy"/>
              </a:rPr>
              <a:t>Кем? Ч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i="1" lang="en-US" sz="4800" spc="-1" strike="noStrike">
                <a:solidFill>
                  <a:srgbClr val="00cc66"/>
                </a:solidFill>
                <a:latin typeface="Arial"/>
              </a:rPr>
              <a:t>Сообщает о том инструменте, которым что-то твор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ЭТО ИНТЕРЕС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ервые термин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«творительный падеж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явился в 1596 году в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Грамматике словенской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аврентия Зи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внегреческом языке творительного падеж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468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00"/>
                </a:solidFill>
                <a:latin typeface="Arial"/>
              </a:rPr>
              <a:t>ЭТО ИНТЕРЕС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 все так ясно и просто в названиях русских падеж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к вы думаете, в чем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«виноват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винительный падеж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ово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вина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мело в старославянском и древнерусском языках, кроме современного значения, также и значение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«причина»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Переводчик выбрал именно такой перевод слова.</a:t>
            </a:r>
            <a:r>
              <a:rPr b="1" lang="en-US" sz="40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e13b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дежи древнерусского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11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Arial"/>
              </a:rPr>
              <a:t>Имен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33"/>
                </a:solidFill>
                <a:latin typeface="Arial"/>
              </a:rPr>
              <a:t>Род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99"/>
                </a:solidFill>
                <a:latin typeface="Arial"/>
              </a:rPr>
              <a:t>Да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Вин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ff"/>
                </a:solidFill>
                <a:latin typeface="Arial"/>
              </a:rPr>
              <a:t>Ме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1199"/>
              </a:spcBef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99"/>
                </a:solidFill>
                <a:latin typeface="Arial"/>
              </a:rPr>
              <a:t>Зва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6633"/>
                </a:solidFill>
                <a:latin typeface="Arial"/>
              </a:rPr>
              <a:t>ТВОР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ся НовЪгородЪ у Ярослава сын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сть пожарь великъ КыевЪ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поди, Иисусе Христе, Сыне Божий, помилуй меня грешног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исусова моли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и ко мнЪ, бра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ов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2667240" cy="2325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Справ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временном русском язык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дился в Новгороде у Ярослава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л великий пожар в городе Кие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ы современного П.п., но без пред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038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3300"/>
                </a:solidFill>
                <a:latin typeface="Arial"/>
              </a:rPr>
              <a:t>ЭТО ИНТЕРЕСН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СОВРЕМЕННОМ РУССКОМ ЯЗЫКЕ – П.п. употребляется только с предлог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ДРЕВНЕРУССКОМ ЯЗЫКЕ – П.п. употреблялся без предлога , когда слово обозначало местополо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.п.– местный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определительны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Предложны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его назвал М.В.Ломоносов.(«Российская грамматика» 1755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933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</a:t>
            </a:r>
            <a:r>
              <a:rPr b="1" i="1" lang="en-US" sz="4000" spc="-1" strike="noStrike">
                <a:solidFill>
                  <a:srgbClr val="000000"/>
                </a:solidFill>
                <a:latin typeface="comic"/>
              </a:rPr>
              <a:t>Господи , Иисусе , Христе , Сыне , брат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</a:t>
            </a:r>
            <a:r>
              <a:rPr b="1" i="1" lang="en-US" sz="4000" spc="-1" strike="noStrike" u="sng">
                <a:solidFill>
                  <a:srgbClr val="666633"/>
                </a:solidFill>
                <a:uFillTx/>
                <a:latin typeface="Arial"/>
              </a:rPr>
              <a:t>звательн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адеж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для обраще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(от гл. «звать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14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5146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7480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Происхождение названий падеж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ад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лово гречес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евней Греции люди иг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«кости»-кубики, на стор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х были «очки» от 1 до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дение брошенной кости той или иной стороной кверху греки называли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ptos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ад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16 в.-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а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зже -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86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059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Форма </a:t>
            </a:r>
            <a:r>
              <a:rPr b="1" i="1" lang="en-US" sz="5400" spc="-1" strike="noStrike">
                <a:solidFill>
                  <a:srgbClr val="66ccff"/>
                </a:solidFill>
                <a:latin typeface="Arial"/>
              </a:rPr>
              <a:t>звательного падеж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была вытеснена И.п.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 14-15 в.в. и сохранилась в церковно-славянском язык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Первым это слово в качестве термина использовал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66"/>
                </a:solidFill>
                <a:latin typeface="Georgia"/>
              </a:rPr>
              <a:t>Аристотел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4080" y="335268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Georgia"/>
              </a:rPr>
              <a:t>Считал, ч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Georgia"/>
              </a:rPr>
              <a:t>падеж - отклонение от основной формы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23992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ЭТО ИНТЕРЕС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е время к падежам относили только 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косвенны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падеж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2743200"/>
            <a:ext cx="1143000" cy="12952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48120" y="2819520"/>
            <a:ext cx="304560" cy="167616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3048120"/>
            <a:ext cx="228600" cy="19810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819520"/>
            <a:ext cx="1295640" cy="175248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743200"/>
            <a:ext cx="2209680" cy="1523880"/>
          </a:xfrm>
          <a:prstGeom prst="line">
            <a:avLst/>
          </a:prstGeom>
          <a:ln w="76320">
            <a:solidFill>
              <a:srgbClr val="e13b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н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тво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3bb2"/>
                </a:solidFill>
                <a:latin typeface="Arial"/>
              </a:rPr>
              <a:t>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f84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Как появились современные названия «падений»-падеж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Именительный падеж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о-либо или что-либо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мену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часто употребляют, чтобы назвать кого-то или что-то по и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32004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cc3300"/>
          </a:solidFill>
          <a:ln w="9360">
            <a:solidFill>
              <a:srgbClr val="e1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первые название </a:t>
            </a:r>
            <a:r>
              <a:rPr b="1" i="1" lang="ru-RU" sz="4400" spc="-1" strike="noStrike">
                <a:solidFill>
                  <a:srgbClr val="000000"/>
                </a:solidFill>
                <a:latin typeface="Borealis"/>
              </a:rPr>
              <a:t>именительный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падеж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16 в. употреби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Милентий Смотриц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2558880" cy="308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86200" y="3505320"/>
            <a:ext cx="474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 одной из первых русских граммат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Родительный падеж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«родственное пад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600200"/>
            <a:ext cx="1067040" cy="1676520"/>
          </a:xfrm>
          <a:prstGeom prst="downArrow">
            <a:avLst>
              <a:gd name="adj1" fmla="val 50000"/>
              <a:gd name="adj2" fmla="val 3928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3e1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еревод с греческого языка на русский (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genike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родительный) считается неудачным. Падеж должен был , по-видимому, обознача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род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, к которому относится данный предмет, а не по происхожд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b3e1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Дательный паде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11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«Дательное паде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(«калька»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Происхождение: от слова «дать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003300"/>
                </a:solidFill>
                <a:latin typeface="Arial"/>
              </a:rPr>
              <a:t>Дать ( кому? чему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12-23T16:28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