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1C3C-0149-4382-9BAD-2040103C3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A826-5003-49B9-82B1-EA51FB20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797AD0-F7C5-4B82-A103-E3C3F06D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3F5237-B685-4A34-861E-DA698293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3EE797-285A-4632-826F-F4FD18F0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849948-DAAB-4BBD-AEAD-3F8192F9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825E3F-9A46-4030-80BA-D2A0693F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CD7B2B-A59E-4434-8409-FAE1A215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CB134C-9497-4772-BE22-D25DD1CB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571B99-8B26-43BE-BF3A-711C274FF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81C01B-7592-4078-BD23-EB63BAD52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4A58F8-FDFA-4775-B069-71EB1E1E8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2B9E-221F-428A-B3F0-B6EC522B8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C80E0D-D226-4194-B74E-C7DD84D0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F02508-8FBB-4715-915F-1461A0E9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BD64BC-9F82-4F0B-A0C2-66C91B9F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463E0D-E735-48BF-9A17-8BA77C26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6D3F39-2786-44D5-A456-B27EEE8F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F3A525-3149-4B4D-B994-7BF6FAAD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1C6636-F8CF-41DC-86DB-193E65D4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B89D18-B380-40D5-BE3C-BAE92CCC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74D6D1-4F6A-4374-B270-52B2C9DD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0C86B4-B775-4891-B8AC-485B215F1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E8E2-0455-4A56-B8A2-C4426D7AD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2F9DFB-096B-4798-87DB-294DE4217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B56F9-A119-49EA-98B0-23AA512AA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ABD1A-6786-482F-83A3-9F6BC372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D6ADA-7646-4BED-8565-6D718A45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F9CCFB-0CF1-410C-84A3-B82CD398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26EC39-B294-40AF-B7A0-CBED95A2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916BD-8DC6-46E2-B08F-883DF151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EDA088-EF3D-44FA-BFA8-23F13D99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54BDEB-9571-4B4E-A201-432B778C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EE6B97-9DFA-448D-B04A-F697E979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BFC2-F0BE-4C28-9C7A-E99DC9928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529967-099A-4780-8EB7-EF40FC50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1E52D-CAB8-494C-8218-989BFA99C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FF444-05F7-4FDC-8820-33EC977B6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FA372D-B0BD-4165-B75D-6459463D4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C8ADE5-6D1A-4945-9D30-CAFAB99D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17571B-5210-4088-8A28-662A2F25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BF9C33-4C05-4615-99C9-9389C777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A5EC5A-BF51-410C-AE1D-35745B0A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3FB336-E692-44D7-8DED-F297E87B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F10DD4-5F0D-4F15-99B0-669C77B6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826B3-DCB7-4624-B023-7119DB58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B7C401-5DF7-4580-9E9C-081B9CAA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E73659-52D4-43FF-9FAF-7305B76C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BD8EF1-F014-468F-ACF9-E3183F9C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C39559-E423-4382-8E5C-9CD44F841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1CD7ED-6CB7-43F2-B916-4E8BC8BFF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6845-C5A1-4CA2-A90B-3E71E2D6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AF51E-5593-4760-8971-CEAF37C9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CD21-2B3F-4B0D-9411-910B6F00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EF692-9BED-4228-BC37-94ECC004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E030F-DEBB-49E9-BAC5-87CB4FA1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32D8-1771-4C59-869B-A5F67C15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43170-92A0-4439-9258-0E150C46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8B12-64BE-41EF-8741-9A42976A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7C3D-D20B-4740-964A-2938C427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6B7B-2916-4021-B379-4DAACBCCD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1C3E-AAAD-4904-8118-7A53F0D1C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BCDAD-5F8C-4A45-9F5B-AA104F523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5D112-E98E-48F5-A159-D550999D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BD471-78B5-4264-B409-BCB40720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BE0F4-7904-4884-882D-DF287B06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AD21A-9744-4532-A489-5BCE944A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7368-940B-40D3-B1C4-CB174B3A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E8F3E-502E-4500-A3E3-BF03996A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667A0-1417-436C-AB12-F7175565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D9E1D-03E2-41B4-AC81-0513C45A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E5466-E419-4940-B172-C364E29F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6591D-E552-43F9-8425-94EDFF63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6C88E-C453-446F-967F-4940DB241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8F7E3-55B3-4729-A88D-30E0BF0BA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5F210-E234-42A0-B545-98EDAEBEC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232BE-539C-46F4-928E-C97B6BC8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2F33D-D006-4058-8094-7EA503C9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BD1A-990A-4B91-B408-D45155AC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81FAE-9332-46F6-A53B-F48F73E0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40528-9179-4E2B-A068-24ABE5B8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74101-ACF4-4232-9667-0EC11AB7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06D35-1107-43FC-A775-6F4BC9F4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FEBFF-89CD-4B94-A699-9818DA52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8B249-8BAB-4CB2-B5B4-DF1FC47A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28E92-693F-441F-82BE-67A3BB7A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F574C-2A18-4BFD-A6FE-2962EEBFC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1D3D6-9B36-47B9-BDB8-411B1EDA8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B62A3-127E-4DF9-8FC9-968DB2D1E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6201-7C5C-485B-88C2-A7CED04A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9AB43-1CCA-40F3-934D-985CF8BB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1DDBE-6E32-4CE8-B17D-A01E864E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3C6BE-097F-434A-B4CA-38E0B589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D0039-8A4D-4CA4-A470-D7A52B2A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473FE-920E-44C2-B23A-3FB5E3C1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97794-BE7B-477A-978E-022BD736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60B9C-093C-455A-8186-26D70C22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BF888-40E5-4279-B999-643C055A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025D9-533E-4156-B314-99ECE919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54B85-E0A0-44FA-B436-9A0601AF6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2820-28FF-4896-BA61-5DA8AE8D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F81A3-0303-4B42-A6D8-A02AC9222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B8F0C-6746-4C4C-B634-8DF85A3EB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FE3A8-220B-491D-892D-D5CCE1A5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1AC65-19CF-489A-A014-097D3AA8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D70F7-525C-41D6-847B-AA95C364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D1225-6C90-4A66-9023-09BB67A6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531C8-8BED-4E95-B2AE-1741C244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1AEFE-4A40-4A2D-B047-18FA12D7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87F65-2B2C-44A8-872A-49F73F12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1D62F-5CFC-4306-A5E4-6F7BB911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2949-4A0A-4EC1-BA6E-8EDC712E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84324-E104-41F1-8F58-EB41CE22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D2E18-1DB2-4270-8416-2D7CEB43D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59C87-DC55-40BA-B350-6C7EF87CB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64314-C814-4B86-AA50-72CA19AB9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F46BD-0131-4981-AEB7-B907A82C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91998-C52B-4584-AE4B-FF8CFBD0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68004-839A-474A-9C8E-4218ADB7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99E87-D3A0-4757-A02F-05B9002F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C4859-2350-4B13-9C34-1BC129BB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2FB9D-DCF1-46BD-80CC-2A6F3A36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FB0C-99B6-48BB-96F2-2668DFCF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35AC4-D971-46DB-B5AC-0265A673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E861D-5B13-4A5F-887B-5EFE9015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165FA-46B0-4B4E-A795-E694D764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EE2AA-03DB-4EB5-88EA-73B9A1F13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C9FB2-9570-4DF0-8C9F-7A6C3F84A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C2146-0A6F-4E88-A329-B62B97A9C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B7E94-FCE5-4199-82BC-1E71AD18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90BA6-9DF3-45B5-A30B-005EE3D5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535D5-61F3-4187-BF65-09384C45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866D9-23B6-4002-9CD1-8E58C5AF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C279-FF20-4363-B501-860D672A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C0FE1-5331-436E-B7D2-E9E26B3B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E9FBC-012C-4642-9D50-4FBF0698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3CAB4-32ED-4D45-8994-50E802FA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E4AE2-D934-4E98-A6FC-B0B808BA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0AD5D-600E-4F13-A169-A5A97239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E12D6-78AC-40E0-9254-63D24075E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78D0D-28E6-457C-8523-4C8A34783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6691E6-77F0-449B-9DF1-2AA8314C0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89EE7C-DA96-4DD1-9365-3EA52578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9EE3C4-BA8A-48DB-966F-0E25469A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F669-AB07-498D-ABF1-87E0250A303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2064-2973-4ED4-A519-602D870F1D3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20FF-7F80-4243-95BB-EEE5A5DA906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2480-A16B-47D7-83D4-871A7F901D8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019B-3D87-4095-A1AB-73E18F5AEF0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780A-C758-4504-914B-03B5DC10664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3F73-CB95-44CC-A9BD-A7737961FAD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1B40-8FB7-4837-AF43-0B28658A7D2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A99F-40B2-4E06-AFD5-E0C5BB00DFB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E58E-E70C-4838-B0A6-6FC4168CE9D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417A-51B3-469C-8538-F36FD35CBB29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7CEC-4384-4B44-81DF-C7C211DB7E2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aup.ru/docs/etks/etks-45_1/8.htm" TargetMode="External"/><Relationship Id="rId2" Type="http://schemas.openxmlformats.org/officeDocument/2006/relationships/hyperlink" Target="http://www.aup.ru/docs/etks/etks-45_1/11.htm" TargetMode="External"/><Relationship Id="rId3" Type="http://schemas.openxmlformats.org/officeDocument/2006/relationships/hyperlink" Target="http://www.aup.ru/docs/etks/etks-45_1/32.htm" TargetMode="External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7;&#1090;&#1077;&#1082;&#1083;&#1086;" TargetMode="External"/><Relationship Id="rId2" Type="http://schemas.openxmlformats.org/officeDocument/2006/relationships/hyperlink" Target="https://ru.wikipedia.org/wiki/&#1055;&#1086;&#1082;&#1088;&#1099;&#1090;&#1080;&#1077;_(&#1084;&#1072;&#1090;&#1077;&#1088;&#1080;&#1072;&#1083;)" TargetMode="External"/><Relationship Id="rId3" Type="http://schemas.openxmlformats.org/officeDocument/2006/relationships/hyperlink" Target="https://ru.wikipedia.org/wiki/&#1050;&#1077;&#1088;&#1072;&#1084;&#1080;&#1082;&#1072;" TargetMode="External"/><Relationship Id="rId4" Type="http://schemas.openxmlformats.org/officeDocument/2006/relationships/hyperlink" Target="https://ru.wikipedia.org/wiki/&#1054;&#1073;&#1078;&#1080;&#1075;" TargetMode="External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57200" y="3714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714240" y="3499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d16349"/>
                </a:solidFill>
                <a:latin typeface="Georgia"/>
              </a:rPr>
              <a:t>Урок технологии</a:t>
            </a:r>
            <a:endParaRPr b="0" lang="en-US" sz="96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рофессии людей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Выборщик фарфоровых, фаянсовых и керамических изделий</a:t>
            </a:r>
            <a:r>
              <a:rPr b="0" lang="ru-RU" sz="2300" spc="-1" strike="noStrike">
                <a:solidFill>
                  <a:srgbClr val="0d0d0d"/>
                </a:solidFill>
                <a:latin typeface="Georgia"/>
              </a:rPr>
              <a:t>;</a:t>
            </a:r>
            <a:br>
              <a:rPr sz="2300"/>
            </a:br>
            <a:r>
              <a:rPr b="0" lang="ru-RU" sz="2300" spc="-1" strike="noStrike" u="sng">
                <a:solidFill>
                  <a:srgbClr val="00a3d6"/>
                </a:solidFill>
                <a:uFillTx/>
                <a:latin typeface="Georgia"/>
                <a:hlinkClick r:id="rId2"/>
              </a:rPr>
              <a:t>Гончар</a:t>
            </a:r>
            <a:r>
              <a:rPr b="0" lang="ru-RU" sz="2300" spc="-1" strike="noStrike">
                <a:solidFill>
                  <a:srgbClr val="0d0d0d"/>
                </a:solidFill>
                <a:latin typeface="Georgia"/>
              </a:rPr>
              <a:t>;</a:t>
            </a:r>
            <a:br>
              <a:rPr sz="2300"/>
            </a:br>
            <a:r>
              <a:rPr b="0" lang="ru-RU" sz="2300" spc="-1" strike="noStrike" u="sng">
                <a:solidFill>
                  <a:srgbClr val="00a3d6"/>
                </a:solidFill>
                <a:uFillTx/>
                <a:latin typeface="Georgia"/>
                <a:hlinkClick r:id="rId3"/>
              </a:rPr>
              <a:t>Изготовитель формодержателей</a:t>
            </a:r>
            <a:r>
              <a:rPr b="0" lang="ru-RU" sz="2300" spc="-1" strike="noStrike">
                <a:solidFill>
                  <a:srgbClr val="0d0d0d"/>
                </a:solidFill>
                <a:latin typeface="Georgia"/>
              </a:rPr>
              <a:t>; </a:t>
            </a:r>
            <a:br>
              <a:rPr sz="2300"/>
            </a:br>
            <a:r>
              <a:rPr b="0" lang="ru-RU" sz="2300" spc="-1" strike="noStrike">
                <a:solidFill>
                  <a:srgbClr val="0d0d0d"/>
                </a:solidFill>
                <a:latin typeface="Georgia"/>
              </a:rPr>
              <a:t>Контролер-приемщик фарфоровых, фаянсовых и керамических изделий;</a:t>
            </a:r>
            <a:br>
              <a:rPr sz="2300"/>
            </a:br>
            <a:r>
              <a:rPr b="0" lang="ru-RU" sz="2300" spc="-1" strike="noStrike">
                <a:solidFill>
                  <a:srgbClr val="0d0d0d"/>
                </a:solidFill>
                <a:latin typeface="Georgia"/>
              </a:rPr>
              <a:t>Обжигальщик материалов;</a:t>
            </a:r>
            <a:br>
              <a:rPr sz="2300"/>
            </a:br>
            <a:r>
              <a:rPr b="0" lang="ru-RU" sz="2300" spc="-1" strike="noStrike">
                <a:solidFill>
                  <a:srgbClr val="0d0d0d"/>
                </a:solidFill>
                <a:latin typeface="Georgia"/>
              </a:rPr>
              <a:t>Приготовитель масс;</a:t>
            </a:r>
            <a:br>
              <a:rPr sz="2300"/>
            </a:br>
            <a:r>
              <a:rPr b="0" lang="ru-RU" sz="2300" spc="-1" strike="noStrike">
                <a:solidFill>
                  <a:srgbClr val="0d0d0d"/>
                </a:solidFill>
                <a:latin typeface="Georgia"/>
              </a:rPr>
              <a:t>Промазчик форм;</a:t>
            </a:r>
            <a:br>
              <a:rPr sz="2300"/>
            </a:br>
            <a:r>
              <a:rPr b="0" lang="ru-RU" sz="2300" spc="-1" strike="noStrike">
                <a:solidFill>
                  <a:srgbClr val="0d0d0d"/>
                </a:solidFill>
                <a:latin typeface="Georgia"/>
              </a:rPr>
              <a:t>Склейщик керамических, фарфоровых и фаянсовых изделий;</a:t>
            </a:r>
            <a:br>
              <a:rPr sz="2300"/>
            </a:br>
            <a:r>
              <a:rPr b="0" lang="ru-RU" sz="2300" spc="-1" strike="noStrike">
                <a:solidFill>
                  <a:srgbClr val="0d0d0d"/>
                </a:solidFill>
                <a:latin typeface="Georgia"/>
              </a:rPr>
              <a:t>Сушильщик фарфоровых, фаянсовых, керамических изделий и сырья;</a:t>
            </a:r>
            <a:br>
              <a:rPr sz="2300"/>
            </a:br>
            <a:r>
              <a:rPr b="0" lang="ru-RU" sz="2300" spc="-1" strike="noStrike">
                <a:solidFill>
                  <a:srgbClr val="0d0d0d"/>
                </a:solidFill>
                <a:latin typeface="Georgia"/>
              </a:rPr>
              <a:t>Съемщик-укладчик фарфоровых, фаянсовых и керамических изделий</a:t>
            </a:r>
            <a:br>
              <a:rPr sz="1000"/>
            </a:br>
            <a:r>
              <a:rPr b="0" lang="ru-RU" sz="1000" spc="-1" strike="noStrike">
                <a:solidFill>
                  <a:srgbClr val="0d0d0d"/>
                </a:solidFill>
                <a:latin typeface="Georg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5" name="Содержимое 3" descr="2.jpg"/>
          <p:cNvPicPr/>
          <p:nvPr/>
        </p:nvPicPr>
        <p:blipFill>
          <a:blip r:embed="rId1"/>
          <a:stretch/>
        </p:blipFill>
        <p:spPr>
          <a:xfrm>
            <a:off x="357120" y="857160"/>
            <a:ext cx="3960720" cy="3571920"/>
          </a:xfrm>
          <a:prstGeom prst="rect">
            <a:avLst/>
          </a:prstGeom>
          <a:ln w="0">
            <a:noFill/>
          </a:ln>
        </p:spPr>
      </p:pic>
      <p:pic>
        <p:nvPicPr>
          <p:cNvPr id="636" name="Рисунок 4" descr="ekskursiya_v_semikarakorsk_7.jpg"/>
          <p:cNvPicPr/>
          <p:nvPr/>
        </p:nvPicPr>
        <p:blipFill>
          <a:blip r:embed="rId2"/>
          <a:stretch/>
        </p:blipFill>
        <p:spPr>
          <a:xfrm>
            <a:off x="4429080" y="3786120"/>
            <a:ext cx="4273560" cy="2857680"/>
          </a:xfrm>
          <a:prstGeom prst="rect">
            <a:avLst/>
          </a:prstGeom>
          <a:ln w="0">
            <a:noFill/>
          </a:ln>
        </p:spPr>
      </p:pic>
      <p:pic>
        <p:nvPicPr>
          <p:cNvPr id="637" name="Рисунок 5" descr="sem2.jpg"/>
          <p:cNvPicPr/>
          <p:nvPr/>
        </p:nvPicPr>
        <p:blipFill>
          <a:blip r:embed="rId3"/>
          <a:stretch/>
        </p:blipFill>
        <p:spPr>
          <a:xfrm>
            <a:off x="4429080" y="0"/>
            <a:ext cx="428616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9" name="Содержимое 3" descr="slide_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Фаянс делается из: белой глины (каолина)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Я буду внимателен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Я буду старателен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Я буду внимателен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Я буду старателен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Я буду трудолюби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Я буду доброжелателен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Я буду активен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Я буду успешен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b9899"/>
                </a:solidFill>
                <a:latin typeface="Georgia"/>
              </a:rPr>
              <a:t>Тема урока:</a:t>
            </a:r>
            <a:endParaRPr b="0" lang="en-US" sz="6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Georgia"/>
              </a:rPr>
              <a:t>Как создается фаянс.</a:t>
            </a:r>
            <a:endParaRPr b="0" lang="en-US" sz="6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Georgia"/>
              </a:rPr>
              <a:t>Повторение</a:t>
            </a:r>
            <a:endParaRPr b="0" lang="en-US" sz="6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3" name="Содержимое 3" descr="75749571.208x208.jpg"/>
          <p:cNvPicPr/>
          <p:nvPr/>
        </p:nvPicPr>
        <p:blipFill>
          <a:blip r:embed="rId1"/>
          <a:stretch/>
        </p:blipFill>
        <p:spPr>
          <a:xfrm>
            <a:off x="357120" y="214200"/>
            <a:ext cx="1997280" cy="3000600"/>
          </a:xfrm>
          <a:prstGeom prst="rect">
            <a:avLst/>
          </a:prstGeom>
          <a:ln w="0">
            <a:noFill/>
          </a:ln>
        </p:spPr>
      </p:pic>
      <p:pic>
        <p:nvPicPr>
          <p:cNvPr id="614" name="Рисунок 4" descr="89912133_Farforovuye_izdeliya_angliyskih_masterov_3.jpg"/>
          <p:cNvPicPr/>
          <p:nvPr/>
        </p:nvPicPr>
        <p:blipFill>
          <a:blip r:embed="rId2"/>
          <a:stretch/>
        </p:blipFill>
        <p:spPr>
          <a:xfrm>
            <a:off x="2786040" y="500040"/>
            <a:ext cx="3500640" cy="2625840"/>
          </a:xfrm>
          <a:prstGeom prst="rect">
            <a:avLst/>
          </a:prstGeom>
          <a:ln w="0">
            <a:noFill/>
          </a:ln>
        </p:spPr>
      </p:pic>
      <p:pic>
        <p:nvPicPr>
          <p:cNvPr id="615" name="Рисунок 5" descr="art_51_09_01.jpg"/>
          <p:cNvPicPr/>
          <p:nvPr/>
        </p:nvPicPr>
        <p:blipFill>
          <a:blip r:embed="rId3"/>
          <a:stretch/>
        </p:blipFill>
        <p:spPr>
          <a:xfrm>
            <a:off x="6500880" y="142920"/>
            <a:ext cx="2428920" cy="3500280"/>
          </a:xfrm>
          <a:prstGeom prst="rect">
            <a:avLst/>
          </a:prstGeom>
          <a:ln w="0">
            <a:noFill/>
          </a:ln>
        </p:spPr>
      </p:pic>
      <p:pic>
        <p:nvPicPr>
          <p:cNvPr id="616" name="Рисунок 6" descr="60149311.208x208.jpg"/>
          <p:cNvPicPr/>
          <p:nvPr/>
        </p:nvPicPr>
        <p:blipFill>
          <a:blip r:embed="rId4"/>
          <a:stretch/>
        </p:blipFill>
        <p:spPr>
          <a:xfrm>
            <a:off x="2071800" y="3357720"/>
            <a:ext cx="47149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b9899"/>
                </a:solidFill>
                <a:latin typeface="Georgia"/>
              </a:rPr>
              <a:t>Цель:</a:t>
            </a:r>
            <a:endParaRPr b="0" lang="en-US" sz="6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Georgia"/>
              </a:rPr>
              <a:t>повторить, что такое фаянс;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Georgia"/>
              </a:rPr>
              <a:t>изделия из фаянса;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Georgia"/>
              </a:rPr>
              <a:t>профессии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Фаянс - изделия из белой глины с пористым черепком, который в изломе представляет шероховатый вид и покрыт всегда глазурью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2" name="Содержимое 3" descr="slide_5.jpg"/>
          <p:cNvPicPr/>
          <p:nvPr/>
        </p:nvPicPr>
        <p:blipFill>
          <a:blip r:embed="rId1"/>
          <a:stretch/>
        </p:blipFill>
        <p:spPr>
          <a:xfrm>
            <a:off x="0" y="-92160"/>
            <a:ext cx="9144000" cy="6774120"/>
          </a:xfrm>
          <a:prstGeom prst="rect">
            <a:avLst/>
          </a:prstGeom>
          <a:ln w="0">
            <a:noFill/>
          </a:ln>
        </p:spPr>
      </p:pic>
      <p:sp>
        <p:nvSpPr>
          <p:cNvPr id="623" name="Прямоугольник 4"/>
          <p:cNvSpPr/>
          <p:nvPr/>
        </p:nvSpPr>
        <p:spPr>
          <a:xfrm>
            <a:off x="301680" y="2852640"/>
            <a:ext cx="2901960" cy="863640"/>
          </a:xfrm>
          <a:prstGeom prst="rect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Прямоугольник 7"/>
          <p:cNvSpPr/>
          <p:nvPr/>
        </p:nvSpPr>
        <p:spPr>
          <a:xfrm>
            <a:off x="6423120" y="3648240"/>
            <a:ext cx="2901960" cy="865080"/>
          </a:xfrm>
          <a:prstGeom prst="rect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Прямоугольник 8"/>
          <p:cNvSpPr/>
          <p:nvPr/>
        </p:nvSpPr>
        <p:spPr>
          <a:xfrm>
            <a:off x="4114800" y="5581800"/>
            <a:ext cx="2901960" cy="863280"/>
          </a:xfrm>
          <a:prstGeom prst="rect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Прямоугольник 9"/>
          <p:cNvSpPr/>
          <p:nvPr/>
        </p:nvSpPr>
        <p:spPr>
          <a:xfrm>
            <a:off x="3567240" y="2732040"/>
            <a:ext cx="2901960" cy="863640"/>
          </a:xfrm>
          <a:prstGeom prst="rect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Прямоугольник 10"/>
          <p:cNvSpPr/>
          <p:nvPr/>
        </p:nvSpPr>
        <p:spPr>
          <a:xfrm>
            <a:off x="606600" y="5581800"/>
            <a:ext cx="2901600" cy="863280"/>
          </a:xfrm>
          <a:prstGeom prst="rect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бжиг – это обработка изделий огнём, жаром с целью повышения прочности, снижения пористости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кульптор – художник или мастер, изготовляющий произведения скульптуры, специалист, который создаёт объемные художественные произведения из дерева, металла, гипса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Художник – человек, создающий произведения изобразительного искусства красками, карандашом и т.д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Глазурь - </a:t>
            </a:r>
            <a:r>
              <a:rPr b="0" lang="ru-RU" sz="27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стекловидное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lang="ru-RU" sz="2700" spc="-1" strike="noStrike" u="sng">
                <a:solidFill>
                  <a:srgbClr val="00a3d6"/>
                </a:solidFill>
                <a:uFillTx/>
                <a:latin typeface="Georgia"/>
                <a:hlinkClick r:id="rId2"/>
              </a:rPr>
              <a:t>покрытие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на поверхности </a:t>
            </a:r>
            <a:r>
              <a:rPr b="0" lang="ru-RU" sz="2700" spc="-1" strike="noStrike" u="sng">
                <a:solidFill>
                  <a:srgbClr val="00a3d6"/>
                </a:solidFill>
                <a:uFillTx/>
                <a:latin typeface="Georgia"/>
                <a:hlinkClick r:id="rId3"/>
              </a:rPr>
              <a:t>керамического изделия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. Кроме того, глазурью также называют исходный материал или смесь материалов, которые после нанесения на керамическое изделие и </a:t>
            </a:r>
            <a:r>
              <a:rPr b="0" lang="ru-RU" sz="2700" spc="-1" strike="noStrike" u="sng">
                <a:solidFill>
                  <a:srgbClr val="00a3d6"/>
                </a:solidFill>
                <a:uFillTx/>
                <a:latin typeface="Georgia"/>
                <a:hlinkClick r:id="rId4"/>
              </a:rPr>
              <a:t>обжига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дают соответствующее покрытие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оспись - искусство декорирования красками какой-либо поверхности.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22T14:20:02Z</dcterms:created>
  <dc:creator>Admin</dc:creator>
  <dc:description/>
  <dc:language>en-US</dc:language>
  <cp:lastModifiedBy>asambirskaya@mail.ru</cp:lastModifiedBy>
  <dcterms:modified xsi:type="dcterms:W3CDTF">2018-11-05T16:42:45Z</dcterms:modified>
  <cp:revision>10</cp:revision>
  <dc:subject/>
  <dc:title>Урок технологии</dc:title>
</cp:coreProperties>
</file>