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52D-794F-45DB-ACEA-FA924A69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455-0861-40E1-AB40-B1C8322E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999C38-FF6D-482A-8E32-081346BC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0EFB1-F381-4703-A6A1-D7EE1B79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670342-0686-4117-89FA-C3409D21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62566-935B-40ED-9AF9-5B4F2E2A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9965E5-8DB4-4447-AA5F-C2C98358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9BECC4-7177-4384-A5A9-E26C5E0A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B0F4C-841B-496D-AB24-3743A641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30EC94-76FC-41F9-8D4F-03D2FEA2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85AF93-D9BF-45DC-98D2-3B1AB7AB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7B60F-BEF4-4542-91BF-B3FDF973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E93-11F1-4C0F-AF27-6E76FE2F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23F7F3-C10A-4B23-8E19-8E82931C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F7CC4A-FFC8-4864-AD5E-E8EECC47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4EEEA-C38E-4AC8-962D-A2ABA6D3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DAA796-7A16-4C27-99E0-A8138209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2D7E7F-3064-4C07-94F7-96929204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35DF8-2DBD-4D84-AFAC-9B2BA445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52DD4-BDCC-443D-BB59-8CA1141B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3CBC62-FD93-4466-AB6B-6904C09B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725D74-E448-44C7-B482-AB5F3D8B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2523B7-466D-4690-A955-28A7870F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64F9-7219-495C-A21A-51886EA5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7004D0-2713-4FB5-BD29-2F8A388D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D5E72-10BB-45C5-84A6-3BB9DE3C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CFA22-7003-4981-A0D2-B7234F1B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3387D-726D-4CD9-B88D-28A0DFE6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2D7B8-F09B-4689-ADD6-6A4F4216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63D06-6A29-4339-B282-BFB073DB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C9B6B-149B-4812-88E9-4E9F0475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5C0B9-C00F-45E5-AAF8-AA120104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A86B0-7BCB-4217-837F-AB4B6B18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A0086-DC45-4680-A5A8-52C627D0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5859-94BA-4635-AFB5-B9264279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A982C-508A-4E3F-A8AE-6EBF54B2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9BF56-9EF2-44F2-8E56-F4E3CC7C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FDE4C-75CD-4383-8C60-7CAAE15D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D416E-C08D-4FBD-BAEC-3F176A4D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10113-4E8F-4023-9F04-C851D43A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BD591E-099A-406D-91DC-FD966859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CEEB72-7836-42BE-A874-03F4BB92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191830-5F6C-4113-BEFC-930BD054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6FC199-CA60-410C-8BD6-FE1B70B4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D21B6D-BC92-4105-8714-DAAE394A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814E-B31C-41E7-86AA-0876034A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56DA81-4326-4C25-90E7-1196DC44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C1697-2E51-41FE-9B91-D442F215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412269-3F12-4109-99CD-AD3AF15E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74F5C3-C45D-4329-97B1-F669C93A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855FC3-718C-4E82-812C-364D6AC6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158B-C88D-496A-AEFC-20B95672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5F47-B7B6-4BB6-A684-4CBA308E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ECA0-9147-4B04-A838-8470684F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89F3-5B25-4BEA-A5A0-9511B8BB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7A5D-F8E0-4262-B5D5-A4BEB90E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BADC-FCC4-4F9D-AA85-294E98BA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D1B4-A1E5-4AE6-89DB-93AFBA20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6099-D47A-4403-A097-E15F663E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C548-D782-4AAD-8828-6C9FEBE0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738B-FAB3-4DCC-9F79-48DE4BA1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3CDB-DCCA-4A7D-88B3-F3E5D2B3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AFA20-112F-47B0-B89A-A4F1B1E6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3A99B-3566-4109-BBEB-EF14D82F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FCEE0-9ED9-482C-A3F2-38289054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F2B02-E892-4CC8-9682-79E7AF59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5E66D-F51A-4A15-9218-EB705D36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C4AA-2710-43AD-9DAD-1DF127E5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F97CD-8B4D-49EA-9827-A05EB708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D2B9D-9A76-43F4-8666-816A869B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E4E14-AE74-402B-A8B3-C6D0D4E7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5B2BF-C674-4713-805E-A71724F3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4A177-06FD-47D1-BCCD-F0F79063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0DCBE-1466-47F7-ACED-0B0DAA62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D3733-730B-4D73-B444-3D087048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642B8-7A9D-43DE-8F63-D6C532BC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CFC7D-D3BD-49B0-93E2-A21FCBC9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8E819-C184-4002-818E-E22E4012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7DD-5822-427C-8124-13E3E01B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2CFF9-11EA-4B14-8E05-9D87CDB0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AE041-602B-4A83-9951-B9C44DCB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2225C-30C5-45BE-AE47-E03269AB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DF54F-BD03-4657-BEC5-A54BF8B0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7D014-91BC-4D68-8637-48A365FE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8EDC1-F7BE-4CFA-AB67-0FC438E7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EB2FC-F3DF-4FB6-9BA8-A90F6DF3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3A75C-9D09-44B5-8C8F-0AB32751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F4F90-F11D-46AB-AB3F-9D3374DA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B1D3A-6EEE-4F80-B397-7C62AAF2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D801-91CA-4D6F-AD98-1C15DC71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5B6F4-ECBE-4FA1-814D-3BC69326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A2BB1-CFBD-4522-B539-07F6D16E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A4279-2F57-45D3-92CE-3FED3A66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0C944-ECA7-4BEF-89DE-6B40368E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81FB3-D540-4924-88E2-534517CD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AC18F-958B-41C2-ADC3-296B9E63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1A92E-363F-429C-A14F-80A04D8F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EF089-8427-4194-AC69-E4932482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D5CC2-3CE3-4447-9421-4CF9068D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F9F2E-17EF-488E-8FB0-4E4B5F90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AF5-BA3D-4271-8917-A7C21C4A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822B9-05A5-46C8-80E3-62956188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E8C23-76D8-43FA-AD41-FFE3E54E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057D5-A53A-41B1-909F-B75B20D9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FF63D-6B7F-4873-B19B-EF9D4AFB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C03B7-564E-4437-9F66-BA996E10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6230B-A787-405D-B77C-58858CA5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41BEB-2D37-40DE-870F-8198FD0B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87F0F-65EF-4F51-A52F-A6AFA355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CDE8B-2898-4D47-A375-0FE683EC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5E979-3569-450B-A46E-55361912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722A-2406-413A-85EE-D417AF11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BC577-D83B-4BA9-85D9-8CE922C1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22AB7-E442-4C67-9C77-72AD06AF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BF133-8971-4953-8459-F2F2A05F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FE638-7634-4E58-8319-F437F566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A321A-F494-45A4-A780-DA99C724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7A004-C872-4633-8D7A-EBCEE960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33371-7BDF-4869-BB15-AE19FDEA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96CE1-02E0-4133-948B-846C5E9C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7F5C3-0072-49CB-8B5D-40EFEC5A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65A5C-DDA7-434B-AFE6-A0AE694B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EACD-F8CC-44AD-A5E8-08C7B110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DF02B-C784-4039-94F7-C5946FF0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59596-836D-405D-AFBC-1988C54E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EA272-FE99-4832-99D4-73BA42F3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69485-0CE3-4E4D-A975-730821F4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5D44B-4A9D-40C7-8748-89F2E418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F8C8D-D358-4629-8DAB-0F27593A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87046-7CC0-4C09-BF67-C4BAE522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A51CC-4F2F-4AE4-9150-D39F14A4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8D883-ACB4-4E34-A10F-31D7435F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A0223-9D05-4CAE-A1E4-9C268D19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AA6-F11C-4E5B-807E-FA287474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48E6E-DCA1-4B26-9DFE-4C5A5345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F34C3-CC7F-410C-A6AA-662CDF17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27543-9C65-4322-BD82-8268CEE8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F4EBC-C917-465B-BCBF-92F9B566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9B67B-0568-44E7-9231-38E0F04A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6DE35-8DD2-4319-BC7F-02B5AC18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D9458-9DC4-48D9-89B7-76931D5A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6D476-3516-49BC-977C-6555AE14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77209-63E9-42A1-8C02-20FB7CFA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9C5702-FA20-4A98-AEFF-C4B11BDC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34AE-2ECF-4945-81E6-50909667048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65A6-C3C6-4930-9E19-38AD20941B4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FB04-2567-4112-9BA6-3B5D301B31C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2AEF-2E72-4EB3-9E42-5AFFC4D3A78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4836-FC71-4DB2-A746-F58002CE589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0B23-1D6E-41D5-BBFB-B54860D59FE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4337-C493-4BE6-90D5-37A7EDCB8DB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1E9F-4DB0-400B-B050-68328BBBD8A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21CE-514B-42CE-A7E4-7967F205ABB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EE3C-4B97-4CB4-83A8-3D6B59ADCEC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CC83-F2DE-4E23-AA67-3EF8EEBCEE27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1FA6-09F1-4E61-9C5A-2F541CE9742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up.ru/docs/etks/etks-45_1/8.htm" TargetMode="External"/><Relationship Id="rId2" Type="http://schemas.openxmlformats.org/officeDocument/2006/relationships/hyperlink" Target="http://www.aup.ru/docs/etks/etks-45_1/11.htm" TargetMode="External"/><Relationship Id="rId3" Type="http://schemas.openxmlformats.org/officeDocument/2006/relationships/hyperlink" Target="http://www.aup.ru/docs/etks/etks-45_1/32.htm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90;&#1077;&#1082;&#1083;&#1086;" TargetMode="External"/><Relationship Id="rId2" Type="http://schemas.openxmlformats.org/officeDocument/2006/relationships/hyperlink" Target="https://ru.wikipedia.org/wiki/&#1055;&#1086;&#1082;&#1088;&#1099;&#1090;&#1080;&#1077;_(&#1084;&#1072;&#1090;&#1077;&#1088;&#1080;&#1072;&#1083;)" TargetMode="External"/><Relationship Id="rId3" Type="http://schemas.openxmlformats.org/officeDocument/2006/relationships/hyperlink" Target="https://ru.wikipedia.org/wiki/&#1050;&#1077;&#1088;&#1072;&#1084;&#1080;&#1082;&#1072;" TargetMode="External"/><Relationship Id="rId4" Type="http://schemas.openxmlformats.org/officeDocument/2006/relationships/hyperlink" Target="https://ru.wikipedia.org/wiki/&#1054;&#1073;&#1078;&#1080;&#1075;" TargetMode="External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57200" y="3714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14240" y="3499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d16349"/>
                </a:solidFill>
                <a:latin typeface="Georgia"/>
              </a:rPr>
              <a:t>Урок технологии</a:t>
            </a:r>
            <a:endParaRPr b="0" lang="en-US" sz="96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рофессии людей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Выборщик фарфоровых, фаянсовых и керамических изделий</a:t>
            </a:r>
            <a:r>
              <a:rPr b="0" lang="ru-RU" sz="2300" spc="-1" strike="noStrike">
                <a:solidFill>
                  <a:srgbClr val="0d0d0d"/>
                </a:solidFill>
                <a:latin typeface="Georgia"/>
              </a:rPr>
              <a:t>;</a:t>
            </a:r>
            <a:br>
              <a:rPr sz="2300"/>
            </a:br>
            <a:r>
              <a:rPr b="0" lang="ru-RU" sz="23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Гончар</a:t>
            </a:r>
            <a:r>
              <a:rPr b="0" lang="ru-RU" sz="2300" spc="-1" strike="noStrike">
                <a:solidFill>
                  <a:srgbClr val="0d0d0d"/>
                </a:solidFill>
                <a:latin typeface="Georgia"/>
              </a:rPr>
              <a:t>;</a:t>
            </a:r>
            <a:br>
              <a:rPr sz="2300"/>
            </a:br>
            <a:r>
              <a:rPr b="0" lang="ru-RU" sz="2300" spc="-1" strike="noStrike" u="sng">
                <a:solidFill>
                  <a:srgbClr val="00a3d6"/>
                </a:solidFill>
                <a:uFillTx/>
                <a:latin typeface="Georgia"/>
                <a:hlinkClick r:id="rId3"/>
              </a:rPr>
              <a:t>Изготовитель формодержателей</a:t>
            </a:r>
            <a:r>
              <a:rPr b="0" lang="ru-RU" sz="2300" spc="-1" strike="noStrike">
                <a:solidFill>
                  <a:srgbClr val="0d0d0d"/>
                </a:solidFill>
                <a:latin typeface="Georgia"/>
              </a:rPr>
              <a:t>; </a:t>
            </a:r>
            <a:br>
              <a:rPr sz="2300"/>
            </a:br>
            <a:r>
              <a:rPr b="0" lang="ru-RU" sz="2300" spc="-1" strike="noStrike">
                <a:solidFill>
                  <a:srgbClr val="0d0d0d"/>
                </a:solidFill>
                <a:latin typeface="Georgia"/>
              </a:rPr>
              <a:t>Контролер-приемщик фарфоровых, фаянсовых и керамических изделий;</a:t>
            </a:r>
            <a:br>
              <a:rPr sz="2300"/>
            </a:br>
            <a:r>
              <a:rPr b="0" lang="ru-RU" sz="2300" spc="-1" strike="noStrike">
                <a:solidFill>
                  <a:srgbClr val="0d0d0d"/>
                </a:solidFill>
                <a:latin typeface="Georgia"/>
              </a:rPr>
              <a:t>Обжигальщик материалов;</a:t>
            </a:r>
            <a:br>
              <a:rPr sz="2300"/>
            </a:br>
            <a:r>
              <a:rPr b="0" lang="ru-RU" sz="2300" spc="-1" strike="noStrike">
                <a:solidFill>
                  <a:srgbClr val="0d0d0d"/>
                </a:solidFill>
                <a:latin typeface="Georgia"/>
              </a:rPr>
              <a:t>Приготовитель масс;</a:t>
            </a:r>
            <a:br>
              <a:rPr sz="2300"/>
            </a:br>
            <a:r>
              <a:rPr b="0" lang="ru-RU" sz="2300" spc="-1" strike="noStrike">
                <a:solidFill>
                  <a:srgbClr val="0d0d0d"/>
                </a:solidFill>
                <a:latin typeface="Georgia"/>
              </a:rPr>
              <a:t>Промазчик форм;</a:t>
            </a:r>
            <a:br>
              <a:rPr sz="2300"/>
            </a:br>
            <a:r>
              <a:rPr b="0" lang="ru-RU" sz="2300" spc="-1" strike="noStrike">
                <a:solidFill>
                  <a:srgbClr val="0d0d0d"/>
                </a:solidFill>
                <a:latin typeface="Georgia"/>
              </a:rPr>
              <a:t>Склейщик керамических, фарфоровых и фаянсовых изделий;</a:t>
            </a:r>
            <a:br>
              <a:rPr sz="2300"/>
            </a:br>
            <a:r>
              <a:rPr b="0" lang="ru-RU" sz="2300" spc="-1" strike="noStrike">
                <a:solidFill>
                  <a:srgbClr val="0d0d0d"/>
                </a:solidFill>
                <a:latin typeface="Georgia"/>
              </a:rPr>
              <a:t>Сушильщик фарфоровых, фаянсовых, керамических изделий и сырья;</a:t>
            </a:r>
            <a:br>
              <a:rPr sz="2300"/>
            </a:br>
            <a:r>
              <a:rPr b="0" lang="ru-RU" sz="2300" spc="-1" strike="noStrike">
                <a:solidFill>
                  <a:srgbClr val="0d0d0d"/>
                </a:solidFill>
                <a:latin typeface="Georgia"/>
              </a:rPr>
              <a:t>Съемщик-укладчик фарфоровых, фаянсовых и керамических изделий</a:t>
            </a:r>
            <a:br>
              <a:rPr sz="1000"/>
            </a:br>
            <a:r>
              <a:rPr b="0" lang="ru-RU" sz="1000" spc="-1" strike="noStrike">
                <a:solidFill>
                  <a:srgbClr val="0d0d0d"/>
                </a:solidFill>
                <a:latin typeface="Georg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Содержимое 3" descr="2.jpg"/>
          <p:cNvPicPr/>
          <p:nvPr/>
        </p:nvPicPr>
        <p:blipFill>
          <a:blip r:embed="rId1"/>
          <a:stretch/>
        </p:blipFill>
        <p:spPr>
          <a:xfrm>
            <a:off x="357120" y="857160"/>
            <a:ext cx="3960720" cy="3571920"/>
          </a:xfrm>
          <a:prstGeom prst="rect">
            <a:avLst/>
          </a:prstGeom>
          <a:ln w="0">
            <a:noFill/>
          </a:ln>
        </p:spPr>
      </p:pic>
      <p:pic>
        <p:nvPicPr>
          <p:cNvPr id="636" name="Рисунок 4" descr="ekskursiya_v_semikarakorsk_7.jpg"/>
          <p:cNvPicPr/>
          <p:nvPr/>
        </p:nvPicPr>
        <p:blipFill>
          <a:blip r:embed="rId2"/>
          <a:stretch/>
        </p:blipFill>
        <p:spPr>
          <a:xfrm>
            <a:off x="4429080" y="3786120"/>
            <a:ext cx="4273560" cy="2857680"/>
          </a:xfrm>
          <a:prstGeom prst="rect">
            <a:avLst/>
          </a:prstGeom>
          <a:ln w="0">
            <a:noFill/>
          </a:ln>
        </p:spPr>
      </p:pic>
      <p:pic>
        <p:nvPicPr>
          <p:cNvPr id="637" name="Рисунок 5" descr="sem2.jpg"/>
          <p:cNvPicPr/>
          <p:nvPr/>
        </p:nvPicPr>
        <p:blipFill>
          <a:blip r:embed="rId3"/>
          <a:stretch/>
        </p:blipFill>
        <p:spPr>
          <a:xfrm>
            <a:off x="4429080" y="0"/>
            <a:ext cx="42861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Содержимое 3" descr="slide_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Фаянс делается из: белой глины (каолина)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буду внимателе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буду старателе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буду внимателе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буду старателе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буду трудолюби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буду доброжелателе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буду активе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буду успешен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b9899"/>
                </a:solidFill>
                <a:latin typeface="Georgia"/>
              </a:rPr>
              <a:t>Тема урока: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</a:rPr>
              <a:t>Как создается фаянс.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</a:rPr>
              <a:t>Повторение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Содержимое 3" descr="75749571.208x208.jpg"/>
          <p:cNvPicPr/>
          <p:nvPr/>
        </p:nvPicPr>
        <p:blipFill>
          <a:blip r:embed="rId1"/>
          <a:stretch/>
        </p:blipFill>
        <p:spPr>
          <a:xfrm>
            <a:off x="357120" y="214200"/>
            <a:ext cx="1997280" cy="3000600"/>
          </a:xfrm>
          <a:prstGeom prst="rect">
            <a:avLst/>
          </a:prstGeom>
          <a:ln w="0">
            <a:noFill/>
          </a:ln>
        </p:spPr>
      </p:pic>
      <p:pic>
        <p:nvPicPr>
          <p:cNvPr id="614" name="Рисунок 4" descr="89912133_Farforovuye_izdeliya_angliyskih_masterov_3.jpg"/>
          <p:cNvPicPr/>
          <p:nvPr/>
        </p:nvPicPr>
        <p:blipFill>
          <a:blip r:embed="rId2"/>
          <a:stretch/>
        </p:blipFill>
        <p:spPr>
          <a:xfrm>
            <a:off x="2786040" y="50004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15" name="Рисунок 5" descr="art_51_09_01.jpg"/>
          <p:cNvPicPr/>
          <p:nvPr/>
        </p:nvPicPr>
        <p:blipFill>
          <a:blip r:embed="rId3"/>
          <a:stretch/>
        </p:blipFill>
        <p:spPr>
          <a:xfrm>
            <a:off x="6500880" y="142920"/>
            <a:ext cx="2428920" cy="350028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6" descr="60149311.208x208.jpg"/>
          <p:cNvPicPr/>
          <p:nvPr/>
        </p:nvPicPr>
        <p:blipFill>
          <a:blip r:embed="rId4"/>
          <a:stretch/>
        </p:blipFill>
        <p:spPr>
          <a:xfrm>
            <a:off x="2071800" y="3357720"/>
            <a:ext cx="4714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b9899"/>
                </a:solidFill>
                <a:latin typeface="Georgia"/>
              </a:rPr>
              <a:t>Цель: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Georgia"/>
              </a:rPr>
              <a:t>повторить, что такое фаянс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eorgia"/>
              </a:rPr>
              <a:t>изделия из фаянса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eorgia"/>
              </a:rPr>
              <a:t>профессии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Фаянс - изделия из белой глины с пористым черепком, который в изломе представляет шероховатый вид и покрыт всегда глазурью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2" name="Содержимое 3" descr="slide_5.jpg"/>
          <p:cNvPicPr/>
          <p:nvPr/>
        </p:nvPicPr>
        <p:blipFill>
          <a:blip r:embed="rId1"/>
          <a:stretch/>
        </p:blipFill>
        <p:spPr>
          <a:xfrm>
            <a:off x="0" y="-92160"/>
            <a:ext cx="9144000" cy="6774120"/>
          </a:xfrm>
          <a:prstGeom prst="rect">
            <a:avLst/>
          </a:prstGeom>
          <a:ln w="0">
            <a:noFill/>
          </a:ln>
        </p:spPr>
      </p:pic>
      <p:sp>
        <p:nvSpPr>
          <p:cNvPr id="623" name="Прямоугольник 4"/>
          <p:cNvSpPr/>
          <p:nvPr/>
        </p:nvSpPr>
        <p:spPr>
          <a:xfrm>
            <a:off x="301680" y="2852640"/>
            <a:ext cx="2901960" cy="863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7"/>
          <p:cNvSpPr/>
          <p:nvPr/>
        </p:nvSpPr>
        <p:spPr>
          <a:xfrm>
            <a:off x="6423120" y="3648240"/>
            <a:ext cx="2901960" cy="86508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оугольник 8"/>
          <p:cNvSpPr/>
          <p:nvPr/>
        </p:nvSpPr>
        <p:spPr>
          <a:xfrm>
            <a:off x="4114800" y="5581800"/>
            <a:ext cx="2901960" cy="86328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9"/>
          <p:cNvSpPr/>
          <p:nvPr/>
        </p:nvSpPr>
        <p:spPr>
          <a:xfrm>
            <a:off x="3567240" y="2732040"/>
            <a:ext cx="2901960" cy="863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10"/>
          <p:cNvSpPr/>
          <p:nvPr/>
        </p:nvSpPr>
        <p:spPr>
          <a:xfrm>
            <a:off x="606600" y="5581800"/>
            <a:ext cx="2901600" cy="86328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жиг – это обработка изделий огнём, жаром с целью повышения прочности, снижения пористост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кульптор – художник или мастер, изготовляющий произведения скульптуры, специалист, который создаёт объемные художественные произведения из дерева, металла, гипса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Художник – человек, создающий произведения изобразительного искусства красками, карандашом и т.д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лазурь - </a:t>
            </a:r>
            <a:r>
              <a:rPr b="0" lang="ru-RU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стекловидное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7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покрытие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на поверхности </a:t>
            </a:r>
            <a:r>
              <a:rPr b="0" lang="ru-RU" sz="2700" spc="-1" strike="noStrike" u="sng">
                <a:solidFill>
                  <a:srgbClr val="00a3d6"/>
                </a:solidFill>
                <a:uFillTx/>
                <a:latin typeface="Georgia"/>
                <a:hlinkClick r:id="rId3"/>
              </a:rPr>
              <a:t>керамического изделия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 Кроме того, глазурью также называют исходный материал или смесь материалов, которые после нанесения на керамическое изделие и </a:t>
            </a:r>
            <a:r>
              <a:rPr b="0" lang="ru-RU" sz="2700" spc="-1" strike="noStrike" u="sng">
                <a:solidFill>
                  <a:srgbClr val="00a3d6"/>
                </a:solidFill>
                <a:uFillTx/>
                <a:latin typeface="Georgia"/>
                <a:hlinkClick r:id="rId4"/>
              </a:rPr>
              <a:t>обжига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дают соответствующее покрытие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оспись - искусство декорирования красками какой-либо поверхности.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2T14:20:02Z</dcterms:created>
  <dc:creator>Admin</dc:creator>
  <dc:description/>
  <dc:language>en-US</dc:language>
  <cp:lastModifiedBy>asambirskaya@mail.ru</cp:lastModifiedBy>
  <dcterms:modified xsi:type="dcterms:W3CDTF">2018-11-05T16:42:45Z</dcterms:modified>
  <cp:revision>10</cp:revision>
  <dc:subject/>
  <dc:title>Урок технологии</dc:title>
</cp:coreProperties>
</file>