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28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B5F8-4598-4A79-8384-372F81CC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5D10-81F4-47AE-BA97-C82023EF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C5A3-211B-4F9E-872D-00FE7E380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B1C5-F248-4ACD-8C16-895AB2B1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4F7D-2943-425F-B515-77C2F81E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8006-FC44-43F1-82C0-F9863D05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21EC-61B4-4D31-B675-B4795328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3197-FB8A-43AE-9CFA-520280AF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F5FA-AE79-42CB-BD3F-A7AA03B9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4283-3C8F-4F7A-AA9B-74D88E38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961D-95FA-441D-BE3D-1005E08B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68CE-0C49-40C2-972C-17D06777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BED6-86E9-4A5C-B7EF-F94665A8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2595-491C-4431-9D70-6DCFBF3E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AD50-B100-4CF6-A492-A1A24E35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EEF4-3BB9-4E8C-8870-E5CF4C1E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6878-E173-449A-9849-67270863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1EF8-44EF-473A-8EED-5FCDC918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4078-EB9F-4B15-A348-11C0A246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C732-BE28-495B-BFE1-C036EE9B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6BD6-605F-47F1-BA56-77AD5947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39A4-41A8-42C0-B3F3-8C88F694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DD7F-9076-42E0-BAC2-270EF0F5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0FE8-7DD8-4757-862F-932DDE15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2C1B-50DC-407E-850A-2232728BF6DD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57240" y="1424880"/>
              <a:ext cx="1108800" cy="1099080"/>
              <a:chOff x="5457240" y="1424880"/>
              <a:chExt cx="1108800" cy="10990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57240" y="1424880"/>
                <a:ext cx="11088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35440" y="1600920"/>
                <a:ext cx="75132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24280" y="1401120"/>
              <a:ext cx="858240" cy="844920"/>
              <a:chOff x="5624280" y="1401120"/>
              <a:chExt cx="858240" cy="84492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4280" y="1401120"/>
                <a:ext cx="85824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66480" y="1540080"/>
                <a:ext cx="57420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2680" y="1868040"/>
              <a:ext cx="631800" cy="626400"/>
              <a:chOff x="5242680" y="1868040"/>
              <a:chExt cx="631800" cy="62640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2680" y="1868040"/>
                <a:ext cx="63180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48160" y="1975680"/>
                <a:ext cx="41652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3600" y="1791360"/>
              <a:ext cx="524520" cy="514080"/>
              <a:chOff x="5403600" y="1791360"/>
              <a:chExt cx="524520" cy="51408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3600" y="1791360"/>
                <a:ext cx="5245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496120" y="1879200"/>
                <a:ext cx="3384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1280"/>
              <a:ext cx="291960" cy="289440"/>
              <a:chOff x="4718160" y="2051280"/>
              <a:chExt cx="291960" cy="28944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1960" cy="28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3240" y="2109960"/>
                <a:ext cx="17748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095160" y="993600"/>
              <a:ext cx="298080" cy="295200"/>
              <a:chOff x="6095160" y="993600"/>
              <a:chExt cx="298080" cy="29520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5160" y="993600"/>
                <a:ext cx="29808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55280" y="1053000"/>
                <a:ext cx="17748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45760" y="1868040"/>
              <a:ext cx="238320" cy="236160"/>
              <a:chOff x="5045760" y="1868040"/>
              <a:chExt cx="238320" cy="23616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45760" y="1868040"/>
                <a:ext cx="23832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097600" y="1918080"/>
                <a:ext cx="13644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3160" y="1058400"/>
              <a:ext cx="238320" cy="236160"/>
              <a:chOff x="6113160" y="1058400"/>
              <a:chExt cx="238320" cy="23616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3160" y="1058400"/>
                <a:ext cx="23832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3200" y="1109880"/>
                <a:ext cx="13644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4289-5C4F-4205-A32A-C7D885927050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44;&#1088;&#1077;&#1074;&#1085;&#1077;&#1075;&#1088;&#1077;&#1095;&#1077;&#1089;&#1082;&#1080;&#1081;_&#1103;&#1079;&#1099;&#1082;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9800" y="3306600"/>
            <a:ext cx="71164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009800" y="4776840"/>
            <a:ext cx="71164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3" name="Picture 2" descr="ÐÐ°ÑÑÐ¸Ð½ÐºÐ¸ Ð¿Ð¾ Ð·Ð°Ð¿ÑÐ¾ÑÑ Ð´Ð¾Ð±ÑÐ¾Ðµ ÑÑÑÐ¾ ÐºÐ°ÑÑÐ¸Ð½ÐºÐ°"/>
          <p:cNvPicPr/>
          <p:nvPr/>
        </p:nvPicPr>
        <p:blipFill>
          <a:blip r:embed="rId1"/>
          <a:stretch/>
        </p:blipFill>
        <p:spPr>
          <a:xfrm>
            <a:off x="-422280" y="19080"/>
            <a:ext cx="956628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Ориентир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- предмет, по которому ориентируются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Пираты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- это морские разбойники, грабящие корабли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Портоланы-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 специальные карты, на которых были нанесены населённые пункты и береговая линия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82" name="Picture 2" descr="ÐÐ°ÑÑÐ¸Ð½ÐºÐ¸ Ð¿Ð¾ Ð·Ð°Ð¿ÑÐ¾ÑÑ Ð³ÐµÐ¾Ð³ÑÐ°ÑÐ¸ÑÐµÑÐºÐ° ÐºÐ°ÑÑÐ° Ð¼Ð¸ÑÐ° Ñ Ð½Ð°Ð·Ð²Ð°Ð½Ð¸ÐµÐ¼ Ð¼Ð°ÑÐµÑÐ¸ÐºÐ¾Ð² Ð¸ Ð¾ÐºÐµÐ°Ð½Ð¾Ð²"/>
          <p:cNvPicPr/>
          <p:nvPr/>
        </p:nvPicPr>
        <p:blipFill>
          <a:blip r:embed="rId1"/>
          <a:stretch/>
        </p:blipFill>
        <p:spPr>
          <a:xfrm>
            <a:off x="-244440" y="907920"/>
            <a:ext cx="97534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Ключи к тесту: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1-а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2-б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3-б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4-б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5-а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6-а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7-а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186920" y="765000"/>
            <a:ext cx="712476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Verdana"/>
              </a:rPr>
              <a:t>Домашнее задание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Verdana"/>
              </a:rPr>
              <a:t>Стр.42 задание под звездочкой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Посмотрите на доску и продолжите цепочки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Закончи предложение: 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«На уроке мне ...»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Было интересно 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...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Было не понятно 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...                      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Было легко 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…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331640" y="1125360"/>
            <a:ext cx="712476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marL="294840" indent="-29484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Verdana"/>
              </a:rPr>
              <a:t>Я буду внимателен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Verdana"/>
              </a:rPr>
              <a:t>Я буду старателен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Verdana"/>
              </a:rPr>
              <a:t>Я буду внимателен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Verdana"/>
              </a:rPr>
              <a:t> </a:t>
            </a:r>
            <a:r>
              <a:rPr b="0" lang="ru-RU" sz="2800" spc="-1" strike="noStrike">
                <a:solidFill>
                  <a:srgbClr val="404040"/>
                </a:solidFill>
                <a:latin typeface="Verdana"/>
              </a:rPr>
              <a:t>Я буду старателен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Verdana"/>
              </a:rPr>
              <a:t>Я буду трудолюбив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Verdana"/>
              </a:rPr>
              <a:t>Я буду доброжелателен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Verdana"/>
              </a:rPr>
              <a:t>Я буду активен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Verdana"/>
              </a:rPr>
              <a:t>Я буду успешен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300" spc="-1" strike="noStrike">
                <a:solidFill>
                  <a:srgbClr val="404040"/>
                </a:solidFill>
                <a:latin typeface="Verdana"/>
              </a:rPr>
              <a:t>«На нашей планете- сплошная вода» -</a:t>
            </a:r>
            <a:endParaRPr b="0" lang="en-US" sz="33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300" spc="-1" strike="noStrike">
                <a:solidFill>
                  <a:srgbClr val="404040"/>
                </a:solidFill>
                <a:latin typeface="Verdana"/>
              </a:rPr>
              <a:t>Так думаю я иногда.</a:t>
            </a:r>
            <a:endParaRPr b="0" lang="en-US" sz="33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300" spc="-1" strike="noStrike">
                <a:solidFill>
                  <a:srgbClr val="404040"/>
                </a:solidFill>
                <a:latin typeface="Verdana"/>
              </a:rPr>
              <a:t>Ведь это не суша с морями внутри,</a:t>
            </a:r>
            <a:endParaRPr b="0" lang="en-US" sz="33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300" spc="-1" strike="noStrike">
                <a:solidFill>
                  <a:srgbClr val="404040"/>
                </a:solidFill>
                <a:latin typeface="Verdana"/>
              </a:rPr>
              <a:t>А Мировой океан- посмотри</a:t>
            </a:r>
            <a:endParaRPr b="0" lang="en-US" sz="33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300" spc="-1" strike="noStrike">
                <a:solidFill>
                  <a:srgbClr val="404040"/>
                </a:solidFill>
                <a:latin typeface="Verdana"/>
              </a:rPr>
              <a:t>На карту с материками.</a:t>
            </a:r>
            <a:endParaRPr b="0" lang="en-US" sz="33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971280" y="1125360"/>
            <a:ext cx="712476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Verdana"/>
              </a:rPr>
              <a:t>Цели урока: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Verdana"/>
              </a:rPr>
              <a:t>- узнать, что такое "материк" и "океаны"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Verdana"/>
              </a:rPr>
              <a:t>познакомиться с материками и океанами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Verdana"/>
              </a:rPr>
              <a:t>познакомиться с первооткрывателями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8" name="Picture 2" descr="ÐÐ°ÑÑÐ¸Ð½ÐºÐ¸ Ð¿Ð¾ Ð·Ð°Ð¿ÑÐ¾ÑÑ Ð³Ð»Ð¾Ð±ÑÑ"/>
          <p:cNvPicPr/>
          <p:nvPr/>
        </p:nvPicPr>
        <p:blipFill>
          <a:blip r:embed="rId1"/>
          <a:stretch/>
        </p:blipFill>
        <p:spPr>
          <a:xfrm>
            <a:off x="324000" y="115920"/>
            <a:ext cx="4248000" cy="4249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ÐÐ°ÑÑÐ¸Ð½ÐºÐ¸ Ð¿Ð¾ Ð·Ð°Ð¿ÑÐ¾ÑÑ Ð³ÐµÐ¾Ð³ÑÐ°ÑÐ¸ÑÐµÑÐºÐ°Ñ ÐºÐ°ÑÑÐ°"/>
          <p:cNvPicPr/>
          <p:nvPr/>
        </p:nvPicPr>
        <p:blipFill>
          <a:blip r:embed="rId2"/>
          <a:stretch/>
        </p:blipFill>
        <p:spPr>
          <a:xfrm>
            <a:off x="3276720" y="2852640"/>
            <a:ext cx="57610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404040"/>
                </a:solidFill>
                <a:latin typeface="Verdana"/>
              </a:rPr>
              <a:t>Геогра́фия</a:t>
            </a:r>
            <a:r>
              <a:rPr b="0" lang="ru-RU" sz="3300" spc="-1" strike="noStrike">
                <a:solidFill>
                  <a:srgbClr val="404040"/>
                </a:solidFill>
                <a:latin typeface="Verdana"/>
              </a:rPr>
              <a:t> (</a:t>
            </a:r>
            <a:r>
              <a:rPr b="0" lang="ru-RU" sz="3300" spc="-1" strike="noStrike" u="sng">
                <a:solidFill>
                  <a:srgbClr val="408080"/>
                </a:solidFill>
                <a:uFillTx/>
                <a:latin typeface="Verdana"/>
                <a:hlinkClick r:id="rId1"/>
              </a:rPr>
              <a:t>др.-греч.</a:t>
            </a:r>
            <a:r>
              <a:rPr b="0" lang="ru-RU" sz="3300" spc="-1" strike="noStrike">
                <a:solidFill>
                  <a:srgbClr val="404040"/>
                </a:solidFill>
                <a:latin typeface="Verdana"/>
              </a:rPr>
              <a:t> γεωγραφία «землеописание») наука, изучающая поверхность земли с её природными условиями, распределение на ней населения, экономических ресурсов.</a:t>
            </a:r>
            <a:endParaRPr b="0" lang="en-US" sz="33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09800" y="4652640"/>
            <a:ext cx="7124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404040"/>
                </a:solidFill>
                <a:latin typeface="Verdana"/>
              </a:rPr>
              <a:t>Христофор Колумб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73" name="Picture 2" descr="ÐÐ°ÑÑÐ¸Ð½ÐºÐ¸ Ð¿Ð¾ Ð·Ð°Ð¿ÑÐ¾ÑÑ ÑÑÐ¸ÑÑÐ¾ÑÐ¾Ñ ÐºÐ¾Ð»ÑÐ¼Ð±"/>
          <p:cNvPicPr/>
          <p:nvPr/>
        </p:nvPicPr>
        <p:blipFill>
          <a:blip r:embed="rId1"/>
          <a:stretch/>
        </p:blipFill>
        <p:spPr>
          <a:xfrm>
            <a:off x="1258920" y="407880"/>
            <a:ext cx="62863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042560" y="5300640"/>
            <a:ext cx="71262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Verdana"/>
              </a:rPr>
              <a:t>Фернан Магеллан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76" name="Picture 2" descr="ÐÐ°ÑÑÐ¸Ð½ÐºÐ¸ Ð¿Ð¾ Ð·Ð°Ð¿ÑÐ¾ÑÑ ÑÐµÑÐ½Ð°Ð½ Ð¼Ð°Ð³ÐµÐ»Ð»Ð°Ð½"/>
          <p:cNvPicPr/>
          <p:nvPr/>
        </p:nvPicPr>
        <p:blipFill>
          <a:blip r:embed="rId1"/>
          <a:stretch/>
        </p:blipFill>
        <p:spPr>
          <a:xfrm>
            <a:off x="611280" y="260280"/>
            <a:ext cx="761976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763280" y="4581000"/>
            <a:ext cx="7124760" cy="19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404040"/>
                </a:solidFill>
                <a:latin typeface="Verdana"/>
              </a:rPr>
              <a:t>Джеймс Кук</a:t>
            </a:r>
            <a:endParaRPr b="0" lang="en-US" sz="5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79" name="Picture 2" descr="ÐÐ°ÑÑÐ¸Ð½ÐºÐ¸ Ð¿Ð¾ Ð·Ð°Ð¿ÑÐ¾ÑÑ Ð´Ð¶ÐµÐ¹Ð¼Ñ ÐºÑÐº"/>
          <p:cNvPicPr/>
          <p:nvPr/>
        </p:nvPicPr>
        <p:blipFill>
          <a:blip r:embed="rId1"/>
          <a:stretch/>
        </p:blipFill>
        <p:spPr>
          <a:xfrm>
            <a:off x="2411280" y="476280"/>
            <a:ext cx="3691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1T16:55:28Z</dcterms:created>
  <dc:creator>Андрей</dc:creator>
  <dc:description/>
  <dc:language>en-US</dc:language>
  <cp:lastModifiedBy>Андрей</cp:lastModifiedBy>
  <dcterms:modified xsi:type="dcterms:W3CDTF">2018-10-01T17:17:29Z</dcterms:modified>
  <cp:revision>3</cp:revision>
  <dc:subject/>
  <dc:title>Презентация PowerPoint</dc:title>
</cp:coreProperties>
</file>