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4349-8FF3-445F-B65F-673E54C3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48D-3055-4620-9640-A491E001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14D-5895-4BFA-A5AB-5D2C7CDD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FF4-78CA-47F3-B3D3-3AEAFBE5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7800-7D8F-4D0F-BE0B-6FAE08AB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3529-C38A-4A7C-B3B6-1D4964BB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A3F0-D4A6-4752-A5C7-02B30DAB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C1EA-BCB3-45F9-9325-6E7138C2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268C-BF7A-4F3F-94B7-93C35C21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22F5-CF42-403D-AF5A-DC0A31C1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74E5-62CB-4012-B6EC-1E7D0BA0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4D3-B616-4057-8904-92407841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6F75-00A1-4639-B9F9-AA9E9A8F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F3AC-FBBB-44B4-9186-BE2D3F58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9E20-98B5-4251-AE68-3E27582D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BEA9-5513-4CFD-8BC9-CFDF7F71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D5FC-26A2-41A0-9CED-0608F845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BA8-D024-472E-98EA-48D16363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237-9368-47DD-BF87-A3844CA0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5C3E-4038-49D8-B142-9472BFF4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D286-CF98-459C-B36E-EE64E763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D794-9968-4D63-B3C4-780E8EA9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216-1F9A-4347-96DB-53BB2E36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4C8B-D667-4B37-B3FE-AA0354B2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965C-39F0-4EA5-A6D5-8376479FB183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57240" y="1424880"/>
              <a:ext cx="1108800" cy="1099080"/>
              <a:chOff x="5457240" y="1424880"/>
              <a:chExt cx="11088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7240" y="1424880"/>
                <a:ext cx="11088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5440" y="1600920"/>
                <a:ext cx="75132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4280" y="1401120"/>
              <a:ext cx="858240" cy="844920"/>
              <a:chOff x="5624280" y="1401120"/>
              <a:chExt cx="85824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4280" y="1401120"/>
                <a:ext cx="85824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6480" y="1540080"/>
                <a:ext cx="57420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68040"/>
              <a:ext cx="631800" cy="626400"/>
              <a:chOff x="5242680" y="1868040"/>
              <a:chExt cx="63180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68040"/>
                <a:ext cx="63180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48160" y="1975680"/>
                <a:ext cx="41652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3600" y="1791360"/>
              <a:ext cx="524520" cy="514080"/>
              <a:chOff x="5403600" y="1791360"/>
              <a:chExt cx="5245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3600" y="1791360"/>
                <a:ext cx="5245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6120" y="1879200"/>
                <a:ext cx="338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1960" cy="289440"/>
              <a:chOff x="4718160" y="2051280"/>
              <a:chExt cx="291960" cy="28944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19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3240" y="210996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5160" y="993600"/>
              <a:ext cx="298080" cy="295200"/>
              <a:chOff x="6095160" y="993600"/>
              <a:chExt cx="29808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5160" y="993600"/>
                <a:ext cx="2980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5280" y="105300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45760" y="1868040"/>
              <a:ext cx="238320" cy="236160"/>
              <a:chOff x="5045760" y="1868040"/>
              <a:chExt cx="23832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45760" y="186804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097600" y="19180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3160" y="1058400"/>
              <a:ext cx="238320" cy="236160"/>
              <a:chOff x="6113160" y="1058400"/>
              <a:chExt cx="238320" cy="23616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3160" y="105840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3200" y="11098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15E9-6D7C-4DC9-8230-3E9FC2A5B6E9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4;&#1088;&#1077;&#1074;&#1085;&#1077;&#1075;&#1088;&#1077;&#1095;&#1077;&#1089;&#1082;&#1080;&#1081;_&#1103;&#1079;&#1099;&#1082;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330660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3" name="Picture 2" descr="ÐÐ°ÑÑÐ¸Ð½ÐºÐ¸ Ð¿Ð¾ Ð·Ð°Ð¿ÑÐ¾ÑÑ Ð´Ð¾Ð±ÑÐ¾Ðµ ÑÑÑÐ¾ ÐºÐ°ÑÑÐ¸Ð½ÐºÐ°"/>
          <p:cNvPicPr/>
          <p:nvPr/>
        </p:nvPicPr>
        <p:blipFill>
          <a:blip r:embed="rId1"/>
          <a:stretch/>
        </p:blipFill>
        <p:spPr>
          <a:xfrm>
            <a:off x="-422280" y="19080"/>
            <a:ext cx="956628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Ориентир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- предмет, по которому ориентируются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Пираты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- это морские разбойники, грабящие корабли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Портоланы-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специальные карты, на которых были нанесены населённые пункты и береговая линия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2" name="Picture 2" descr="ÐÐ°ÑÑÐ¸Ð½ÐºÐ¸ Ð¿Ð¾ Ð·Ð°Ð¿ÑÐ¾ÑÑ Ð³ÐµÐ¾Ð³ÑÐ°ÑÐ¸ÑÐµÑÐºÐ° ÐºÐ°ÑÑÐ° Ð¼Ð¸ÑÐ° Ñ Ð½Ð°Ð·Ð²Ð°Ð½Ð¸ÐµÐ¼ Ð¼Ð°ÑÐµÑÐ¸ÐºÐ¾Ð² Ð¸ Ð¾ÐºÐµÐ°Ð½Ð¾Ð²"/>
          <p:cNvPicPr/>
          <p:nvPr/>
        </p:nvPicPr>
        <p:blipFill>
          <a:blip r:embed="rId1"/>
          <a:stretch/>
        </p:blipFill>
        <p:spPr>
          <a:xfrm>
            <a:off x="-244440" y="907920"/>
            <a:ext cx="97534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Ключи к тесту: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1-а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2-б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3-б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4-б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5-а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6-а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7-а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186920" y="765000"/>
            <a:ext cx="712476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Verdana"/>
              </a:rPr>
              <a:t>Домашнее задание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Verdana"/>
              </a:rPr>
              <a:t>Стр.42 задание под звездочкой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Посмотрите на доску и продолжите цепочки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Закончи предложение: 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«На уроке мне ...»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Было интересно 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Было не понятно 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...                      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Было легко 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331640" y="1125360"/>
            <a:ext cx="712476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marL="294840" indent="-294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Я буду внимателен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Я буду старателен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Я буду внимателен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 </a:t>
            </a: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Я буду старателен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Я буду трудолюбив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Я буду доброжелателен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Я буду активен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Я буду успешен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Verdana"/>
              </a:rPr>
              <a:t>«На нашей планете- сплошная вода» -</a:t>
            </a:r>
            <a:endParaRPr b="0" lang="en-US" sz="33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Verdana"/>
              </a:rPr>
              <a:t>Так думаю я иногда.</a:t>
            </a:r>
            <a:endParaRPr b="0" lang="en-US" sz="33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Verdana"/>
              </a:rPr>
              <a:t>Ведь это не суша с морями внутри,</a:t>
            </a:r>
            <a:endParaRPr b="0" lang="en-US" sz="33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Verdana"/>
              </a:rPr>
              <a:t>А Мировой океан- посмотри</a:t>
            </a:r>
            <a:endParaRPr b="0" lang="en-US" sz="33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Verdana"/>
              </a:rPr>
              <a:t>На карту с материками.</a:t>
            </a:r>
            <a:endParaRPr b="0" lang="en-US" sz="33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71280" y="1125360"/>
            <a:ext cx="712476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Цели урока: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- узнать, что такое "материк" и "океаны"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познакомиться с материками и океанами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познакомиться с первооткрывателями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8" name="Picture 2" descr="ÐÐ°ÑÑÐ¸Ð½ÐºÐ¸ Ð¿Ð¾ Ð·Ð°Ð¿ÑÐ¾ÑÑ Ð³Ð»Ð¾Ð±ÑÑ"/>
          <p:cNvPicPr/>
          <p:nvPr/>
        </p:nvPicPr>
        <p:blipFill>
          <a:blip r:embed="rId1"/>
          <a:stretch/>
        </p:blipFill>
        <p:spPr>
          <a:xfrm>
            <a:off x="324000" y="115920"/>
            <a:ext cx="4248000" cy="4249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ÐÐ°ÑÑÐ¸Ð½ÐºÐ¸ Ð¿Ð¾ Ð·Ð°Ð¿ÑÐ¾ÑÑ Ð³ÐµÐ¾Ð³ÑÐ°ÑÐ¸ÑÐµÑÐºÐ°Ñ ÐºÐ°ÑÑÐ°"/>
          <p:cNvPicPr/>
          <p:nvPr/>
        </p:nvPicPr>
        <p:blipFill>
          <a:blip r:embed="rId2"/>
          <a:stretch/>
        </p:blipFill>
        <p:spPr>
          <a:xfrm>
            <a:off x="3276720" y="2852640"/>
            <a:ext cx="5761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404040"/>
                </a:solidFill>
                <a:latin typeface="Verdana"/>
              </a:rPr>
              <a:t>Геогра́фия</a:t>
            </a:r>
            <a:r>
              <a:rPr b="0" lang="ru-RU" sz="3300" spc="-1" strike="noStrike">
                <a:solidFill>
                  <a:srgbClr val="404040"/>
                </a:solidFill>
                <a:latin typeface="Verdana"/>
              </a:rPr>
              <a:t> (</a:t>
            </a:r>
            <a:r>
              <a:rPr b="0" lang="ru-RU" sz="3300" spc="-1" strike="noStrike" u="sng">
                <a:solidFill>
                  <a:srgbClr val="408080"/>
                </a:solidFill>
                <a:uFillTx/>
                <a:latin typeface="Verdana"/>
                <a:hlinkClick r:id="rId1"/>
              </a:rPr>
              <a:t>др.-греч.</a:t>
            </a:r>
            <a:r>
              <a:rPr b="0" lang="ru-RU" sz="3300" spc="-1" strike="noStrike">
                <a:solidFill>
                  <a:srgbClr val="404040"/>
                </a:solidFill>
                <a:latin typeface="Verdana"/>
              </a:rPr>
              <a:t> γεωγραφία «землеописание») наука, изучающая поверхность земли с её природными условиями, распределение на ней населения, экономических ресурсов.</a:t>
            </a:r>
            <a:endParaRPr b="0" lang="en-US" sz="33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09800" y="4652640"/>
            <a:ext cx="7124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Verdana"/>
              </a:rPr>
              <a:t>Христофор Колумб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3" name="Picture 2" descr="ÐÐ°ÑÑÐ¸Ð½ÐºÐ¸ Ð¿Ð¾ Ð·Ð°Ð¿ÑÐ¾ÑÑ ÑÑÐ¸ÑÑÐ¾ÑÐ¾Ñ ÐºÐ¾Ð»ÑÐ¼Ð±"/>
          <p:cNvPicPr/>
          <p:nvPr/>
        </p:nvPicPr>
        <p:blipFill>
          <a:blip r:embed="rId1"/>
          <a:stretch/>
        </p:blipFill>
        <p:spPr>
          <a:xfrm>
            <a:off x="1258920" y="407880"/>
            <a:ext cx="62863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42560" y="5300640"/>
            <a:ext cx="71262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Фернан Магеллан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6" name="Picture 2" descr="ÐÐ°ÑÑÐ¸Ð½ÐºÐ¸ Ð¿Ð¾ Ð·Ð°Ð¿ÑÐ¾ÑÑ ÑÐµÑÐ½Ð°Ð½ Ð¼Ð°Ð³ÐµÐ»Ð»Ð°Ð½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63280" y="4581000"/>
            <a:ext cx="7124760" cy="19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404040"/>
                </a:solidFill>
                <a:latin typeface="Verdana"/>
              </a:rPr>
              <a:t>Джеймс Кук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9" name="Picture 2" descr="ÐÐ°ÑÑÐ¸Ð½ÐºÐ¸ Ð¿Ð¾ Ð·Ð°Ð¿ÑÐ¾ÑÑ Ð´Ð¶ÐµÐ¹Ð¼Ñ ÐºÑÐº"/>
          <p:cNvPicPr/>
          <p:nvPr/>
        </p:nvPicPr>
        <p:blipFill>
          <a:blip r:embed="rId1"/>
          <a:stretch/>
        </p:blipFill>
        <p:spPr>
          <a:xfrm>
            <a:off x="2411280" y="476280"/>
            <a:ext cx="3691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1T16:55:28Z</dcterms:created>
  <dc:creator>Андрей</dc:creator>
  <dc:description/>
  <dc:language>en-US</dc:language>
  <cp:lastModifiedBy>Андрей</cp:lastModifiedBy>
  <dcterms:modified xsi:type="dcterms:W3CDTF">2018-10-01T17:17:29Z</dcterms:modified>
  <cp:revision>3</cp:revision>
  <dc:subject/>
  <dc:title>Презентация PowerPoint</dc:title>
</cp:coreProperties>
</file>