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101-66B8-48C8-84C5-19D8529F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436-768E-434B-8E45-6EFB0403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BF9-B480-4EDD-BAFC-B2C3481B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7F2-8FB5-4908-8338-9305140F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DB0-1FB9-4238-A659-06446BA9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368-6E1C-4FDB-9CD4-121ABAD6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F5D-7015-4824-BC02-3DA2E27E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9C4-DCBA-4D3D-BE64-23CB361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D39-B016-4FB9-AFC9-68DCDED1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FDF-DCD2-4CFA-9C3F-6C4991EA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669-C8B0-4B09-BB54-46393B7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0F1-0B88-49F9-8654-30AA8C70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F8A8-2B9B-4B3B-97D2-E21B6132A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8000" y="291240"/>
            <a:ext cx="87850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Множественное число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oll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ol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clas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cla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s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brus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bru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s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свистящих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пящих букв окончание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toma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tomat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буквы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ончание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la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d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la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d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огласная буква +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t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o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t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o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ласная буква +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lea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lea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li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li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дние буквы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f /f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зменяют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child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children,   foot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tooth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teeth,  woma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ma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men,    mouse - 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50920" y="260280"/>
          <a:ext cx="8496360" cy="626436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7384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[s]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[z]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[iz]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9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</a:t>
                      </a:r>
                      <a:r>
                        <a:rPr b="1" lang="en-US" sz="4800" spc="-1" strike="noStrike">
                          <a:solidFill>
                            <a:srgbClr val="984807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1" lang="en-US" sz="4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e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a</a:t>
                      </a:r>
                      <a:r>
                        <a:rPr b="1" lang="en-US" sz="4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ss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ru</a:t>
                      </a:r>
                      <a:r>
                        <a:rPr b="1" lang="en-US" sz="4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sh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3:28:44Z</dcterms:created>
  <dc:creator>NTUES</dc:creator>
  <dc:description/>
  <dc:language>en-US</dc:language>
  <cp:lastModifiedBy>WinXP_OEM_Rus</cp:lastModifiedBy>
  <dcterms:modified xsi:type="dcterms:W3CDTF">2012-11-09T16:18:30Z</dcterms:modified>
  <cp:revision>16</cp:revision>
  <dc:subject/>
  <dc:title>Слайд 1</dc:title>
</cp:coreProperties>
</file>