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1B3-7F87-47CD-B7F7-7983258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8DF-31B8-411D-9815-9A11022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A5E-5BF9-4FAF-A929-993779F3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938-E975-49DE-92FF-DCA17F6B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6A2-5B51-4EEF-BF53-6CEA3E8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DC4-3100-453C-A050-669AF3E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A48-2AFF-43A2-B13F-DE5DA64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7CD-47C8-434B-B82D-BA62F456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430-33DA-4739-929B-D83AD910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7A-6D74-48BF-BDF2-136C0C7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120-5E83-409D-9DB0-4BCDC14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555-BD01-4EB9-95A6-3B352F2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433-3898-42FF-8A54-5171D8AD1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8000" y="291240"/>
            <a:ext cx="87850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Множественное число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oll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ol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clas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cl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s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bru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bru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s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свистящи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ящих букв окончание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toma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toma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букв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ончание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la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a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огласная буква 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ласная буква 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le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e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li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i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ние буквы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f /f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меняю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child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children,   foot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tooth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teeth,  woma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ma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men,    mouse -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260280"/>
          <a:ext cx="8496360" cy="626436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738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s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z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iz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9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</a:t>
                      </a:r>
                      <a:r>
                        <a:rPr b="1" lang="en-US" sz="4800" spc="-1" strike="noStrike">
                          <a:solidFill>
                            <a:srgbClr val="984807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lang="en-US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e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a</a:t>
                      </a:r>
                      <a:r>
                        <a:rPr b="1" lang="en-US" sz="4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s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u</a:t>
                      </a:r>
                      <a:r>
                        <a:rPr b="1" lang="en-US" sz="4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h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3:28:44Z</dcterms:created>
  <dc:creator>NTUES</dc:creator>
  <dc:description/>
  <dc:language>en-US</dc:language>
  <cp:lastModifiedBy>WinXP_OEM_Rus</cp:lastModifiedBy>
  <dcterms:modified xsi:type="dcterms:W3CDTF">2012-11-09T16:18:30Z</dcterms:modified>
  <cp:revision>16</cp:revision>
  <dc:subject/>
  <dc:title>Слайд 1</dc:title>
</cp:coreProperties>
</file>