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ED2-9CA1-45D5-A800-39571DC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B1-97BF-41B3-8F25-5DEF0E6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7EB-3151-48C5-926C-CACADFFC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7FE-4FBA-411B-9EAD-C3A930FF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366-43AF-4F23-B728-CFF345C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229-F2B1-4D92-840A-7F506A7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D11-28BF-4489-A738-5045508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17D-4511-43C0-B1D7-308EB041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A39-C830-47D1-A67D-6AF51CF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7D8-E7AB-4584-B7E0-3DED25E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EB5-2467-41C0-9AA2-A30A1C4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155-B621-45AF-9734-46B11C4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89F-34C0-4CC2-8786-D80AF90FD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0840" y="216000"/>
            <a:ext cx="75708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365040" y="831960"/>
            <a:ext cx="8315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06520" y="39384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одель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сихолого-педагогического сопровождения  образовательного  процесса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рамках внедрения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ФГОС 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Администратор\Desktop\resurs_yandex3.png"/>
          <p:cNvPicPr/>
          <p:nvPr/>
        </p:nvPicPr>
        <p:blipFill>
          <a:blip r:embed="rId1"/>
          <a:stretch/>
        </p:blipFill>
        <p:spPr>
          <a:xfrm>
            <a:off x="4121280" y="3573360"/>
            <a:ext cx="4079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0880" y="915480"/>
            <a:ext cx="776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Формы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сихолого-педагогического сопровождения в рамках введения</a:t>
            </a:r>
            <a:br>
              <a:rPr sz="2800"/>
            </a:b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 ФГОС ООО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2204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бота с обучающими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дение мониторинговых исследований, направленных на диагностику межпредметных и личност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иагностика личностного развития обучаю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социально дезадаптированными учениками и индивидуальные консультации одаренных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дение тренингов, направленных на развитие коммуникативных навы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фориентационн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провождение учащихся в рам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готовки и сдачи ГИА и ЕГЭ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fgos_logo"/>
          <p:cNvPicPr/>
          <p:nvPr/>
        </p:nvPicPr>
        <p:blipFill>
          <a:blip r:embed="rId1"/>
          <a:stretch/>
        </p:blipFill>
        <p:spPr>
          <a:xfrm>
            <a:off x="166680" y="200160"/>
            <a:ext cx="96192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Администратор\Desktop\фгос.jpg"/>
          <p:cNvPicPr/>
          <p:nvPr/>
        </p:nvPicPr>
        <p:blipFill>
          <a:blip r:embed="rId2"/>
          <a:stretch/>
        </p:blipFill>
        <p:spPr>
          <a:xfrm>
            <a:off x="6400800" y="4241880"/>
            <a:ext cx="2428920" cy="239868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52080" y="407880"/>
            <a:ext cx="74343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бота с педагогами и другими работниками школ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вышение психологической компетентности учителей (в том числе и в сфере педагогического общ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агностика и профилактика профессионального выгорания (тестирование и проведение тренинговых занят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сультации учителей по результатам диагностики  обучаю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ведение семина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их занятий, лекц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fgos_logo"/>
          <p:cNvPicPr/>
          <p:nvPr/>
        </p:nvPicPr>
        <p:blipFill>
          <a:blip r:embed="rId1"/>
          <a:stretch/>
        </p:blipFill>
        <p:spPr>
          <a:xfrm>
            <a:off x="179280" y="210960"/>
            <a:ext cx="962280" cy="103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41-12"/>
          <p:cNvPicPr/>
          <p:nvPr/>
        </p:nvPicPr>
        <p:blipFill>
          <a:blip r:embed="rId2"/>
          <a:stretch/>
        </p:blipFill>
        <p:spPr>
          <a:xfrm>
            <a:off x="6837480" y="4127400"/>
            <a:ext cx="2039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11320" y="385560"/>
            <a:ext cx="771192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абота с родителям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формирование родителей обучающихся относительно психологических особенностей ФГОС и возрастных особенностях обучающихся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работка рекомендаций родителям по вопросам адаптации ребенка к школ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агностика стилей семейного воспитания (отношений в семь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сультации по результатам диагностик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вместные тренинги по развитию навыков общения, сотрудничества, разрешения конфликтов, в которых принимают участие как родители, так и дети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fgos_logo"/>
          <p:cNvPicPr/>
          <p:nvPr/>
        </p:nvPicPr>
        <p:blipFill>
          <a:blip r:embed="rId1"/>
          <a:stretch/>
        </p:blipFill>
        <p:spPr>
          <a:xfrm>
            <a:off x="193680" y="227160"/>
            <a:ext cx="961920" cy="103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J0309713"/>
          <p:cNvPicPr/>
          <p:nvPr/>
        </p:nvPicPr>
        <p:blipFill>
          <a:blip r:embed="rId2"/>
          <a:stretch/>
        </p:blipFill>
        <p:spPr>
          <a:xfrm>
            <a:off x="6102360" y="4950000"/>
            <a:ext cx="17193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пользуемые программы для реализации психологического сопровождения внедрения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овых федеральных государственных образовательных стандар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5640" y="19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занятий для учащихся 5-х классов «Развитие сплоченности школьного колл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илятивная коррекционная программа «Снижение уровня тревожности у учащихся 5-х клас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о-развивающие занятия с пятиклассниками. Тема: «Школьные страх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сихолого-педагогического сопровождения «На тропе доверия» для учащихся 6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fgos_logo"/>
          <p:cNvPicPr/>
          <p:nvPr/>
        </p:nvPicPr>
        <p:blipFill>
          <a:blip r:embed="rId1"/>
          <a:stretch/>
        </p:blipFill>
        <p:spPr>
          <a:xfrm>
            <a:off x="192240" y="923760"/>
            <a:ext cx="8902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8640" y="703080"/>
            <a:ext cx="790560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психолого - педагогического сопровождения «Наедине с собою» для учащихся 6-7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психолого-педагогического сопровождения элективных курсов 8- 9-х классов «Твоя профессиональная карь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 «Развитие сплоченности школьного коллекти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«Одаренные де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gos_logo"/>
          <p:cNvPicPr/>
          <p:nvPr/>
        </p:nvPicPr>
        <p:blipFill>
          <a:blip r:embed="rId1"/>
          <a:stretch/>
        </p:blipFill>
        <p:spPr>
          <a:xfrm>
            <a:off x="235080" y="185760"/>
            <a:ext cx="9619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4720" y="76644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жидаемые результаты внедрения психологического сопровождения  в рамках введения ФГОС ООО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2360" y="1874520"/>
            <a:ext cx="85852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чное развитие учащихся, способных к дальнейшему развитию своего личностного, физического, интеллектуального и других потенц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адаптация учащихся в учебно воспит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адаптация и социализация выпускников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ониторинга психологического статуса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психологического сопровождения по организации психологически безопасно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fgos_logo"/>
          <p:cNvPicPr/>
          <p:nvPr/>
        </p:nvPicPr>
        <p:blipFill>
          <a:blip r:embed="rId1"/>
          <a:stretch/>
        </p:blipFill>
        <p:spPr>
          <a:xfrm>
            <a:off x="304920" y="18252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9080" y="32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дель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сихолого-педагогического сопровождения  образовательного  процесса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рамках внедрения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ФГОС 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Администратор\Desktop\resurs_yandex3.png"/>
          <p:cNvPicPr/>
          <p:nvPr/>
        </p:nvPicPr>
        <p:blipFill>
          <a:blip r:embed="rId1"/>
          <a:stretch/>
        </p:blipFill>
        <p:spPr>
          <a:xfrm>
            <a:off x="4529160" y="3376440"/>
            <a:ext cx="4079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fgos_logo"/>
          <p:cNvPicPr/>
          <p:nvPr/>
        </p:nvPicPr>
        <p:blipFill>
          <a:blip r:embed="rId1"/>
          <a:stretch/>
        </p:blipFill>
        <p:spPr>
          <a:xfrm>
            <a:off x="195120" y="163440"/>
            <a:ext cx="99216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Схема 2" descr=""/>
          <p:cNvPicPr/>
          <p:nvPr/>
        </p:nvPicPr>
        <p:blipFill>
          <a:blip r:embed="rId2"/>
          <a:stretch/>
        </p:blipFill>
        <p:spPr>
          <a:xfrm>
            <a:off x="554040" y="835200"/>
            <a:ext cx="8248680" cy="5284440"/>
          </a:xfrm>
          <a:prstGeom prst="rect">
            <a:avLst/>
          </a:prstGeom>
          <a:ln w="0">
            <a:noFill/>
          </a:ln>
        </p:spPr>
      </p:pic>
      <p:sp>
        <p:nvSpPr>
          <p:cNvPr id="47" name="Line 6"/>
          <p:cNvSpPr/>
          <p:nvPr/>
        </p:nvSpPr>
        <p:spPr>
          <a:xfrm>
            <a:off x="4662360" y="4375080"/>
            <a:ext cx="0" cy="1050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3846600" y="5041800"/>
            <a:ext cx="1666800" cy="140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д. работ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74320"/>
            <a:ext cx="78613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Принципы модели </a:t>
            </a:r>
            <a:br>
              <a:rPr sz="4000"/>
            </a:b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психолого-педагогического сопровож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3200" y="19954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уч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использование научно обоснованных и апробированных в педагогической практике технологий и методик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стем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организация системы работы со всеми участниками образовательного процес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плекс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деятельность различных специалистов, всех участников учебно-воспитательного процесса в решении задач сопровождения: классных руководителей, учителей, педагога-психолога, социального педагога, логопеда, администрац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fgos_logo"/>
          <p:cNvPicPr/>
          <p:nvPr/>
        </p:nvPicPr>
        <p:blipFill>
          <a:blip r:embed="rId1"/>
          <a:stretch/>
        </p:blipFill>
        <p:spPr>
          <a:xfrm>
            <a:off x="166680" y="0"/>
            <a:ext cx="976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7920" y="588600"/>
            <a:ext cx="777888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евенти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ерехода от принципа «скорой помощи» (реагирования на уже возникшие проблемы) к предупреждению возникновения проблемных ситуаций;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крытость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оследовательное использование ресурсов сетевого взаимодействия и социального партнёрства, открытость мероприятий для педагогических и руководящих работников ОУ;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хнолог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  использование современных технологий, интерактивной стратеги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fgos_logo"/>
          <p:cNvPicPr/>
          <p:nvPr/>
        </p:nvPicPr>
        <p:blipFill>
          <a:blip r:embed="rId1"/>
          <a:stretch/>
        </p:blipFill>
        <p:spPr>
          <a:xfrm>
            <a:off x="166680" y="233280"/>
            <a:ext cx="976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8840" y="1913040"/>
            <a:ext cx="83278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всех уча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овательного процесса на этапе введения ФГОС ОО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196920"/>
            <a:ext cx="37227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3902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4720" y="1068120"/>
            <a:ext cx="78217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рган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сихолого-педагогического сопровождения педагогов, обучающихся, родителей на этапе внедрения ФГОС О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сихолого-педагогической компетентности (психологической культуры) обучающихся, родителей, педагог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емственности в психологическом сопровождении формирования УУД у обучающихся  младшего школьного возраста и обучающихся основной школ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fgos_logo"/>
          <p:cNvPicPr/>
          <p:nvPr/>
        </p:nvPicPr>
        <p:blipFill>
          <a:blip r:embed="rId1"/>
          <a:stretch/>
        </p:blipFill>
        <p:spPr>
          <a:xfrm>
            <a:off x="247680" y="187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85760"/>
            <a:ext cx="86518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провож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 в условиях основной школы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даптации к новым условиям обучении 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держка в решении задач личностного и ценностно-смыслового самоопределения и саморазвития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мощь в решении проблем социализации: учебные трудности, проблемы с выбором образовательного и профессионального маршрута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жизненных навык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навыков позитивного коммуникативного общения;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филактика нарушения эмоционально-волевой сферы;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мощь в построении конструктивных отношений с родителями и сверстниками; профилактика девиант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профильная  подготовка и профессиональная ориентация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провождение одаренных обучающихся, детей «группы риска», обучающихся, находящихся под опекой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fgos_logo"/>
          <p:cNvPicPr/>
          <p:nvPr/>
        </p:nvPicPr>
        <p:blipFill>
          <a:blip r:embed="rId1"/>
          <a:stretch/>
        </p:blipFill>
        <p:spPr>
          <a:xfrm>
            <a:off x="0" y="5821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6480" y="371160"/>
            <a:ext cx="778032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истематическое отслеж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олого-педагогического статуса ребенка и динамики его психологического развития в процессе школьного обучения, подбор методов и средств оценки сформированности универсальных учебных действ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ыяв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ых образовательных потребностей детей с ограниченными возможностями здоровья, обусловленных недостатками в их физическом и (или) психическом развитии и осуществление индивидуально-ориентированной психолого- медико- педагогической помощи таким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fgos_logo"/>
          <p:cNvPicPr/>
          <p:nvPr/>
        </p:nvPicPr>
        <p:blipFill>
          <a:blip r:embed="rId1"/>
          <a:stretch/>
        </p:blipFill>
        <p:spPr>
          <a:xfrm>
            <a:off x="247680" y="187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1520" y="929880"/>
            <a:ext cx="793116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Основные направления психологического сопровождения обучающихся в рамках введения </a:t>
            </a:r>
            <a:br>
              <a:rPr sz="3200"/>
            </a:b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ФГОС ООО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960" y="2023560"/>
            <a:ext cx="68641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ил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сихологическая 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оррекционно – развивающи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онсультационно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ориентационно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gos_logo"/>
          <p:cNvPicPr/>
          <p:nvPr/>
        </p:nvPicPr>
        <p:blipFill>
          <a:blip r:embed="rId1"/>
          <a:stretch/>
        </p:blipFill>
        <p:spPr>
          <a:xfrm>
            <a:off x="193680" y="187200"/>
            <a:ext cx="961920" cy="103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1672395"/>
          <p:cNvPicPr/>
          <p:nvPr/>
        </p:nvPicPr>
        <p:blipFill>
          <a:blip r:embed="rId2"/>
          <a:stretch/>
        </p:blipFill>
        <p:spPr>
          <a:xfrm>
            <a:off x="7089840" y="2481120"/>
            <a:ext cx="1890720" cy="288000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7:03:35Z</dcterms:created>
  <dc:creator>inf3</dc:creator>
  <dc:description/>
  <dc:language>en-US</dc:language>
  <cp:lastModifiedBy>Зайка</cp:lastModifiedBy>
  <dcterms:modified xsi:type="dcterms:W3CDTF">2015-04-23T17:41:19Z</dcterms:modified>
  <cp:revision>128</cp:revision>
  <dc:subject/>
  <dc:title>Результаты мониторинга личностных результатов учащихся 4-х классов общеобразовательных школ города Ярославля</dc:title>
</cp:coreProperties>
</file>