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6E9F-27B4-4D68-9048-E44CB8C76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0A5C-FC39-4AC1-A887-9C3F7B3E6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BD82-87ED-4DD3-86B7-DAAEA2D58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6530-6816-4DBB-8976-2D4C3664D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37B2-F937-4B22-B92C-941CD8E32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CB63-7CE0-468B-BAB0-700A06BA2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F906-92E8-4254-A276-1F5B874D3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8693-F4DD-4942-B846-75F4A9115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1BE5-3E5A-4D44-B969-768054EEE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50B3-6E3E-439E-9E8A-31AA438AE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74BC-E4EE-4841-AD1F-6554D53C1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6E25-E450-4A90-B498-C6E70E4F1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00045-2CD0-4E06-9009-F81A57A87D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50840" y="216000"/>
            <a:ext cx="7570800" cy="83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0"/>
          <p:cNvSpPr/>
          <p:nvPr/>
        </p:nvSpPr>
        <p:spPr>
          <a:xfrm>
            <a:off x="365040" y="831960"/>
            <a:ext cx="8315280" cy="17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4"/>
          <p:cNvSpPr/>
          <p:nvPr/>
        </p:nvSpPr>
        <p:spPr>
          <a:xfrm>
            <a:off x="506520" y="393840"/>
            <a:ext cx="7358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Модель 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психолого-педагогического сопровождения  образовательного  процесса  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в рамках внедрения 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ФГОС  ОО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C:\Users\Администратор\Desktop\resurs_yandex3.png"/>
          <p:cNvPicPr/>
          <p:nvPr/>
        </p:nvPicPr>
        <p:blipFill>
          <a:blip r:embed="rId1"/>
          <a:stretch/>
        </p:blipFill>
        <p:spPr>
          <a:xfrm>
            <a:off x="4121280" y="3573360"/>
            <a:ext cx="4079880" cy="23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20880" y="915480"/>
            <a:ext cx="776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800000"/>
                </a:solidFill>
                <a:uFillTx/>
                <a:latin typeface="Times New Roman"/>
              </a:rPr>
              <a:t>Формы работы </a:t>
            </a:r>
            <a:br>
              <a:rPr sz="2800"/>
            </a:br>
            <a:r>
              <a:rPr b="1" lang="ru-RU" sz="2800" spc="-1" strike="noStrike" u="sng">
                <a:solidFill>
                  <a:srgbClr val="800000"/>
                </a:solidFill>
                <a:uFillTx/>
                <a:latin typeface="Times New Roman"/>
              </a:rPr>
              <a:t>психолого-педагогического сопровождения в рамках введения</a:t>
            </a:r>
            <a:br>
              <a:rPr sz="2800"/>
            </a:br>
            <a:r>
              <a:rPr b="1" lang="ru-RU" sz="2800" spc="-1" strike="noStrike" u="sng">
                <a:solidFill>
                  <a:srgbClr val="800000"/>
                </a:solidFill>
                <a:uFillTx/>
                <a:latin typeface="Times New Roman"/>
              </a:rPr>
              <a:t> ФГОС ООО.</a:t>
            </a: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22040"/>
            <a:ext cx="8229600" cy="46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Работа с обучающими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проведение мониторинговых исследований, направленных на диагностику межпредметных и личностных результат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диагностика личностного развития обучающихс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работа с социально дезадаптированными учениками и индивидуальные консультации одаренных дете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проведение тренингов, направленных на развитие коммуникативных навыков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профориентационная работ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сопровождение учащихся в рамк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                 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подготовки и сдачи ГИА и ЕГЭ.</a:t>
            </a:r>
            <a:br>
              <a:rPr sz="2000"/>
            </a:b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9" descr="fgos_logo"/>
          <p:cNvPicPr/>
          <p:nvPr/>
        </p:nvPicPr>
        <p:blipFill>
          <a:blip r:embed="rId1"/>
          <a:stretch/>
        </p:blipFill>
        <p:spPr>
          <a:xfrm>
            <a:off x="166680" y="200160"/>
            <a:ext cx="961920" cy="1036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C:\Users\Администратор\Desktop\фгос.jpg"/>
          <p:cNvPicPr/>
          <p:nvPr/>
        </p:nvPicPr>
        <p:blipFill>
          <a:blip r:embed="rId2"/>
          <a:stretch/>
        </p:blipFill>
        <p:spPr>
          <a:xfrm>
            <a:off x="6400800" y="4241880"/>
            <a:ext cx="2428920" cy="2398680"/>
          </a:xfrm>
          <a:prstGeom prst="rect">
            <a:avLst/>
          </a:prstGeom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1252080" y="407880"/>
            <a:ext cx="7434360" cy="571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Работа с педагогами и другими работниками школы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овышение психологической компетентности учителей (в том числе и в сфере педагогического общения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диагностика и профилактика профессионального выгорания (тестирование и проведение тренинговых занятий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консультации учителей по результатам диагностики  обучающихс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роведение семинаро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рактических занятий, лекций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9" descr="fgos_logo"/>
          <p:cNvPicPr/>
          <p:nvPr/>
        </p:nvPicPr>
        <p:blipFill>
          <a:blip r:embed="rId1"/>
          <a:stretch/>
        </p:blipFill>
        <p:spPr>
          <a:xfrm>
            <a:off x="179280" y="210960"/>
            <a:ext cx="962280" cy="1036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C41-12"/>
          <p:cNvPicPr/>
          <p:nvPr/>
        </p:nvPicPr>
        <p:blipFill>
          <a:blip r:embed="rId2"/>
          <a:stretch/>
        </p:blipFill>
        <p:spPr>
          <a:xfrm>
            <a:off x="6837480" y="4127400"/>
            <a:ext cx="203976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1111320" y="385560"/>
            <a:ext cx="7711920" cy="57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Работа с родителями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информирование родителей обучающихся относительно психологических особенностей ФГОС и возрастных особенностях обучающихся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выработка рекомендаций родителям по вопросам адаптации ребенка к школ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диагностика стилей семейного воспитания (отношений в семье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консультации по результатам диагностики дете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совместные тренинги по развитию навыков общения, сотрудничества, разрешения конфликтов, в которых принимают участие как родители, так и дети.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9" descr="fgos_logo"/>
          <p:cNvPicPr/>
          <p:nvPr/>
        </p:nvPicPr>
        <p:blipFill>
          <a:blip r:embed="rId1"/>
          <a:stretch/>
        </p:blipFill>
        <p:spPr>
          <a:xfrm>
            <a:off x="193680" y="227160"/>
            <a:ext cx="961920" cy="10364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J0309713"/>
          <p:cNvPicPr/>
          <p:nvPr/>
        </p:nvPicPr>
        <p:blipFill>
          <a:blip r:embed="rId2"/>
          <a:stretch/>
        </p:blipFill>
        <p:spPr>
          <a:xfrm>
            <a:off x="6102360" y="4950000"/>
            <a:ext cx="1719360" cy="17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1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Используемые программы для реализации психологического сопровождения внедрения </a:t>
            </a:r>
            <a:br>
              <a:rPr sz="2800"/>
            </a:b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новых федеральных государственных образовательных стандарт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85640" y="1965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икл занятий для учащихся 5-х классов «Развитие сплоченности школьного коллектив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илятивная коррекционная программа «Снижение уровня тревожности у учащихся 5-х классов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ррекционно-развивающие занятия с пятиклассниками. Тема: «Школьные страх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а психолого-педагогического сопровождения «На тропе доверия» для учащихся 6-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9" descr="fgos_logo"/>
          <p:cNvPicPr/>
          <p:nvPr/>
        </p:nvPicPr>
        <p:blipFill>
          <a:blip r:embed="rId1"/>
          <a:stretch/>
        </p:blipFill>
        <p:spPr>
          <a:xfrm>
            <a:off x="192240" y="923760"/>
            <a:ext cx="890280" cy="9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998640" y="703080"/>
            <a:ext cx="7905600" cy="54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грамма психолого - педагогического сопровождения «Наедине с собою» для учащихся 6-7-х клас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грамма психолого-педагогического сопровождения элективных курсов 8- 9-х классов «Твоя профессиональная карьер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енинг «Развитие сплоченности школьного коллектив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грамма «Одаренные дет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9" descr="fgos_logo"/>
          <p:cNvPicPr/>
          <p:nvPr/>
        </p:nvPicPr>
        <p:blipFill>
          <a:blip r:embed="rId1"/>
          <a:stretch/>
        </p:blipFill>
        <p:spPr>
          <a:xfrm>
            <a:off x="235080" y="185760"/>
            <a:ext cx="961920" cy="103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64720" y="766440"/>
            <a:ext cx="775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Ожидаемые результаты внедрения психологического сопровождения  в рамках введения ФГОС ООО: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52360" y="1874520"/>
            <a:ext cx="8585280" cy="43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рмоничное развитие учащихся, способных к дальнейшему развитию своего личностного, физического, интеллектуального и других потенциа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пешная адаптация учащихся в учебно воспитательном процес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пешная адаптация и социализация выпускников шко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мониторинга психологического статуса школь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системы психологического сопровождения по организации психологически безопасной образовательной сре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fgos_logo"/>
          <p:cNvPicPr/>
          <p:nvPr/>
        </p:nvPicPr>
        <p:blipFill>
          <a:blip r:embed="rId1"/>
          <a:stretch/>
        </p:blipFill>
        <p:spPr>
          <a:xfrm>
            <a:off x="304920" y="182520"/>
            <a:ext cx="961920" cy="10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289080" y="320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Модель 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психолого-педагогического сопровождения  образовательного  процесса  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в рамках внедрения 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ФГОС  ОО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C:\Users\Администратор\Desktop\resurs_yandex3.png"/>
          <p:cNvPicPr/>
          <p:nvPr/>
        </p:nvPicPr>
        <p:blipFill>
          <a:blip r:embed="rId1"/>
          <a:stretch/>
        </p:blipFill>
        <p:spPr>
          <a:xfrm>
            <a:off x="4529160" y="3376440"/>
            <a:ext cx="4079880" cy="23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" descr="fgos_logo"/>
          <p:cNvPicPr/>
          <p:nvPr/>
        </p:nvPicPr>
        <p:blipFill>
          <a:blip r:embed="rId1"/>
          <a:stretch/>
        </p:blipFill>
        <p:spPr>
          <a:xfrm>
            <a:off x="195120" y="163440"/>
            <a:ext cx="992160" cy="1189080"/>
          </a:xfrm>
          <a:prstGeom prst="rect">
            <a:avLst/>
          </a:prstGeom>
          <a:ln w="0">
            <a:noFill/>
          </a:ln>
        </p:spPr>
      </p:pic>
      <p:pic>
        <p:nvPicPr>
          <p:cNvPr id="46" name="Схема 2" descr=""/>
          <p:cNvPicPr/>
          <p:nvPr/>
        </p:nvPicPr>
        <p:blipFill>
          <a:blip r:embed="rId2"/>
          <a:stretch/>
        </p:blipFill>
        <p:spPr>
          <a:xfrm>
            <a:off x="554040" y="835200"/>
            <a:ext cx="8248680" cy="5284440"/>
          </a:xfrm>
          <a:prstGeom prst="rect">
            <a:avLst/>
          </a:prstGeom>
          <a:ln w="0">
            <a:noFill/>
          </a:ln>
        </p:spPr>
      </p:pic>
      <p:sp>
        <p:nvSpPr>
          <p:cNvPr id="47" name="Line 6"/>
          <p:cNvSpPr/>
          <p:nvPr/>
        </p:nvSpPr>
        <p:spPr>
          <a:xfrm>
            <a:off x="4662360" y="4375080"/>
            <a:ext cx="0" cy="1050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7"/>
          <p:cNvSpPr/>
          <p:nvPr/>
        </p:nvSpPr>
        <p:spPr>
          <a:xfrm>
            <a:off x="3846600" y="5041800"/>
            <a:ext cx="1666800" cy="14050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Мед. работник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школ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5120" y="274320"/>
            <a:ext cx="7861320" cy="13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800000"/>
                </a:solidFill>
                <a:uFillTx/>
                <a:latin typeface="Arial"/>
              </a:rPr>
              <a:t>Принципы модели </a:t>
            </a:r>
            <a:br>
              <a:rPr sz="4000"/>
            </a:br>
            <a:r>
              <a:rPr b="1" lang="ru-RU" sz="4000" spc="-1" strike="noStrike" u="sng">
                <a:solidFill>
                  <a:srgbClr val="800000"/>
                </a:solidFill>
                <a:uFillTx/>
                <a:latin typeface="Arial"/>
              </a:rPr>
              <a:t>психолого-педагогического сопровожде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03200" y="1995480"/>
            <a:ext cx="8229600" cy="46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научност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использование научно обоснованных и апробированных в педагогической практике технологий и методик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систем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– организация системы работы со всеми участниками образовательного процесса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комплексност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местная деятельность различных специалистов, всех участников учебно-воспитательного процесса в решении задач сопровождения: классных руководителей, учителей, педагога-психолога, социального педагога, логопеда, администрации;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" descr="fgos_logo"/>
          <p:cNvPicPr/>
          <p:nvPr/>
        </p:nvPicPr>
        <p:blipFill>
          <a:blip r:embed="rId1"/>
          <a:stretch/>
        </p:blipFill>
        <p:spPr>
          <a:xfrm>
            <a:off x="166680" y="0"/>
            <a:ext cx="976320" cy="10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907920" y="588600"/>
            <a:ext cx="7778880" cy="55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превентивность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-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еспечение перехода от принципа «скорой помощи» (реагирования на уже возникшие проблемы) к предупреждению возникновения проблемных ситуаций;</a:t>
            </a:r>
            <a:br>
              <a:rPr sz="2800"/>
            </a:b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открытость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последовательное использование ресурсов сетевого взаимодействия и социального партнёрства, открытость мероприятий для педагогических и руководящих работников ОУ;</a:t>
            </a:r>
            <a:br>
              <a:rPr sz="2800"/>
            </a:b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технологичнос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-  использование современных технологий, интерактивной стратегии в работ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9" descr="fgos_logo"/>
          <p:cNvPicPr/>
          <p:nvPr/>
        </p:nvPicPr>
        <p:blipFill>
          <a:blip r:embed="rId1"/>
          <a:stretch/>
        </p:blipFill>
        <p:spPr>
          <a:xfrm>
            <a:off x="166680" y="233280"/>
            <a:ext cx="976320" cy="10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18840" y="1913040"/>
            <a:ext cx="8327880" cy="41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Цель: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сихолого-педагогическое сопровождение всех участ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бразовательного процесса на этапе введения ФГОС ОО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C:\Users\Администратор\Desktop\i.jpg"/>
          <p:cNvPicPr/>
          <p:nvPr/>
        </p:nvPicPr>
        <p:blipFill>
          <a:blip r:embed="rId1"/>
          <a:stretch/>
        </p:blipFill>
        <p:spPr>
          <a:xfrm>
            <a:off x="0" y="196920"/>
            <a:ext cx="372276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193680"/>
            <a:ext cx="3902040" cy="66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00"/>
                </a:solidFill>
                <a:latin typeface="Times New Roman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64720" y="1068120"/>
            <a:ext cx="7821720" cy="54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Организа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сихолого-педагогического сопровождения педагогов, обучающихся, родителей на этапе внедрения ФГОС ОО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Развит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сихолого-педагогической компетентности (психологической культуры) обучающихся, родителей, педагогов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Обеспеч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еемственности в психологическом сопровождении формирования УУД у обучающихся  младшего школьного возраста и обучающихся основной школы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9" descr="fgos_logo"/>
          <p:cNvPicPr/>
          <p:nvPr/>
        </p:nvPicPr>
        <p:blipFill>
          <a:blip r:embed="rId1"/>
          <a:stretch/>
        </p:blipFill>
        <p:spPr>
          <a:xfrm>
            <a:off x="247680" y="187200"/>
            <a:ext cx="961920" cy="10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23640" y="185760"/>
            <a:ext cx="8651880" cy="56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Сопровожд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бучающихся в условиях основной школы: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адаптации к новым условиям обучении ;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оддержка в решении задач личностного и ценностно-смыслового самоопределения и саморазвития;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омощь в решении проблем социализации: учебные трудности, проблемы с выбором образовательного и профессионального маршрута;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формирование жизненных навыков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формирование навыков позитивного коммуникативного общения; 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рофилактика нарушения эмоционально-волевой сферы; 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омощь в построении конструктивных отношений с родителями и сверстниками; профилактика девиантного поведения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редпрофильная  подготовка и профессиональная ориентация;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сопровождение одаренных обучающихся, детей «группы риска», обучающихся, находящихся под опекой.</a:t>
            </a: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9" descr="fgos_logo"/>
          <p:cNvPicPr/>
          <p:nvPr/>
        </p:nvPicPr>
        <p:blipFill>
          <a:blip r:embed="rId1"/>
          <a:stretch/>
        </p:blipFill>
        <p:spPr>
          <a:xfrm>
            <a:off x="0" y="5821200"/>
            <a:ext cx="961920" cy="10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906480" y="371160"/>
            <a:ext cx="7780320" cy="57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Систематическое отслежива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сихолого-педагогического статуса ребенка и динамики его психологического развития в процессе школьного обучения, подбор методов и средств оценки сформированности универсальных учебных действий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Выявле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собых образовательных потребностей детей с ограниченными возможностями здоровья, обусловленных недостатками в их физическом и (или) психическом развитии и осуществление индивидуально-ориентированной психолого- медико- педагогической помощи таким детя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9" descr="fgos_logo"/>
          <p:cNvPicPr/>
          <p:nvPr/>
        </p:nvPicPr>
        <p:blipFill>
          <a:blip r:embed="rId1"/>
          <a:stretch/>
        </p:blipFill>
        <p:spPr>
          <a:xfrm>
            <a:off x="247680" y="187200"/>
            <a:ext cx="961920" cy="10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01520" y="929880"/>
            <a:ext cx="7931160" cy="130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800000"/>
                </a:solidFill>
                <a:uFillTx/>
                <a:latin typeface="Times New Roman"/>
              </a:rPr>
              <a:t>Основные направления психологического сопровождения обучающихся в рамках введения </a:t>
            </a:r>
            <a:br>
              <a:rPr sz="3200"/>
            </a:br>
            <a:r>
              <a:rPr b="1" lang="ru-RU" sz="3200" spc="-1" strike="noStrike" u="sng">
                <a:solidFill>
                  <a:srgbClr val="800000"/>
                </a:solidFill>
                <a:uFillTx/>
                <a:latin typeface="Times New Roman"/>
              </a:rPr>
              <a:t>ФГОС ООО.</a:t>
            </a: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83960" y="2023560"/>
            <a:ext cx="68641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Профилак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Психологическая диагнос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Просвещ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Коррекционно – развивающие напра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Консультационное напра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Профориентационное напра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9" descr="fgos_logo"/>
          <p:cNvPicPr/>
          <p:nvPr/>
        </p:nvPicPr>
        <p:blipFill>
          <a:blip r:embed="rId1"/>
          <a:stretch/>
        </p:blipFill>
        <p:spPr>
          <a:xfrm>
            <a:off x="193680" y="187200"/>
            <a:ext cx="961920" cy="1036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p1672395"/>
          <p:cNvPicPr/>
          <p:nvPr/>
        </p:nvPicPr>
        <p:blipFill>
          <a:blip r:embed="rId2"/>
          <a:stretch/>
        </p:blipFill>
        <p:spPr>
          <a:xfrm>
            <a:off x="7089840" y="2481120"/>
            <a:ext cx="1890720" cy="2880000"/>
          </a:xfrm>
          <a:prstGeom prst="rect">
            <a:avLst/>
          </a:prstGeom>
          <a:ln w="9360">
            <a:solidFill>
              <a:srgbClr val="8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4T07:03:35Z</dcterms:created>
  <dc:creator>inf3</dc:creator>
  <dc:description/>
  <dc:language>en-US</dc:language>
  <cp:lastModifiedBy>Зайка</cp:lastModifiedBy>
  <dcterms:modified xsi:type="dcterms:W3CDTF">2015-04-23T17:41:19Z</dcterms:modified>
  <cp:revision>128</cp:revision>
  <dc:subject/>
  <dc:title>Результаты мониторинга личностных результатов учащихся 4-х классов общеобразовательных школ города Ярославля</dc:title>
</cp:coreProperties>
</file>