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770-CFEF-4E8E-A073-6588DD492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BDDA-BB66-447B-9FD6-25440021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425-FC92-448E-B300-9E8175E1C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E4BA-BB01-4063-952E-F2BFFDABB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8982-F5E9-4896-B54F-38F699554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B262-34E1-450D-BAEF-FB8584F6A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080-861D-4614-BEA7-43A862252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AF1-0CAE-4560-9FFB-E4E53D5E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05A-EB4E-49A6-A9FA-9046C0D0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B572-4581-4984-896C-05F57FE4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C58A-7E41-4035-8EB9-39B425EA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B66D-24BE-45EC-A657-37697126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F5FE-65E8-4C73-8269-C384F395A9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рктические моря, омывающие Росси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1238400" y="1628640"/>
            <a:ext cx="666720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5560" y="549360"/>
            <a:ext cx="9118440" cy="5975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03280" y="272520"/>
            <a:ext cx="6408720" cy="7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агадочное Белое м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980640"/>
            <a:ext cx="4356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лавное отличие этого участка мирового океана от всех остальных морей Арктики заключается в том, что оно размещено к югу от Полярного круга, и только маленькая северная часть акватории выходит за его пределы. Таким образом, получается, что Белое море почти со всех сторон имеет естественные границы. Только от Баренцева оно отделяется тонкой и весьма условной линией. Белое считается сравнительно маленьким внутренним морем России. Оно занимает площадь всего 90 тысяч кв. км. Средняя глубина здешних вод – 67 м, а максимальная – 350 м. Особо глубоководными участками Белого моря являются Бассейн, Кандалакшский залив. В северной части расположены самые мелководные зоны – не глубже 50 м. Нельзя не отметить, что дно здесь неровное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427640" y="1362240"/>
            <a:ext cx="4608360" cy="4443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0"/>
            <a:ext cx="619308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Удивительное Баренцево мор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620640"/>
            <a:ext cx="395928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еографически  Баренцево море сообщается с Норвежским теплым морем, а также холодными водами Арктического бассейна. Суммарная площадь Баренцева моря – окол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 405 000 кв. км, средняя глубина здесь составляет примерно 200 м. Климат полярный морской, самый теплый среди остальных шельфовых морей Ледовитого океана. 3/4 поверхности Баренцева моря ежегодно покрывается льдом, но оно никогда не замерзает полностью, даже зимой. Рельеф дна неоднороден, имеет подводные возвышенности, желоба и многочисленные впадины. Все это в значительной степени влияет на гидрологические характеристики водного объекта. Например, для этого моря характерны хорошее перемешивание вод  и аэрац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4211640" y="1393920"/>
            <a:ext cx="4753080" cy="4338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07552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Карское мор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453528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рское море находится у берегов полуострова Таймыр, северо-востока Европы, а также берегов Западной Сибири. Западная его граница соприкасается с Баренцевым морем, восточная – с Данный участок мирового океана полностью расположен за Полярным кругом. Площадь Карского моря достигает примерно 883 тыс. км², средняя глубина – 111 м, причем максимальная достигает кое-где 600 м. Берега в восточной части Новой Земли изрезаны фьордами, а на материковом берегу встречаются крупные губы и заливы, куда впадают великие сибирские реки, а именно: Енисей, Таз, Обь и Пясина. В Карском море находится множество островов, особенно много их у берегов Таймыра. с октября по май Карское море полностью замерзает. Именно поэтому местные люди даже прозвали его "ледяным мешком"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4788000" y="1498680"/>
            <a:ext cx="4176720" cy="373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36280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оре Лаптевы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691920"/>
            <a:ext cx="43927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знаете ли вы, какое из арктических морей самое глубокое? Лаптевых, конечно! В географическом плане оно расположено непосредственно возле берегов Восточной Сибири. Раньше его даже называли Сибирским. Это море полностью находится за Полярным кругом. На севере перед ним открывается холодный и практически полностью покрытый вечными льдами Ледовитый океан, на западе несколько проливов соединяют море Лаптевых с Карским, на востоке за проливами начинается Восточно-Сибирское, на юге находится сильно изрезанный берег Евразийского материка. Восточная часть моря достаточно сейсмична, немного западнее Новосибирских островов иногда случаются землетрясения до 6 баллов. Как правило, большую часть года море Лаптевых покрыто льдом. Из ледников тут обильно образуются великаны-айсберг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4572000" y="1541520"/>
            <a:ext cx="4464000" cy="3975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00360" y="189000"/>
            <a:ext cx="3456000" cy="57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Чукотское мор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4788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жду о. Врангеля и американским мысом Барроу находится Чукотское море площадью 582 тыс. кв. км. Наверное, каждому, кто интересуется культурой и традициями, понятно, что оно получило название благодаря имени народа, который населяет его берега. В целом для Чукотского моря характерен холодный климат, напряженная ледовая обстановка, создаваемая из-за влияния Канадского круговорота льдов. Чукотское море соединяется с Тихим океаном через Берингов пролив, шириной 86 км и глубиной до 36 м, но по нему в Арктику проникает примерно 30 тыс. куб. км сравнительно теплой воды. В августе его верхние слои близ пролива могут прогреваться до +14 °С. В летнее же время, в отличие от холодной поры, тихоокеанские воды отодвигают кромку льда подальше от берег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859280" y="1504800"/>
            <a:ext cx="4176720" cy="4227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Прямоугольник 1"/>
          <p:cNvSpPr/>
          <p:nvPr/>
        </p:nvSpPr>
        <p:spPr>
          <a:xfrm>
            <a:off x="611280" y="54936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для презентации взяты с сайт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B.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b.ru/article/193301/arkticheskie-morya-omyivayuschie-rossiy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21:19:55Z</dcterms:created>
  <dc:creator>Алексей</dc:creator>
  <dc:description/>
  <dc:language>en-US</dc:language>
  <cp:lastModifiedBy>Windows User</cp:lastModifiedBy>
  <dcterms:modified xsi:type="dcterms:W3CDTF">2019-01-08T18:29:59Z</dcterms:modified>
  <cp:revision>31</cp:revision>
  <dc:subject/>
  <dc:title>Слайд 1</dc:title>
</cp:coreProperties>
</file>