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CBA6-BB76-45A2-96ED-957C7754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45F-D6F3-4211-9149-F2FC1870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EB54-006A-44B8-A70B-1379128A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7FBB-3685-42D5-ABE3-667CC3BD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C55E-F91F-4EB4-9B13-8637D94A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EFB1-568F-4528-A0F8-ACA3572C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E55-47C6-45BE-9A8A-B1B17D0B4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9E6F-D47F-4D99-AF1F-2CDEF01A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6483-5478-439F-86EB-41D2C269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B8F-C40C-4107-A597-9151FD182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40FA-4251-4836-B7A6-59CE1452D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9E6-924A-4185-8EC0-8072D42A4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A8BA-7031-489C-8E91-9F0E8A5BC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ктические моря, омывающие Росс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38400" y="1628640"/>
            <a:ext cx="66672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560" y="549360"/>
            <a:ext cx="911844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72520"/>
            <a:ext cx="64087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адочное Белое м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35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отличие этого участка мирового океана от всех остальных морей Арктики заключается в том, что оно размещено к югу от Полярного круга, и только маленькая северная часть акватории выходит за его пределы. Таким образом, получается, что Белое море почти со всех сторон имеет естественные границы. Только от Баренцева оно отделяется тонкой и весьма условной линией. Белое считается сравнительно маленьким внутренним морем России. Оно занимает площадь всего 90 тысяч кв. км. Средняя глубина здешних вод – 67 м, а максимальная – 350 м. Особо глубоководными участками Белого моря являются Бассейн, Кандалакшский залив. В северной части расположены самые мелководные зоны – не глубже 50 м. Нельзя не отметить, что дно здесь неровн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427640" y="1362240"/>
            <a:ext cx="460836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1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дивительное Баренцево мор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3959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графически  Баренцево море сообщается с Норвежским теплым морем, а также холодными водами Арктического бассейна. Суммарная площадь Баренцева моря – окол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405 000 кв. км, средняя глубина здесь составляет примерно 200 м. Климат полярный морской, самый теплый среди остальных шельфовых морей Ледовитого океана. 3/4 поверхности Баренцева моря ежегодно покрывается льдом, но оно никогда не замерзает полностью, даже зимой. Рельеф дна неоднороден, имеет подводные возвышенности, желоба и многочисленные впадины. Все это в значительной степени влияет на гидрологические характеристики водного объекта. Например, для этого моря характерны хорошее перемешивание вод  и аэр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211640" y="1393920"/>
            <a:ext cx="475308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75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ское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535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ское море находится у берегов полуострова Таймыр, северо-востока Европы, а также берегов Западной Сибири. Западная его граница соприкасается с Баренцевым морем, восточная – с Данный участок мирового океана полностью расположен за Полярным кругом. Площадь Карского моря достигает примерно 883 тыс. км², средняя глубина – 111 м, причем максимальная достигает кое-где 600 м. Берега в восточной части Новой Земли изрезаны фьордами, а на материковом берегу встречаются крупные губы и заливы, куда впадают великие сибирские реки, а именно: Енисей, Таз, Обь и Пясина. В Карском море находится множество островов, особенно много их у берегов Таймыра. с октября по май Карское море полностью замерзает. Именно поэтому местные люди даже прозвали его "ледяным мешком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788000" y="1498680"/>
            <a:ext cx="417672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е Лаптев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3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знаете ли вы, какое из арктических морей самое глубокое? Лаптевых, конечно! В географическом плане оно расположено непосредственно возле берегов Восточной Сибири. Раньше его даже называли Сибирским. Это море полностью находится за Полярным кругом. На севере перед ним открывается холодный и практически полностью покрытый вечными льдами Ледовитый океан, на западе несколько проливов соединяют море Лаптевых с Карским, на востоке за проливами начинается Восточно-Сибирское, на юге находится сильно изрезанный берег Евразийского материка. Восточная часть моря достаточно сейсмична, немного западнее Новосибирских островов иногда случаются землетрясения до 6 баллов. Как правило, большую часть года море Лаптевых покрыто льдом. Из ледников тут обильно образуются великаны-айсберг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0" y="1541520"/>
            <a:ext cx="446400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89000"/>
            <a:ext cx="3456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котское м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 о. Врангеля и американским мысом Барроу находится Чукотское море площадью 582 тыс. кв. км. Наверное, каждому, кто интересуется культурой и традициями, понятно, что оно получило название благодаря имени народа, который населяет его берега. В целом для Чукотского моря характерен холодный климат, напряженная ледовая обстановка, создаваемая из-за влияния Канадского круговорота льдов. Чукотское море соединяется с Тихим океаном через Берингов пролив, шириной 86 км и глубиной до 36 м, но по нему в Арктику проникает примерно 30 тыс. куб. км сравнительно теплой воды. В августе его верхние слои близ пролива могут прогреваться до +14 °С. В летнее же время, в отличие от холодной поры, тихоокеанские воды отодвигают кромку льда подальше от бер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9280" y="1504800"/>
            <a:ext cx="4176720" cy="422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11280" y="549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для презентации взяты с сайт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b.ru/article/193301/arkticheskie-morya-omyivayuschie-rossi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1:19:55Z</dcterms:created>
  <dc:creator>Алексей</dc:creator>
  <dc:description/>
  <dc:language>en-US</dc:language>
  <cp:lastModifiedBy>Windows User</cp:lastModifiedBy>
  <dcterms:modified xsi:type="dcterms:W3CDTF">2019-01-08T18:29:59Z</dcterms:modified>
  <cp:revision>31</cp:revision>
  <dc:subject/>
  <dc:title>Слайд 1</dc:title>
</cp:coreProperties>
</file>