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E70-D3A6-41F6-9E76-C2BBB503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D92-01F7-4FB9-BEDD-DEA4F11E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2D4-9DE4-41B9-9E2A-427AC555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E7E-44E7-4097-911B-1F2147F5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F51-FA30-4439-93C0-85EAA92E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609-E84A-46DB-9605-CC9AFDF2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DBC-F232-4FC3-B92A-4E054011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A55-B300-4EEE-B45F-FDF32F32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9D9-37C1-4EF2-BF71-48F47751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811-90E9-4E3E-A092-DDE554A0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FB4-DA0E-476D-AA4A-3FF70273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81E-73E4-4B56-A9A8-AB12D206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3950-2F57-4D14-BD00-8AD732347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МУНИЦИПАЛЬНОЕ АВТОНОМНОЕ ДОШКОЛЬНОЕ ОБРАЗОВАТЕЛЬНОЕ УЧРЕЖДЕНИЕ «ДЕТСКИЙ САД № 3 «СЕМИЦВЕТИК» КОМБИНИРОВАННОГО ВИ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ОБЩЕНИЕ КАК ФОРМА ВЗАИМОДЕЙСТВИЯ. ОБЩЕНИЕ КАК ДЕЯТЕЛЬНОСТЬ. ФУНКЦИИ ОБ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Злотникова Елена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Составные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элементы общени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сооб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разгов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раппор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точка з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комплимен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интере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языковая л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ОБЩЕНИЕ КАК ФОРМА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Общение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 - сложный процесс взаимодействия между людьми, обмене информацией, а также в восприятии и понимании партнерами друг д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 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Взаимодействие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 – это процесс непосредственного или опосредованного воздействия объектов (субъектов) друг на друга, порождающий их взаимную обусловленность и связь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Виды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Все виды разделяются на два противоположных вида: кооперацию (сотрудничество) и конкуренцию (конфликт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)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кооперация - сотрудничество индивидов для решения общей задач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) конкуренция - индивидуальная или групповая борьба за обладание дефицитными ценностями (благами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Каждый акт общения представляет собой набор следующих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   деят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другой человек - тот, на кого направлено 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ответная реакция другого на действия дея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мотивация деятеля, состоящая в стремлении реализовать свои установки или удовлетворить свои потре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система ориентации и ожиданий деятеля в отношении другого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нормы, по которым организуется взаимо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ценности, которые принимает каждый участ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ситуация, в которой совершается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Виды взаимо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871560"/>
            <a:ext cx="71629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Общение как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Общение наряду с деятельностью, направленной на познание и преобразование окружающего мира, является одной из основных форм социальной активности человека. В общении люди делают достоянием друг друга то, что чем сами они обладают. В результате общения знания, умения, и навыки одного человека становятся общими для многих люд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Потребность в общении состоит в стремлении человека к познанию и оценке других людей, а через них и с их помощью - к самопознанию и самооценке. Люди узнают о себе и об окружающих благодаря разнообразным видам деятельности, так как человек проявляется в каждой из них. Но общение играет в этом отношении особую роль, потому что направлено на другого человека как на свой предмет и, будучи двусторонним процессом (взаимодействием), приводит к тому, что познающий и сам становится объектом познания и отношения другого или других участников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Коммуникативные мотивы - это то, ради чего предпринимается общ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Действие общения - это единица коммуникативной деятельности, целостный акт, адресованный другому человеку и направленный на него как на свой объект. Две основные категории действий общения - инициативные акты и ответны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Задачи общения - это та цель, на достижение которой в данных конкретных условиях направлены разнообразные действия, совершаемые в процессе общения. Цели (мотивы) и задачи общения могут не совпадать между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lebedeva8411"/>
          <p:cNvPicPr/>
          <p:nvPr/>
        </p:nvPicPr>
        <p:blipFill>
          <a:blip r:embed="rId1"/>
          <a:srcRect l="0" t="0" r="13637" b="0"/>
          <a:stretch/>
        </p:blipFill>
        <p:spPr>
          <a:xfrm>
            <a:off x="4572000" y="304920"/>
            <a:ext cx="4343400" cy="2962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MPj04229480000[1]"/>
          <p:cNvPicPr/>
          <p:nvPr/>
        </p:nvPicPr>
        <p:blipFill>
          <a:blip r:embed="rId2"/>
          <a:stretch/>
        </p:blipFill>
        <p:spPr>
          <a:xfrm>
            <a:off x="4495680" y="3530520"/>
            <a:ext cx="4496040" cy="299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MPj04393460000[1]"/>
          <p:cNvPicPr/>
          <p:nvPr/>
        </p:nvPicPr>
        <p:blipFill>
          <a:blip r:embed="rId3"/>
          <a:stretch/>
        </p:blipFill>
        <p:spPr>
          <a:xfrm>
            <a:off x="304920" y="1676520"/>
            <a:ext cx="4190760" cy="2793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2895480"/>
            <a:ext cx="634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9718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a8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бщение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 - это сложный многоплановый процесс установления и развития контактов между людьми (межличностное общение) и группами (межгрупповое общение), порождаемый потребностями совместной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(А.А. Бодалё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Общение включает в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коммуникацию (обмен информацие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интеракцию (обмен действия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социальную перцепцию (восприятие и понимание партне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83944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лассификации сторон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обобщённых классификациях выделяют три стороны общ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коммуникативная: обмен информацией между общающимися индиви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нтерактивная: организация взаимодействия между общающимися индивидами (обмен действия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цептивная (межличностная перцепция): процесс восприятия и познания друг друга партнерами по общению и установления на этой основе взаимопо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315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о характеру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 общение разделяют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родуктивное (творческо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епродуктивное (формаль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о направленности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гуманист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манипулятив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о формам проявления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непосредственное и опосредован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ормальное и неформ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о степени искренности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ткрыт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крыт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о сферам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елов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емей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портив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ункции об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ункции по целям общ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онтактная - установление контакта, то есть готовности к приёму и передаче сообщений и поддержании взаимо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нформационная - приём и передача сообщений в ответ на запр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обудительная - целевая стимуляция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оординационная - взаимная координация и согласованность в совмест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ункция понимания - адекватное понимание смысла, взаимопонимание в цел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эмотивная - обмен эмо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ункция установления отношений - фиксация своего места в социу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ункция оказания влияния - изменение состояния, поведения, личностно-смысловых образований парт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иды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В соответствии с содержанием можно выделить следующие виды об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атериаль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обмен предметами или продуктами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огнитив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обмен информацией, знаниями. Когда мы узнаём у знакомых о погоде на улице, ценах на продукты, времени начала концерта, способах решения математической задачи, мы имеем дело с когнитивным типом 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ондиционное, или эмоциональ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обмен эмоциональными состояниями между общающимися индивидами. Развеселить грустного друга - пример эмоционального общения. В его основе лежит феномен эмоционального зара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отивацион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обмен желаниями, побуждениями, целями, интересами или потребностями. Имеет место как в деловом, так и в межличностном общении. Примерами могут служить: мотивация персонала на успешную работу на предприятии (деловое общение), разговор, направленный на то, чтобы уговорить друга пойти с Вами на концерт (межличностное общ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еятельност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обмен навыками и умениями, который осуществляется в результате совместной деятельности. Пример: учиться вышивать крестиком в кружке выш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В зависимости от используемой техники общения и его целей можно выделить следующие ви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онтакт масок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формальное общение, когда отсутствует стремление понять и учитывать особенности личности собеседника. Используются привычные маски (вежливости, учтивости, безразличия, скромности, участливости и т. п.) - набор выражений лица, жестов, стандартных фраз, позволяющих скрыть истинные эмоции, отношение к собеседн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ветск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его суть в беспредметности, то есть люди говорят не то, что думают, а то, что положено говорить в подобных случаях; это общение закрытое, потому что точки зрения людей на тот или иной вопрос не имеют никакого значения и не определяют характера коммуникации. Например: формальная вежливость, ритуальное общ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формально-ролев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когда регламентированы и содержание, и средства общения и вместо знания личности собеседника обходятся знанием его социальной ро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елов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это процесс взаимодействия в общении, при котором происходит обмен информацией для достижения определенного результата. То есть это общение целенаправленное. Оно возникает на основе и по поводу определенного вида деятельности. При деловом общении учитывают особенности личности, характера, настроения собеседника, но интересы дела более значимы, чем возможные личностные расхо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ежличност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(интимно-личностное) - раскрываются глубинные структуры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анипулятивное общение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 - направлено на получение выгоды от собесе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Средства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1. Вербальные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 (речев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2. Паравербальные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фонационные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 - темп, тембр, громкость речи, заполнители пауз (к примеру, 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э-э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, 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м-м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), мелодика речи, диалектные, социальные или идиолектные особенности артикуляции зву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кинетические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 - жесты, поза, мимика говоряще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рафические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 - особенности почерка, графические дополнения к буквам, заменители букв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евербальные без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омощи речевых и языковых средств –мимика, жестикуляция, язык тела, проксе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атолий</cp:lastModifiedBy>
  <dcterms:modified xsi:type="dcterms:W3CDTF">2017-02-11T04:01:1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