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851-62EC-40E5-BB4F-EC6F8E2D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F3C-9FE8-45BE-99A8-2EADCF2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E7B-EB77-4754-A21F-B07564DF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EFE-F076-422B-9719-7A163921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021-1AE4-4637-8FCA-6DE8915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EDD-114C-4E97-9C95-06BEE71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4D30-CCF3-4CEB-BA36-97D3A47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C946-E96A-4378-84C8-FA1B500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1403-12E0-4F27-B2F3-F5E4AF4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A18-3488-48CF-9E34-F9C3487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676D-DAAC-4FF9-8988-E7D12DB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518-F61D-47A1-9209-C90A39A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5B1-1962-4A45-86FE-5621309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9E3-ECF2-40DC-A668-0821347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FDC-29EC-4DA8-9A32-47D775C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1F22-DC55-4B67-BDB0-54745E61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08F1-1CFF-4445-8965-202C0537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759-1BAF-418B-AB21-FD6B80F2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840-9D50-498E-B1BC-E9B038E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313-58CE-4AF0-A000-3D8F283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1E0-2D50-42F5-857C-37C1F0A8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FA5-6BFE-46AC-B6BA-6DBD70B1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946-5258-4CD2-8DBC-AC28EA4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1A6-29AE-4C4B-B629-9B72E21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F08-5147-4094-A085-F00C813AF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560-3CA8-47E7-AE54-29AD35DDD29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800240"/>
            <a:ext cx="6147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дительский лектор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5.03.20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3218040" y="1600200"/>
            <a:ext cx="47829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ЩЕНИЕ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ЕЙ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ЬМИ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СПЕВАЕМСТЬ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ИТОГИ СРЕЗОВ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596880"/>
            <a:ext cx="7353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СЕЩАЕМОСТЬ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ОБЪЯВЛЕНИ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Упражнение «Ассоциации»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99"/>
                </a:solidFill>
                <a:latin typeface="Verdana"/>
              </a:rPr>
              <a:t>ПОДРОСТОК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596880"/>
            <a:ext cx="70484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РТРЕТ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ВРЕМЕННОГО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ДРОСТ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2624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ЧИНЫ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ЫЗЫВАЮЩЕГО ПОВЕДЕНИ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8127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Не хватает внимания взрослы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ысокий уровень тревож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Холерический темперамен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Отсутствие душевной близости       с родителям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бщение с подрост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762120"/>
          <a:ext cx="8574120" cy="5384520"/>
        </p:xfrm>
        <a:graphic>
          <a:graphicData uri="http://schemas.openxmlformats.org/drawingml/2006/table">
            <a:tbl>
              <a:tblPr/>
              <a:tblGrid>
                <a:gridCol w="4800600"/>
                <a:gridCol w="3773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ТИПИЧНАЯ ФРАЗА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учиться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думать о будущем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уважать старших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должен слушаться учителей и родителей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лжец!»,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«Ты опять врёшь!»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бщение с подрост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762120"/>
          <a:ext cx="8574120" cy="5800680"/>
        </p:xfrm>
        <a:graphic>
          <a:graphicData uri="http://schemas.openxmlformats.org/drawingml/2006/table">
            <a:tbl>
              <a:tblPr/>
              <a:tblGrid>
                <a:gridCol w="1981440"/>
                <a:gridCol w="6592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ИПИЧНАЯ ФРАЗ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учиться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Я уверена, что ты можешь хорошо учиться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думать о будущем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Интересно, каким человеком ты хотел бы стать?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Какую профессию планируешь выбрать?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уважать старших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Ты знаешь: уважение к старшим – это элемент общей культуры человека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должен слушаться учителей и родителей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Конечно, ты можешь иметь собственное мнение, но к мнению старших полезно прислушаться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2905"/>
                          </a:solidFill>
                          <a:latin typeface="Verdana"/>
                        </a:rPr>
                        <a:t>«Ты лжец!», «Ты опять врёшь!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Мне жаль, что я опять выслушиваю неправду»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4a48"/>
                          </a:solidFill>
                          <a:latin typeface="Verdana"/>
                        </a:rPr>
                        <a:t>«Мне не нравится, когда меня обманывают. Постарайся больше так не делать»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НЦИПЫ ОБЩ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НЯТИЕ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НАЧИМОСТЬ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ЗНАНИЕ РЕБЁН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ОДИТЕЛЬСКАЯ ЛЮБОВ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НЦИП ДОСТУП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ИЕ ОТВЕТСТВЕННОСТИ И САМОДИСЦИПЛИН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722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5 приёмов общ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533520" y="1066680"/>
            <a:ext cx="9677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Постарайтесь показать вашему ребёнку, что вы его понимает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нимательно следите за лицом ребенка и его «языком тел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ыражайте свою поддержку и поощрение не только словами. Это могут быть ваши улыбка, похлопывание по плечу, кивок головой, взгляд в глаза, прикосновение к детской рук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Выбирайте правильный тон для ваших ответов. Помните, что тон голоса связан со смыслом ваших сл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946440" indent="-305280">
              <a:spcBef>
                <a:spcPts val="601"/>
              </a:spcBef>
              <a:buClr>
                <a:srgbClr val="0033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Verdana"/>
              </a:rPr>
              <a:t>Используйте одобрительные фразы для поддержания разговора и показывайте вашу заинтересованность в нё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ff66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ОЩРЕНИЯ И НАКАЗАНИЯ В СЕМЬ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2:24Z</dcterms:created>
  <dc:creator>славик</dc:creator>
  <dc:description/>
  <dc:language>en-US</dc:language>
  <cp:lastModifiedBy>Нина</cp:lastModifiedBy>
  <dcterms:modified xsi:type="dcterms:W3CDTF">2016-03-25T14:16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