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59A-E608-46B9-9BBB-3EA6D491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6F5-2C5C-4D2F-937A-EC800DE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70F-641D-4056-8DCD-989163C1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A58-9991-45FC-8EBC-279A27FD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0D7D-3834-45C2-B3C9-BF1465BE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9E2C-B524-4719-BDD8-E54927A4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CEB-0C13-4F33-BAD1-BBE23EC4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D172-8FEF-43A0-AF65-5A34EA5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9BAB-0AC9-4A70-AF6D-CD79E204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8370-DCD1-42F7-94E0-614ADC4F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5C02-DF72-44C2-AEE0-FC21D20F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B7E-55B9-41CA-B20C-DA6578EC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A725-A956-4DE6-B021-07494CA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E38D-CB56-4B4B-A6F9-3833D7A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AB3D-4F27-4B64-B70C-B1E6EE7E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1D4-8AB6-47F6-B12E-73BE3CA0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7698-7854-46B4-A8BC-7CB3C8D5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5EC-CDAC-489D-914F-2F331180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69C-EBB4-425D-BEDB-907AB783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6E8-9881-4666-85FB-871E0FAE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B04-2908-4B13-9280-CB026F75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98F-927B-4B6A-A58D-7ECFC057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D63-699C-4BA6-BFC4-93EC99F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427-82E5-4116-AA2D-AF12B57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ff66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3AE0-D217-4C21-BA7E-2A15776DE3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ff66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C1AE-B909-458A-AC07-67220F021A3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88680" y="4800240"/>
            <a:ext cx="61470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одительский лектор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5.03.201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3218040" y="1600200"/>
            <a:ext cx="478296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ЩЕНИЕ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ЕЙ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ЬМИ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УСПЕВАЕМСТЬ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ИТОГИ СРЕЗОВ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596880"/>
            <a:ext cx="73533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СЕЩАЕМОСТЬ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ОБЪЯВЛЕНИЯ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Упражнение «Ассоциации»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99"/>
                </a:solidFill>
                <a:latin typeface="Verdana"/>
              </a:rPr>
              <a:t>ПОДРОСТОК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9840" y="596880"/>
            <a:ext cx="70484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РТРЕТ</a:t>
            </a: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СОВРЕМЕННОГО</a:t>
            </a: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ДРОСТ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26240" cy="22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ЧИНЫ</a:t>
            </a: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ВЫЗЫВАЮЩЕГО ПОВЕДЕНИЯ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8127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Не хватает внимания взрослы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ысокий уровень тревож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Холерический темперамен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Отсутствие душевной близости       с родителям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Общение с подростко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762120"/>
          <a:ext cx="8574120" cy="5384520"/>
        </p:xfrm>
        <a:graphic>
          <a:graphicData uri="http://schemas.openxmlformats.org/drawingml/2006/table">
            <a:tbl>
              <a:tblPr/>
              <a:tblGrid>
                <a:gridCol w="4800600"/>
                <a:gridCol w="3773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ТИПИЧНАЯ ФРАЗ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КАК НЕОБХОДИМО ГОВОРИ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должен учиться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должен думать о будущем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должен уважать старших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должен слушаться учителей и родителей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лжец!»,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опять врёшь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Общение с подростко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762120"/>
          <a:ext cx="8574120" cy="5800680"/>
        </p:xfrm>
        <a:graphic>
          <a:graphicData uri="http://schemas.openxmlformats.org/drawingml/2006/table">
            <a:tbl>
              <a:tblPr/>
              <a:tblGrid>
                <a:gridCol w="1981440"/>
                <a:gridCol w="6592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ИПИЧНАЯ ФРАЗ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КАК НЕОБХОДИМО ГОВОРИ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должен учиться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Я уверена, что ты можешь хорошо учиться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должен думать о будущем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Интересно, каким человеком ты хотел бы стать?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Какую профессию планируешь выбрать?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должен уважать старших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Ты знаешь: уважение к старшим – это элемент общей культуры челове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должен слушаться учителей и родителей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Конечно, ты можешь иметь собственное мнение, но к мнению старших полезно прислушаться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лжец!», «Ты опять врёшь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Мне жаль, что я опять выслушиваю неправду»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Мне не нравится, когда меня обманывают. Постарайся больше так не делать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НЦИПЫ ОБЩ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НЯТИЕ РЕБЁ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НАЧИМОСТЬ РЕБЁ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ЗНАНИЕ РЕБЁ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ОДИТЕЛЬСКАЯ ЛЮБОВ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НЦИП ДОСТУП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ИТАНИЕ ОТВЕТСТВЕННОСТИ И САМОДИСЦИПЛИН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4722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5 приёмов общ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533520" y="1066680"/>
            <a:ext cx="9677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Постарайтесь показать вашему ребёнку, что вы его понимает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Внимательно следите за лицом ребенка и его «языком тела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Выражайте свою поддержку и поощрение не только словами. Это могут быть ваши улыбка, похлопывание по плечу, кивок головой, взгляд в глаза, прикосновение к детской рук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Выбирайте правильный тон для ваших ответов. Помните, что тон голоса связан со смыслом ваших сл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Используйте одобрительные фразы для поддержания разговора и показывайте вашу заинтересованность в нё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ff66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ОЩРЕНИЯ И НАКАЗАНИЯ В СЕМЬ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8:12:24Z</dcterms:created>
  <dc:creator>славик</dc:creator>
  <dc:description/>
  <dc:language>en-US</dc:language>
  <cp:lastModifiedBy>Нина</cp:lastModifiedBy>
  <dcterms:modified xsi:type="dcterms:W3CDTF">2016-03-25T14:16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