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69A-759D-435C-BE04-F2A81EB2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4C25-E22B-4FC8-812D-35E83541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C2A7-360C-4D15-B39A-127159908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AEE8-DEB1-429E-8BE5-170E76BAF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2F3E-9F72-4E79-88C5-C69FFE1C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EFE-33F9-4F29-A94E-E4AEACD2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8918-586E-4141-9D32-2FE0B864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EF88-0A4D-4723-8C61-DA4997A95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2871-605C-423C-8DFF-D8503984C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974A-3E89-45F8-A04E-B53F51AA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F6C-78DC-4ECE-9306-B646E8A4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D4D-819C-4E22-8B0B-D3B64608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EE15-3A37-4234-B180-0ABDEE18E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Georgia"/>
              </a:rPr>
              <a:t>Поэзия </a:t>
            </a:r>
            <a:br>
              <a:rPr sz="6600"/>
            </a:br>
            <a:r>
              <a:rPr b="1" i="1" lang="en-US" sz="6600" spc="-1" strike="noStrike">
                <a:solidFill>
                  <a:srgbClr val="990000"/>
                </a:solidFill>
                <a:latin typeface="Georgia"/>
              </a:rPr>
              <a:t>А.С. Пушкина – живописи и музыке сестра родна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Алчный –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ffff99"/>
                </a:solidFill>
                <a:latin typeface="Georgia"/>
              </a:rPr>
              <a:t>желающий, жаждущий, жад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Georgia"/>
              </a:rPr>
              <a:t>Миновалась – </a:t>
            </a: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ffff99"/>
                </a:solidFill>
                <a:latin typeface="Georgia"/>
              </a:rPr>
              <a:t>прош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7487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Georgia"/>
              </a:rPr>
              <a:t>«Последняя туча рассеянной бури!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4000" y="404640"/>
            <a:ext cx="8569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Средства выразительности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2637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пите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95640" y="4437000"/>
            <a:ext cx="316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афоры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357336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ени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76720" y="5877000"/>
            <a:ext cx="3830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ицетворени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35280" y="1700280"/>
            <a:ext cx="1008000" cy="79200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564000" y="1773360"/>
            <a:ext cx="503280" cy="165564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1773360"/>
            <a:ext cx="0" cy="244764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1844640"/>
            <a:ext cx="792360" cy="388944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Варианты интонации </a:t>
            </a:r>
            <a:br>
              <a:rPr sz="5400"/>
            </a:b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1 строф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укориз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сочувств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беспоко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Georgia"/>
              </a:rPr>
              <a:t>Варианты </a:t>
            </a: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интонации</a:t>
            </a:r>
            <a:r>
              <a:rPr b="1" lang="en-US" sz="6000" spc="-1" strike="noStrike">
                <a:solidFill>
                  <a:srgbClr val="990000"/>
                </a:solidFill>
                <a:latin typeface="Georgia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990000"/>
                </a:solidFill>
                <a:latin typeface="Georgia"/>
              </a:rPr>
              <a:t>2 строф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82184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угрожающ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гроз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тревож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Варианты интонации </a:t>
            </a:r>
            <a:br>
              <a:rPr sz="5400"/>
            </a:b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3 строф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637000"/>
            <a:ext cx="8147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спокой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успокаивающ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интонация прось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a362"/>
            </a:gs>
            <a:gs pos="50000">
              <a:srgbClr val="ffff99"/>
            </a:gs>
            <a:gs pos="100000">
              <a:srgbClr val="a3a36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33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эзи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5640" y="2133720"/>
            <a:ext cx="201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latin typeface="Arial"/>
              </a:rPr>
              <a:t>поэт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348000" y="3789360"/>
            <a:ext cx="259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ло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9280" y="551664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чувст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1197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504720" cy="718920"/>
          </a:xfrm>
          <a:prstGeom prst="downArrow">
            <a:avLst>
              <a:gd name="adj1" fmla="val 50000"/>
              <a:gd name="adj2" fmla="val 3561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4653000"/>
            <a:ext cx="503280" cy="792000"/>
          </a:xfrm>
          <a:prstGeom prst="downArrow">
            <a:avLst>
              <a:gd name="adj1" fmla="val 50000"/>
              <a:gd name="adj2" fmla="val 393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56c"/>
            </a:gs>
            <a:gs pos="50000">
              <a:srgbClr val="ffff99"/>
            </a:gs>
            <a:gs pos="100000">
              <a:srgbClr val="b5b56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4043520" cy="5576760"/>
          </a:xfrm>
          <a:prstGeom prst="rect">
            <a:avLst/>
          </a:prstGeom>
          <a:noFill/>
          <a:ln w="76320">
            <a:solidFill>
              <a:srgbClr val="66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кра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чув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9280" y="549000"/>
            <a:ext cx="4027680" cy="5576760"/>
          </a:xfrm>
          <a:prstGeom prst="rect">
            <a:avLst/>
          </a:prstGeom>
          <a:noFill/>
          <a:ln w="76320">
            <a:solidFill>
              <a:srgbClr val="66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поэ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чув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1197000"/>
            <a:ext cx="0" cy="93672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2708280"/>
            <a:ext cx="0" cy="100800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4149720"/>
            <a:ext cx="0" cy="100800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1197000"/>
            <a:ext cx="0" cy="107964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2637000"/>
            <a:ext cx="0" cy="115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4149720"/>
            <a:ext cx="0" cy="107964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4129200" cy="496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32360" y="2205000"/>
            <a:ext cx="388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Georgia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Georgia"/>
              </a:rPr>
              <a:t>Сергееви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Georgia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50000">
              <a:srgbClr val="ffff99"/>
            </a:gs>
            <a:gs pos="100000">
              <a:srgbClr val="a9a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32000" y="33336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музы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71640" y="2060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омпозитор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48000" y="3789360"/>
            <a:ext cx="21607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звук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32000" y="5516640"/>
            <a:ext cx="2664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чувст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1052640"/>
            <a:ext cx="576000" cy="936360"/>
          </a:xfrm>
          <a:prstGeom prst="downArrow">
            <a:avLst>
              <a:gd name="adj1" fmla="val 50000"/>
              <a:gd name="adj2" fmla="val 406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78136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4437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bbb7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eorgia"/>
              </a:rPr>
              <a:t>ИСКУС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8000" y="1600200"/>
          <a:ext cx="8928000" cy="3814920"/>
        </p:xfrm>
        <a:graphic>
          <a:graphicData uri="http://schemas.openxmlformats.org/drawingml/2006/table">
            <a:tbl>
              <a:tblPr/>
              <a:tblGrid>
                <a:gridCol w="3168720"/>
                <a:gridCol w="2232000"/>
                <a:gridCol w="35272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Georgia"/>
                        </a:rPr>
                        <a:t>ЖИВОПИС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3300"/>
                          </a:solidFill>
                          <a:latin typeface="Georgia"/>
                        </a:rPr>
                        <a:t>ПОЭ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МУЗЫ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Georgia"/>
                        </a:rPr>
                        <a:t>ХУДОЖ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3300"/>
                          </a:solidFill>
                          <a:latin typeface="Georgia"/>
                        </a:rPr>
                        <a:t>ПОЭ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КОМПОЗИТ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Georgia"/>
                        </a:rPr>
                        <a:t>КРАС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3300"/>
                          </a:solidFill>
                          <a:latin typeface="Georgia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ЗВ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41600" y="5373720"/>
            <a:ext cx="390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eorgia"/>
              </a:rPr>
              <a:t>ЧУВ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34920" y="907920"/>
            <a:ext cx="1081080" cy="72072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060640"/>
            <a:ext cx="0" cy="86364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3357720"/>
            <a:ext cx="0" cy="86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907920"/>
            <a:ext cx="0" cy="792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2133720"/>
            <a:ext cx="0" cy="7905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3357720"/>
            <a:ext cx="0" cy="86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907920"/>
            <a:ext cx="1152360" cy="792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2133720"/>
            <a:ext cx="0" cy="7905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3357720"/>
            <a:ext cx="0" cy="86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4653000"/>
            <a:ext cx="1727280" cy="79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4653000"/>
            <a:ext cx="0" cy="79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24000" y="4653000"/>
            <a:ext cx="1511640" cy="79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344000" cy="504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56360" y="6021360"/>
            <a:ext cx="56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eorgia"/>
              </a:rPr>
              <a:t>Н.П. Крымов «Туч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1077840"/>
            <a:ext cx="7848720" cy="457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9560" y="5877000"/>
            <a:ext cx="73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eorgia"/>
              </a:rPr>
              <a:t>И. Левитан «Лесное озе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43280" y="692280"/>
            <a:ext cx="2771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пис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00360" y="2205000"/>
            <a:ext cx="316872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удожник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3860640"/>
            <a:ext cx="209556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ски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3280" y="5516640"/>
            <a:ext cx="29718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увства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155736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299736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458136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Рассеянный –</a:t>
            </a:r>
            <a:r>
              <a:rPr b="0" lang="en-US" sz="4400" spc="-1" strike="noStrike">
                <a:solidFill>
                  <a:srgbClr val="000066"/>
                </a:solidFill>
                <a:latin typeface="Georgia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разогнанный, разнесённый вет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1844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Лазурь – </a:t>
            </a: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голубизна неба, голубое неб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07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Ликующий – </a:t>
            </a:r>
            <a:br>
              <a:rPr sz="6000"/>
            </a:br>
            <a:br>
              <a:rPr sz="4800"/>
            </a:b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очень радост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Georgia"/>
              </a:rPr>
              <a:t>Облегала – </a:t>
            </a: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ffff99"/>
                </a:solidFill>
                <a:latin typeface="Georgia"/>
              </a:rPr>
              <a:t>заволакивала со всех стор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1:56Z</dcterms:created>
  <dc:creator>Юра</dc:creator>
  <dc:description/>
  <dc:language>en-US</dc:language>
  <cp:lastModifiedBy>Юра</cp:lastModifiedBy>
  <dcterms:modified xsi:type="dcterms:W3CDTF">2008-02-12T16:35:17Z</dcterms:modified>
  <cp:revision>5</cp:revision>
  <dc:subject/>
  <dc:title>ТЕМА:   «Поэзия А.С. Пушкина – живописи и музыке сестра родная».</dc:title>
</cp:coreProperties>
</file>