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8446-3252-4371-9C0E-0EEFA2EA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C9C5-137B-40AB-9C37-85F0DB032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171-DDA5-4486-96CE-D7D607A8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5B71-8BC8-4E8F-A425-68B6347FE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2EA2-A640-47D3-8270-5C4439ED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0114-F35A-4E4B-BF85-8D5B97D9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8747-D5CC-4DD3-85DC-CF6941EA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34AF-56D8-4556-9720-E05F9BBE9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FEDA-CB34-4422-A0B4-1760B4DA4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C1DD-269E-40C4-87A1-55E5FCBDE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D6BE-8766-486D-B4A7-94FE54C4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101E-F6D6-4402-88CB-0FB6BF14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9B34-9EF0-4268-B631-A39270C55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Georgia"/>
              </a:rPr>
              <a:t>Поэзия </a:t>
            </a:r>
            <a:br>
              <a:rPr sz="6600"/>
            </a:br>
            <a:r>
              <a:rPr b="1" i="1" lang="en-US" sz="6600" spc="-1" strike="noStrike">
                <a:solidFill>
                  <a:srgbClr val="990000"/>
                </a:solidFill>
                <a:latin typeface="Georgia"/>
              </a:rPr>
              <a:t>А.С. Пушкина – живописи и музыке сестра родна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Georgia"/>
              </a:rPr>
              <a:t>Алчный – </a:t>
            </a: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1" i="1" lang="en-US" sz="4800" spc="-1" strike="noStrike">
                <a:solidFill>
                  <a:srgbClr val="ffff99"/>
                </a:solidFill>
                <a:latin typeface="Georgia"/>
              </a:rPr>
              <a:t>желающий, жаждущий, жадны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915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99"/>
                </a:solidFill>
                <a:latin typeface="Georgia"/>
              </a:rPr>
              <a:t>Миновалась – </a:t>
            </a:r>
            <a:br>
              <a:rPr sz="6000"/>
            </a:br>
            <a:br>
              <a:rPr sz="6000"/>
            </a:br>
            <a:r>
              <a:rPr b="1" i="1" lang="en-US" sz="4800" spc="-1" strike="noStrike">
                <a:solidFill>
                  <a:srgbClr val="ffff99"/>
                </a:solidFill>
                <a:latin typeface="Georgia"/>
              </a:rPr>
              <a:t>прошл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74872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66"/>
                </a:solidFill>
                <a:latin typeface="Georgia"/>
              </a:rPr>
              <a:t>«Последняя туча рассеянной бури!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46"/>
            </a:gs>
            <a:gs pos="50000">
              <a:srgbClr val="ffff99"/>
            </a:gs>
            <a:gs pos="100000">
              <a:srgbClr val="757546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24000" y="404640"/>
            <a:ext cx="856908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Средства выразительности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24000" y="2637000"/>
            <a:ext cx="2232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33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эпитеты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33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995640" y="4437000"/>
            <a:ext cx="31672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етафоры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99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979640" y="3573360"/>
            <a:ext cx="2808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равнение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076720" y="5877000"/>
            <a:ext cx="38307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лицетворение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1835280" y="1700280"/>
            <a:ext cx="1008000" cy="792000"/>
          </a:xfrm>
          <a:prstGeom prst="line">
            <a:avLst/>
          </a:prstGeom>
          <a:ln w="7632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3564000" y="1773360"/>
            <a:ext cx="503280" cy="1655640"/>
          </a:xfrm>
          <a:prstGeom prst="line">
            <a:avLst/>
          </a:prstGeom>
          <a:ln w="7632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796000" y="1773360"/>
            <a:ext cx="0" cy="2447640"/>
          </a:xfrm>
          <a:prstGeom prst="line">
            <a:avLst/>
          </a:prstGeom>
          <a:ln w="7632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1844640"/>
            <a:ext cx="792360" cy="3889440"/>
          </a:xfrm>
          <a:prstGeom prst="line">
            <a:avLst/>
          </a:prstGeom>
          <a:ln w="7632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Georgia"/>
              </a:rPr>
              <a:t>Варианты интонации </a:t>
            </a:r>
            <a:br>
              <a:rPr sz="5400"/>
            </a:br>
            <a:r>
              <a:rPr b="1" lang="en-US" sz="5400" spc="-1" strike="noStrike">
                <a:solidFill>
                  <a:srgbClr val="990000"/>
                </a:solidFill>
                <a:latin typeface="Georgia"/>
              </a:rPr>
              <a:t>1 строф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781000"/>
            <a:ext cx="8218440" cy="33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укоризн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сочувств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беспокойств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0000"/>
                </a:solidFill>
                <a:latin typeface="Georgia"/>
              </a:rPr>
              <a:t>Варианты </a:t>
            </a:r>
            <a:r>
              <a:rPr b="1" lang="en-US" sz="5400" spc="-1" strike="noStrike">
                <a:solidFill>
                  <a:srgbClr val="990000"/>
                </a:solidFill>
                <a:latin typeface="Georgia"/>
              </a:rPr>
              <a:t>интонации</a:t>
            </a:r>
            <a:r>
              <a:rPr b="1" lang="en-US" sz="6000" spc="-1" strike="noStrike">
                <a:solidFill>
                  <a:srgbClr val="990000"/>
                </a:solidFill>
                <a:latin typeface="Georgia"/>
              </a:rPr>
              <a:t> </a:t>
            </a:r>
            <a:br>
              <a:rPr sz="6000"/>
            </a:br>
            <a:r>
              <a:rPr b="1" lang="en-US" sz="6000" spc="-1" strike="noStrike">
                <a:solidFill>
                  <a:srgbClr val="990000"/>
                </a:solidFill>
                <a:latin typeface="Georgia"/>
              </a:rPr>
              <a:t>2 строфы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2565000"/>
            <a:ext cx="821844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угрожающ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гроз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тревож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465e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20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00"/>
                </a:solidFill>
                <a:latin typeface="Georgia"/>
              </a:rPr>
              <a:t>Варианты интонации </a:t>
            </a:r>
            <a:br>
              <a:rPr sz="5400"/>
            </a:br>
            <a:r>
              <a:rPr b="1" lang="en-US" sz="5400" spc="-1" strike="noStrike">
                <a:solidFill>
                  <a:srgbClr val="990000"/>
                </a:solidFill>
                <a:latin typeface="Georgia"/>
              </a:rPr>
              <a:t>3 строфы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637000"/>
            <a:ext cx="814716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спокойн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успокаивающа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интонация просьб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3a362"/>
            </a:gs>
            <a:gs pos="50000">
              <a:srgbClr val="ffff99"/>
            </a:gs>
            <a:gs pos="100000">
              <a:srgbClr val="a3a36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5280" y="333360"/>
            <a:ext cx="2952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latin typeface="Arial"/>
              </a:rPr>
              <a:t>поэзия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latin typeface="Arial"/>
              <a:ea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195640" y="2133720"/>
            <a:ext cx="201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cc"/>
                </a:solidFill>
                <a:latin typeface="Arial"/>
              </a:rPr>
              <a:t>поэт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3366cc"/>
              </a:solidFill>
              <a:latin typeface="Arial"/>
              <a:ea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348000" y="3789360"/>
            <a:ext cx="2590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00"/>
                </a:solidFill>
                <a:latin typeface="Arial"/>
              </a:rPr>
              <a:t>слов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6600"/>
              </a:solidFill>
              <a:latin typeface="Arial"/>
              <a:ea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859280" y="5516640"/>
            <a:ext cx="3816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чувств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700360" y="1197000"/>
            <a:ext cx="503280" cy="863640"/>
          </a:xfrm>
          <a:prstGeom prst="downArrow">
            <a:avLst>
              <a:gd name="adj1" fmla="val 50000"/>
              <a:gd name="adj2" fmla="val 42901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51280" y="2997360"/>
            <a:ext cx="504720" cy="718920"/>
          </a:xfrm>
          <a:prstGeom prst="downArrow">
            <a:avLst>
              <a:gd name="adj1" fmla="val 50000"/>
              <a:gd name="adj2" fmla="val 35610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64000" y="4653000"/>
            <a:ext cx="503280" cy="792000"/>
          </a:xfrm>
          <a:prstGeom prst="downArrow">
            <a:avLst>
              <a:gd name="adj1" fmla="val 50000"/>
              <a:gd name="adj2" fmla="val 39342"/>
            </a:avLst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56c"/>
            </a:gs>
            <a:gs pos="50000">
              <a:srgbClr val="ffff99"/>
            </a:gs>
            <a:gs pos="100000">
              <a:srgbClr val="b5b56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4043520" cy="5576760"/>
          </a:xfrm>
          <a:prstGeom prst="rect">
            <a:avLst/>
          </a:prstGeom>
          <a:noFill/>
          <a:ln w="76320">
            <a:solidFill>
              <a:srgbClr val="66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живопис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  </a:t>
            </a: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художн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крас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чув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859280" y="549000"/>
            <a:ext cx="4027680" cy="5576760"/>
          </a:xfrm>
          <a:prstGeom prst="rect">
            <a:avLst/>
          </a:prstGeom>
          <a:noFill/>
          <a:ln w="76320">
            <a:solidFill>
              <a:srgbClr val="66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поэз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поэ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сл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	</a:t>
            </a:r>
            <a:r>
              <a:rPr b="1" lang="en-US" sz="4400" spc="-1" strike="noStrike">
                <a:solidFill>
                  <a:srgbClr val="006600"/>
                </a:solidFill>
                <a:latin typeface="Georgia"/>
              </a:rPr>
              <a:t>чув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79640" y="1197000"/>
            <a:ext cx="0" cy="936720"/>
          </a:xfrm>
          <a:prstGeom prst="line">
            <a:avLst/>
          </a:prstGeom>
          <a:ln w="7632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2708280"/>
            <a:ext cx="0" cy="1008000"/>
          </a:xfrm>
          <a:prstGeom prst="line">
            <a:avLst/>
          </a:prstGeom>
          <a:ln w="7632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79640" y="4149720"/>
            <a:ext cx="0" cy="1008000"/>
          </a:xfrm>
          <a:prstGeom prst="line">
            <a:avLst/>
          </a:prstGeom>
          <a:ln w="76320">
            <a:solidFill>
              <a:srgbClr val="66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72360" y="1197000"/>
            <a:ext cx="0" cy="1079640"/>
          </a:xfrm>
          <a:prstGeom prst="line">
            <a:avLst/>
          </a:prstGeom>
          <a:ln w="7632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72360" y="2637000"/>
            <a:ext cx="0" cy="1152360"/>
          </a:xfrm>
          <a:prstGeom prst="line">
            <a:avLst/>
          </a:prstGeom>
          <a:ln w="7632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72360" y="4149720"/>
            <a:ext cx="0" cy="1079640"/>
          </a:xfrm>
          <a:prstGeom prst="line">
            <a:avLst/>
          </a:prstGeom>
          <a:ln w="7632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1052640"/>
            <a:ext cx="4129200" cy="4967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932360" y="2205000"/>
            <a:ext cx="38876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cc"/>
                </a:solidFill>
                <a:latin typeface="Georgia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cc"/>
                </a:solidFill>
                <a:latin typeface="Georgia"/>
              </a:rPr>
              <a:t>Сергеевич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33cc"/>
                </a:solidFill>
                <a:latin typeface="Georgia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a965"/>
            </a:gs>
            <a:gs pos="50000">
              <a:srgbClr val="ffff99"/>
            </a:gs>
            <a:gs pos="100000">
              <a:srgbClr val="a9a96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32000" y="333360"/>
            <a:ext cx="266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cc"/>
                </a:solidFill>
                <a:latin typeface="Arial"/>
              </a:rPr>
              <a:t>музык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33cc"/>
              </a:solidFill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71640" y="2060640"/>
            <a:ext cx="381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композитор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348000" y="3789360"/>
            <a:ext cx="2160720" cy="79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Arial"/>
              </a:rPr>
              <a:t>звуки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132000" y="5516640"/>
            <a:ext cx="2664000" cy="80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Arial"/>
              </a:rPr>
              <a:t>чувства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Arial"/>
              <a:ea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427640" y="1052640"/>
            <a:ext cx="576000" cy="936360"/>
          </a:xfrm>
          <a:prstGeom prst="downArrow">
            <a:avLst>
              <a:gd name="adj1" fmla="val 50000"/>
              <a:gd name="adj2" fmla="val 40641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27640" y="278136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27640" y="4437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bbbb7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Georgia"/>
              </a:rPr>
              <a:t>ИСКУССТВ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08000" y="1600200"/>
          <a:ext cx="8928000" cy="3814920"/>
        </p:xfrm>
        <a:graphic>
          <a:graphicData uri="http://schemas.openxmlformats.org/drawingml/2006/table">
            <a:tbl>
              <a:tblPr/>
              <a:tblGrid>
                <a:gridCol w="3168720"/>
                <a:gridCol w="2232000"/>
                <a:gridCol w="352728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8000"/>
                          </a:solidFill>
                          <a:latin typeface="Georgia"/>
                        </a:rPr>
                        <a:t>ЖИВОПИС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3300"/>
                          </a:solidFill>
                          <a:latin typeface="Georgia"/>
                        </a:rPr>
                        <a:t>ПОЭЗ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МУЗЫ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8000"/>
                          </a:solidFill>
                          <a:latin typeface="Georgia"/>
                        </a:rPr>
                        <a:t>ХУДОЖНИ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3300"/>
                          </a:solidFill>
                          <a:latin typeface="Georgia"/>
                        </a:rPr>
                        <a:t>ПОЭ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КОМПОЗИТО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8000"/>
                          </a:solidFill>
                          <a:latin typeface="Georgia"/>
                        </a:rPr>
                        <a:t>КРАС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3300"/>
                          </a:solidFill>
                          <a:latin typeface="Georgia"/>
                        </a:rPr>
                        <a:t>СЛОВ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0033cc"/>
                          </a:solidFill>
                          <a:latin typeface="Georgia"/>
                        </a:rPr>
                        <a:t>ЗВУ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2541600" y="5373720"/>
            <a:ext cx="3909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99"/>
                </a:solidFill>
                <a:latin typeface="Georgia"/>
              </a:rPr>
              <a:t>ЧУВСТ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834920" y="907920"/>
            <a:ext cx="1081080" cy="72072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92360" y="2060640"/>
            <a:ext cx="0" cy="86364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3357720"/>
            <a:ext cx="0" cy="8632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284720" y="907920"/>
            <a:ext cx="0" cy="79236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284720" y="2133720"/>
            <a:ext cx="0" cy="79056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84720" y="3357720"/>
            <a:ext cx="0" cy="8632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56360" y="907920"/>
            <a:ext cx="1152360" cy="79236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08720" y="2133720"/>
            <a:ext cx="0" cy="79056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08720" y="3357720"/>
            <a:ext cx="0" cy="8632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4653000"/>
            <a:ext cx="1727280" cy="7920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84720" y="4653000"/>
            <a:ext cx="0" cy="7920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724000" y="4653000"/>
            <a:ext cx="1511640" cy="7920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900000" y="836640"/>
            <a:ext cx="7344000" cy="5041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656360" y="6021360"/>
            <a:ext cx="562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Georgia"/>
              </a:rPr>
              <a:t>Н.П. Крымов «Туч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5640" y="1077840"/>
            <a:ext cx="7848720" cy="4576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79560" y="5877000"/>
            <a:ext cx="73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Georgia"/>
              </a:rPr>
              <a:t>И. Левитан «Лесное озеро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843280" y="692280"/>
            <a:ext cx="2771640" cy="63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живопись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700360" y="2205000"/>
            <a:ext cx="316872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художник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76720" y="3860640"/>
            <a:ext cx="2095560" cy="7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раски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43280" y="5516640"/>
            <a:ext cx="2971800" cy="78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увства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66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1280" y="1557360"/>
            <a:ext cx="792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2997360"/>
            <a:ext cx="792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51280" y="4581360"/>
            <a:ext cx="792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51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Georgia"/>
              </a:rPr>
              <a:t>Рассеянный –</a:t>
            </a:r>
            <a:r>
              <a:rPr b="0" lang="en-US" sz="4400" spc="-1" strike="noStrike">
                <a:solidFill>
                  <a:srgbClr val="000066"/>
                </a:solidFill>
                <a:latin typeface="Georgia"/>
              </a:rPr>
              <a:t> </a:t>
            </a:r>
            <a:br>
              <a:rPr sz="4400"/>
            </a:br>
            <a:br>
              <a:rPr sz="4400"/>
            </a:b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разогнанный, разнесённый ветр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21844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Georgia"/>
              </a:rPr>
              <a:t>Лазурь – </a:t>
            </a:r>
            <a:br>
              <a:rPr sz="6000"/>
            </a:br>
            <a:br>
              <a:rPr sz="6000"/>
            </a:b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голубизна неба, голубое небо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1844280"/>
            <a:ext cx="8075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Georgia"/>
              </a:rPr>
              <a:t>Ликующий – </a:t>
            </a:r>
            <a:br>
              <a:rPr sz="6000"/>
            </a:br>
            <a:br>
              <a:rPr sz="4800"/>
            </a:br>
            <a:r>
              <a:rPr b="1" i="1" lang="en-US" sz="4800" spc="-1" strike="noStrike">
                <a:solidFill>
                  <a:srgbClr val="000066"/>
                </a:solidFill>
                <a:latin typeface="Georgia"/>
              </a:rPr>
              <a:t>очень радостный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362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9cc00"/>
                </a:solidFill>
                <a:latin typeface="Georgia"/>
              </a:rPr>
              <a:t>Облегала – </a:t>
            </a:r>
            <a:br>
              <a:rPr sz="6000"/>
            </a:br>
            <a:br>
              <a:rPr sz="6000"/>
            </a:br>
            <a:r>
              <a:rPr b="1" i="1" lang="en-US" sz="4800" spc="-1" strike="noStrike">
                <a:solidFill>
                  <a:srgbClr val="ffff99"/>
                </a:solidFill>
                <a:latin typeface="Georgia"/>
              </a:rPr>
              <a:t>заволакивала со всех сторон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3:41:56Z</dcterms:created>
  <dc:creator>Юра</dc:creator>
  <dc:description/>
  <dc:language>en-US</dc:language>
  <cp:lastModifiedBy>Юра</cp:lastModifiedBy>
  <dcterms:modified xsi:type="dcterms:W3CDTF">2008-02-12T16:35:17Z</dcterms:modified>
  <cp:revision>5</cp:revision>
  <dc:subject/>
  <dc:title>ТЕМА:   «Поэзия А.С. Пушкина – живописи и музыке сестра родная».</dc:title>
</cp:coreProperties>
</file>