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2B7-CA27-43E5-90C1-9FD1E5A1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04D-AAD1-41B0-9DE4-ADA2773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594-22B6-4B81-8C3B-88654123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C30-91A4-4FE6-B223-7596D835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26D-4C57-4CA9-A644-1923F811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739-58B4-4060-94BA-7B94D91D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3DF-E600-4A91-9E8F-C0E8282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144-811D-4A60-A67C-CD88AD4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A72-65FD-4CF9-9EDE-B84396B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8D9-B500-45F9-B773-C489FD8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BEB-0F13-44F0-879E-9FD2DF05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04E-2BB5-4532-B735-4CBAED0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DA0-BA10-4A49-BC8B-1B1803EAA3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923-2AB3-4E50-89F9-272819FD5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86F5-619A-475E-9ED6-6E21394FE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133200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 помощью циркуля и линейки без шкалы делений нарисуйте треугольник по двум данным сторонам и углу между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59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милия, имя 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 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5"/>
          <p:cNvSpPr/>
          <p:nvPr/>
        </p:nvSpPr>
        <p:spPr>
          <a:xfrm>
            <a:off x="549360" y="241128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549360" y="2627280"/>
            <a:ext cx="2168280" cy="9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 flipV="1">
            <a:off x="476280" y="2771280"/>
            <a:ext cx="1152360" cy="100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476280" y="378000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478800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 помощью циркуля и линейки без шкалы делений нарисуйте треугольник по стороне и двум прилежащим к ней угла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13"/>
          <p:cNvSpPr/>
          <p:nvPr/>
        </p:nvSpPr>
        <p:spPr>
          <a:xfrm>
            <a:off x="476280" y="601200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4"/>
          <p:cNvSpPr/>
          <p:nvPr/>
        </p:nvSpPr>
        <p:spPr>
          <a:xfrm flipV="1">
            <a:off x="620640" y="6227280"/>
            <a:ext cx="1152720" cy="100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5"/>
          <p:cNvSpPr/>
          <p:nvPr/>
        </p:nvSpPr>
        <p:spPr>
          <a:xfrm>
            <a:off x="620640" y="723600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6"/>
          <p:cNvSpPr/>
          <p:nvPr/>
        </p:nvSpPr>
        <p:spPr>
          <a:xfrm flipV="1">
            <a:off x="620640" y="7667280"/>
            <a:ext cx="720720" cy="10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17"/>
          <p:cNvSpPr/>
          <p:nvPr/>
        </p:nvSpPr>
        <p:spPr>
          <a:xfrm>
            <a:off x="620640" y="874872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9CC8-C13C-4C8B-9A3A-524425D10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684360"/>
            <a:ext cx="61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 помощью циркуля и линейки без шкалы делений нарисуйте треугольник по трем сторонам. Объясните, в каком случае выполнить данное задание невозмож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620640" y="2195640"/>
            <a:ext cx="165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4"/>
          <p:cNvSpPr/>
          <p:nvPr/>
        </p:nvSpPr>
        <p:spPr>
          <a:xfrm>
            <a:off x="620640" y="270036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>
            <a:off x="620640" y="305928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lova</cp:lastModifiedBy>
  <dcterms:modified xsi:type="dcterms:W3CDTF">2011-04-19T16:50:31Z</dcterms:modified>
  <cp:revision>33</cp:revision>
  <dc:subject/>
  <dc:title>Слайд 1</dc:title>
</cp:coreProperties>
</file>