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0A9-B1E8-4806-A119-912C963B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BF3-4735-45FF-AA38-1EE0668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958-094A-4D7C-A74C-12BA93E2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B93-37DC-4C38-8112-B67BFBA3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D24-AF8D-45CD-8FF5-DD6FD6B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A1A-F4FA-4091-ABBF-61560B5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57F-05F5-4D11-BCBC-7832DC2F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95F-B499-4E99-9BCB-4460221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680-FE8A-44C7-82F0-E7747FEE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7CF-8F85-48EB-99C0-EEA3517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96A-9A11-402E-B3BE-08D4305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2F3-203A-42B3-959F-AD08FFC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4FF-956F-4064-A605-C3D7B65FB8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B90-DEB8-44AB-B358-577A12EF0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218-E9A8-4DD4-B72F-07728B200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133200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 помощью циркуля и линейки без шкалы делений нарисуйте треугольник по двум данным сторонам и углу между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59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милия, имя 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5"/>
          <p:cNvSpPr/>
          <p:nvPr/>
        </p:nvSpPr>
        <p:spPr>
          <a:xfrm>
            <a:off x="549360" y="241128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549360" y="2627280"/>
            <a:ext cx="2168280" cy="9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 flipV="1">
            <a:off x="476280" y="2771280"/>
            <a:ext cx="1152360" cy="100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476280" y="378000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478800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 помощью циркуля и линейки без шкалы делений нарисуйте треугольник по стороне и двум прилежащим к ней угла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13"/>
          <p:cNvSpPr/>
          <p:nvPr/>
        </p:nvSpPr>
        <p:spPr>
          <a:xfrm>
            <a:off x="476280" y="601200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4"/>
          <p:cNvSpPr/>
          <p:nvPr/>
        </p:nvSpPr>
        <p:spPr>
          <a:xfrm flipV="1">
            <a:off x="620640" y="6227280"/>
            <a:ext cx="1152720" cy="100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5"/>
          <p:cNvSpPr/>
          <p:nvPr/>
        </p:nvSpPr>
        <p:spPr>
          <a:xfrm>
            <a:off x="620640" y="723600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6"/>
          <p:cNvSpPr/>
          <p:nvPr/>
        </p:nvSpPr>
        <p:spPr>
          <a:xfrm flipV="1">
            <a:off x="620640" y="7667280"/>
            <a:ext cx="720720" cy="10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17"/>
          <p:cNvSpPr/>
          <p:nvPr/>
        </p:nvSpPr>
        <p:spPr>
          <a:xfrm>
            <a:off x="620640" y="874872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5EC-1C41-4084-B1D1-474719106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68436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 помощью циркуля и линейки без шкалы делений нарисуйте треугольник по трем сторонам. Объясните, в каком случае выполнить данное задание невозмож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620640" y="2195640"/>
            <a:ext cx="165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4"/>
          <p:cNvSpPr/>
          <p:nvPr/>
        </p:nvSpPr>
        <p:spPr>
          <a:xfrm>
            <a:off x="620640" y="270036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>
            <a:off x="620640" y="305928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lova</cp:lastModifiedBy>
  <dcterms:modified xsi:type="dcterms:W3CDTF">2011-04-19T16:50:31Z</dcterms:modified>
  <cp:revision>33</cp:revision>
  <dc:subject/>
  <dc:title>Слайд 1</dc:title>
</cp:coreProperties>
</file>