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C12-B3BB-48AB-9F38-419AD17EA0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D986-F143-4D57-B550-557B720352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FDD-2935-432F-8210-8B8A4671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C80-4FB3-405D-AE95-57EB7E61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CF1-2F40-40DC-808A-98636032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24C-9F1B-48EB-8FBF-B257E7C7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A4F-B896-4B6E-9C61-BDDC210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D17-38FB-42B3-9B65-4A71B3A6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AE8-120A-4FE7-8174-A471AC17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AFA-4CE9-49E5-AACF-8BFFDDE7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FDA-2079-429B-8D6D-6A453290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5A6-070B-4F32-8AEE-CF5BA97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764-8994-4830-AD92-2440D93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C79-9BA4-4E04-BC34-B68F0B3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CAC-6605-4602-9ED0-ED744B501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7785000" cy="245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7921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втор проекта: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ыбкина Ольга Алексеевн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воспитатель МАОУ Гимназ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м. Н.В. Пуш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Calibri"/>
              </a:rPr>
              <a:t>2 этап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Прак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7164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НО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Образовательная деятельность в ходе режимных момен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родуктивная деятельность (лепка,  аппликация, конструировани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Игровая деятель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Самостоятельная деятельность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еатрализованная деятель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Работа с родител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Calibri"/>
              </a:rPr>
              <a:t>3 этап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Заключитель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99640" y="2491920"/>
            <a:ext cx="403884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Защит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пуск стенгаз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ставка книжек-самодел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53365881.n3d1ityhre.W665.png"/>
          <p:cNvPicPr/>
          <p:nvPr/>
        </p:nvPicPr>
        <p:blipFill>
          <a:blip r:embed="rId1"/>
          <a:stretch/>
        </p:blipFill>
        <p:spPr>
          <a:xfrm>
            <a:off x="5003640" y="1989000"/>
            <a:ext cx="28576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Реализация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6" descr="591208_2.png"/>
          <p:cNvPicPr/>
          <p:nvPr/>
        </p:nvPicPr>
        <p:blipFill>
          <a:blip r:embed="rId1"/>
          <a:stretch/>
        </p:blipFill>
        <p:spPr>
          <a:xfrm>
            <a:off x="2311560" y="2166840"/>
            <a:ext cx="45208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ечев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НООД «По страницам сказ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Обсуждение смысла пословицы «Сказка ложь, да в ней намек- добрым молодцам ур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Чтение сказок А.С.Пушкина «Сказка о царе Салтане», «Сказка о золотом петушке», «Сказка о рыбаке и рыбке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Чтение русских народных сказок, венгерской сказки «Два жадных медвежонка», украинской сказки «Колос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Чтение сказок Г.Х. Андерсена «Дюймовочка», «Гадкий утен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Речевые игры с прибаут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Литературная виктори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IMG-20180523-WA0007.jpg"/>
          <p:cNvPicPr/>
          <p:nvPr/>
        </p:nvPicPr>
        <p:blipFill>
          <a:blip r:embed="rId1"/>
          <a:stretch/>
        </p:blipFill>
        <p:spPr>
          <a:xfrm rot="21166800">
            <a:off x="560160" y="891720"/>
            <a:ext cx="3497040" cy="51451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6" descr="IMG-20180523-WA0026.jpg"/>
          <p:cNvPicPr/>
          <p:nvPr/>
        </p:nvPicPr>
        <p:blipFill>
          <a:blip r:embed="rId2"/>
          <a:stretch/>
        </p:blipFill>
        <p:spPr>
          <a:xfrm rot="462000">
            <a:off x="4165200" y="1777680"/>
            <a:ext cx="45640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Литературная минутка» – каждый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Беседа по сказка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кскурсия в библиоте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ООД «Как появилась книг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Производство бумаги» просмотр филь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20180511_113100.jpg"/>
          <p:cNvPicPr/>
          <p:nvPr/>
        </p:nvPicPr>
        <p:blipFill>
          <a:blip r:embed="rId1"/>
          <a:stretch/>
        </p:blipFill>
        <p:spPr>
          <a:xfrm>
            <a:off x="611280" y="1125360"/>
            <a:ext cx="8047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9" descr="20180511_110108.jpg"/>
          <p:cNvPicPr/>
          <p:nvPr/>
        </p:nvPicPr>
        <p:blipFill>
          <a:blip r:embed="rId1"/>
          <a:stretch/>
        </p:blipFill>
        <p:spPr>
          <a:xfrm>
            <a:off x="4572000" y="1268280"/>
            <a:ext cx="3718080" cy="446436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8" descr="20180511_105841.jpg"/>
          <p:cNvPicPr/>
          <p:nvPr/>
        </p:nvPicPr>
        <p:blipFill>
          <a:blip r:embed="rId2"/>
          <a:stretch/>
        </p:blipFill>
        <p:spPr>
          <a:xfrm>
            <a:off x="755640" y="1125360"/>
            <a:ext cx="35701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4" descr="20180511_110657.jpg"/>
          <p:cNvPicPr/>
          <p:nvPr/>
        </p:nvPicPr>
        <p:blipFill>
          <a:blip r:embed="rId1"/>
          <a:stretch/>
        </p:blipFill>
        <p:spPr>
          <a:xfrm>
            <a:off x="971640" y="1052640"/>
            <a:ext cx="3512880" cy="511164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5" descr="20180511_111549.jpg"/>
          <p:cNvPicPr/>
          <p:nvPr/>
        </p:nvPicPr>
        <p:blipFill>
          <a:blip r:embed="rId2"/>
          <a:stretch/>
        </p:blipFill>
        <p:spPr>
          <a:xfrm>
            <a:off x="4716360" y="1052640"/>
            <a:ext cx="3240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5" descr="20180515_162541.jpg"/>
          <p:cNvPicPr/>
          <p:nvPr/>
        </p:nvPicPr>
        <p:blipFill>
          <a:blip r:embed="rId1"/>
          <a:stretch/>
        </p:blipFill>
        <p:spPr>
          <a:xfrm>
            <a:off x="1042920" y="1197000"/>
            <a:ext cx="705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63680" y="7556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42560" y="1700280"/>
            <a:ext cx="7643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ид проекта: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рупп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должительность проект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: краткосрочный с 02.05-19.05.2018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ип проект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: познавательно-творче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астник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: дети разновозрастной группы, родители, воспит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Продуктив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епка: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Бабушкины сказ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исование: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Моя любимая сказка», «Золотой петушок», «Два жадных медвежонка», «Сказка о царе Салтан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ппликация: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Царевна лебед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нструирование: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Закладка для кни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скраск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Сказочные геро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20180510_071044.jpg"/>
          <p:cNvPicPr/>
          <p:nvPr/>
        </p:nvPicPr>
        <p:blipFill>
          <a:blip r:embed="rId1"/>
          <a:stretch/>
        </p:blipFill>
        <p:spPr>
          <a:xfrm>
            <a:off x="611280" y="1197000"/>
            <a:ext cx="7681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6" descr="20180510_101717.jpg"/>
          <p:cNvPicPr/>
          <p:nvPr/>
        </p:nvPicPr>
        <p:blipFill>
          <a:blip r:embed="rId1"/>
          <a:stretch/>
        </p:blipFill>
        <p:spPr>
          <a:xfrm>
            <a:off x="900000" y="1268280"/>
            <a:ext cx="354024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9" descr="20180510_102916.jpg"/>
          <p:cNvPicPr/>
          <p:nvPr/>
        </p:nvPicPr>
        <p:blipFill>
          <a:blip r:embed="rId2"/>
          <a:stretch/>
        </p:blipFill>
        <p:spPr>
          <a:xfrm>
            <a:off x="4859280" y="1268280"/>
            <a:ext cx="330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20180514_100334.jpg"/>
          <p:cNvPicPr/>
          <p:nvPr/>
        </p:nvPicPr>
        <p:blipFill>
          <a:blip r:embed="rId1"/>
          <a:stretch/>
        </p:blipFill>
        <p:spPr>
          <a:xfrm>
            <a:off x="1116000" y="765000"/>
            <a:ext cx="3008160" cy="53485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20180514_100346.jpg"/>
          <p:cNvPicPr/>
          <p:nvPr/>
        </p:nvPicPr>
        <p:blipFill>
          <a:blip r:embed="rId2"/>
          <a:stretch/>
        </p:blipFill>
        <p:spPr>
          <a:xfrm>
            <a:off x="4643280" y="836640"/>
            <a:ext cx="2957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гров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южетно-ролевая игра «Книжника больниц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ото- сказки «Найди героя любимой сказ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6" descr="IMG-20180523-WA0027.jpg"/>
          <p:cNvPicPr/>
          <p:nvPr/>
        </p:nvPicPr>
        <p:blipFill>
          <a:blip r:embed="rId1"/>
          <a:stretch/>
        </p:blipFill>
        <p:spPr>
          <a:xfrm>
            <a:off x="755640" y="1125360"/>
            <a:ext cx="3745080" cy="49914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IMG-20180523-WA0028.jpg"/>
          <p:cNvPicPr/>
          <p:nvPr/>
        </p:nvPicPr>
        <p:blipFill>
          <a:blip r:embed="rId2"/>
          <a:stretch/>
        </p:blipFill>
        <p:spPr>
          <a:xfrm>
            <a:off x="4716360" y="119700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Самостоятельная деятельность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ассматривание иллюстраций в книг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исование, лепка, аппликация, конструир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4" descr="11.png"/>
          <p:cNvPicPr/>
          <p:nvPr/>
        </p:nvPicPr>
        <p:blipFill>
          <a:blip r:embed="rId1"/>
          <a:stretch/>
        </p:blipFill>
        <p:spPr>
          <a:xfrm>
            <a:off x="4129200" y="1989000"/>
            <a:ext cx="440352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6" descr="20180517_135428.jpg"/>
          <p:cNvPicPr/>
          <p:nvPr/>
        </p:nvPicPr>
        <p:blipFill>
          <a:blip r:embed="rId1"/>
          <a:stretch/>
        </p:blipFill>
        <p:spPr>
          <a:xfrm>
            <a:off x="611280" y="836640"/>
            <a:ext cx="77058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6" descr="IMG-20180523-WA0018.jpg"/>
          <p:cNvPicPr/>
          <p:nvPr/>
        </p:nvPicPr>
        <p:blipFill>
          <a:blip r:embed="rId1"/>
          <a:stretch/>
        </p:blipFill>
        <p:spPr>
          <a:xfrm>
            <a:off x="755640" y="1268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7" descr="IMG-20180523-WA0003.jpg"/>
          <p:cNvPicPr/>
          <p:nvPr/>
        </p:nvPicPr>
        <p:blipFill>
          <a:blip r:embed="rId2"/>
          <a:stretch/>
        </p:blipFill>
        <p:spPr>
          <a:xfrm>
            <a:off x="4427640" y="220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еатрализованная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ея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7280" y="2707920"/>
            <a:ext cx="6707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раматизация сказ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Волк и семеро козлят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Заячья избуш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26920" y="1341360"/>
            <a:ext cx="75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Образовательная облас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ознавательное развитие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социально-коммуникативное развити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речевое развит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художественно - эстетическое развит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Цель проекта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: формирование интереса детей к детской книге через творческую и познавательную деятель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7" descr="IMG-20180523-WA0023.jpg"/>
          <p:cNvPicPr/>
          <p:nvPr/>
        </p:nvPicPr>
        <p:blipFill>
          <a:blip r:embed="rId1"/>
          <a:stretch/>
        </p:blipFill>
        <p:spPr>
          <a:xfrm>
            <a:off x="4932360" y="836640"/>
            <a:ext cx="3394080" cy="380520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9" descr="IMG-20180523-WA0004.jpg"/>
          <p:cNvPicPr/>
          <p:nvPr/>
        </p:nvPicPr>
        <p:blipFill>
          <a:blip r:embed="rId2"/>
          <a:stretch/>
        </p:blipFill>
        <p:spPr>
          <a:xfrm>
            <a:off x="324000" y="404640"/>
            <a:ext cx="4128840" cy="3097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IMG-20180523-WA0014.jpg"/>
          <p:cNvPicPr/>
          <p:nvPr/>
        </p:nvPicPr>
        <p:blipFill>
          <a:blip r:embed="rId3"/>
          <a:stretch/>
        </p:blipFill>
        <p:spPr>
          <a:xfrm>
            <a:off x="900000" y="3716280"/>
            <a:ext cx="45799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2060640"/>
            <a:ext cx="787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онсультация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«Книга в жизни ребен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формление выставки детских рису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зготовление книжек-самоде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полнение книжного уго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6" descr="IMG-20180523-WA0019.jpg"/>
          <p:cNvPicPr/>
          <p:nvPr/>
        </p:nvPicPr>
        <p:blipFill>
          <a:blip r:embed="rId1"/>
          <a:stretch/>
        </p:blipFill>
        <p:spPr>
          <a:xfrm rot="21390000">
            <a:off x="382320" y="1231920"/>
            <a:ext cx="3660840" cy="441180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7" descr="IMG-20180523-WA0009.jpg"/>
          <p:cNvPicPr/>
          <p:nvPr/>
        </p:nvPicPr>
        <p:blipFill>
          <a:blip r:embed="rId2"/>
          <a:stretch/>
        </p:blipFill>
        <p:spPr>
          <a:xfrm rot="372600">
            <a:off x="3963600" y="258480"/>
            <a:ext cx="4992840" cy="3744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IMG-20180523-WA0010.jpg"/>
          <p:cNvPicPr/>
          <p:nvPr/>
        </p:nvPicPr>
        <p:blipFill>
          <a:blip r:embed="rId3"/>
          <a:stretch/>
        </p:blipFill>
        <p:spPr>
          <a:xfrm>
            <a:off x="3851280" y="4149720"/>
            <a:ext cx="39974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ДЕТИ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лучают представления о происхождении, производстве книг, о библиотек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осваивают правила поведения в библиотеке, правила обращения с книг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называют детских автор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азличают жанры литературных произведений (рассказ, сказка, стихотворени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называют любимые сказки и герое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ересказывают и драматизируют отрывок из сказки, рассказ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эмоционально реагируют на художественные произве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лучают обогащение словаря, развитие лексико-грамматического строя, связной ре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озрождение чтения в кругу семь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536400" y="1047600"/>
            <a:ext cx="8242560" cy="150660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4" descr="IMG-20180523-WA0025.jpg"/>
          <p:cNvPicPr/>
          <p:nvPr/>
        </p:nvPicPr>
        <p:blipFill>
          <a:blip r:embed="rId2"/>
          <a:stretch/>
        </p:blipFill>
        <p:spPr>
          <a:xfrm>
            <a:off x="2556000" y="2060640"/>
            <a:ext cx="41446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826920" y="119664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ктивизировать познавательный интерес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сширять представления детей о многообразии видов и форм кни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формировать у детей понятие, что книга- источник зна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спитывать любовь к книгам, бережное отношение к н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звивать зрительное, слуховое внимание, память, воображение, творческие 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ызвать положительные эмоции и интерес при чтении кни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ть представление о библиоте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влечь родителей в совместную деятельность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Проблема чтения сейчас одна из главных в нашей стране. Большинство современных дошкольников и школьников не хотят читать книги. Им просто не интересно проводить вечер за книгой, если есть альтернатива в виде телевизора и компьютера. Это вызывает беспокойство у педагогов и роди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Значение хорошей книги в жизни человека сложно переоценить. Читающий человек – мыслящий человек! Вот почему так важно прививать детям любовь к книге начиная с дошкольного возраста. Ведь книга способствует расширению горизонта детского знания о мире, помогает ребенку усвоить образы поведения, воплощенные в тех или иных литературных героях, формирует начальный интерес к прекрасн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317520" y="82872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5280" y="263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слабевающий     интерес детей к художественн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2_6548746565758.jpg"/>
          <p:cNvPicPr/>
          <p:nvPr/>
        </p:nvPicPr>
        <p:blipFill>
          <a:blip r:embed="rId2"/>
          <a:stretch/>
        </p:blipFill>
        <p:spPr>
          <a:xfrm>
            <a:off x="4284720" y="234936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000" y="1628280"/>
            <a:ext cx="800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вышение интереса детей к чтению и художественной литерату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Знакомство детей с библиотекой и правилами поведения в библиотеке, правилами общения с книг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вышение уровня развития речи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ктивное участие родителей в жизни детского са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озрождение чтения в кругу семь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36640"/>
            <a:ext cx="40384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рганиз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ак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Заключ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97207a70ee90ad0c2312c3721fb2336d.png"/>
          <p:cNvPicPr/>
          <p:nvPr/>
        </p:nvPicPr>
        <p:blipFill>
          <a:blip r:embed="rId1"/>
          <a:stretch/>
        </p:blipFill>
        <p:spPr>
          <a:xfrm>
            <a:off x="4140360" y="1916280"/>
            <a:ext cx="3822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Calibri"/>
              </a:rPr>
              <a:t>1 этап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Организацио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Определение темы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Формулировка целей и задач. Ознакомление детей и родителей с целями и задачами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Составление плана основного этапа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одбор материала, дидактического и методического оснащения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Анкетирование родител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Опрос дет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35:22Z</dcterms:created>
  <dc:creator>Ольга</dc:creator>
  <dc:description/>
  <dc:language>en-US</dc:language>
  <cp:lastModifiedBy>Ольга</cp:lastModifiedBy>
  <dcterms:modified xsi:type="dcterms:W3CDTF">2019-01-08T18:03:16Z</dcterms:modified>
  <cp:revision>60</cp:revision>
  <dc:subject/>
  <dc:title>Познавательно-творческий проект С 03.05.2018 – 18.05.2018гг.  «Книга – лучший друг»</dc:title>
</cp:coreProperties>
</file>