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8.jpeg" ContentType="image/jpeg"/>
  <Override PartName="/ppt/media/image14.jpeg" ContentType="image/jpeg"/>
  <Override PartName="/ppt/media/image8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11.jpeg" ContentType="image/jpeg"/>
  <Override PartName="/ppt/media/image36.jpeg" ContentType="image/jpeg"/>
  <Override PartName="/ppt/media/image13.png" ContentType="image/png"/>
  <Override PartName="/ppt/media/image34.jpeg" ContentType="image/jpeg"/>
  <Override PartName="/ppt/media/image37.png" ContentType="image/png"/>
  <Override PartName="/ppt/media/image6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5.png" ContentType="image/png"/>
  <Override PartName="/ppt/media/image29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B2E7-41A4-461F-A56E-0DB73C979A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2E52-F9A8-42BE-8CE4-53C4FE750A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C786-8048-49BB-BC71-06D0715A8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7FD0-A7EE-449C-A4BF-BFDB0B95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F22C-D13D-4C26-8792-6D69D0650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1C09-75E4-4081-A7A1-A3A777493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7669-A837-4C69-BCFF-92F02881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29CE-7465-415E-B026-F9B3BCB4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F59B-C00E-49F0-BFBC-8C18D01E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8AAA-47F0-428F-B75B-3D3DE4D6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241F-2CB2-4A48-989B-96EAADA3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DBD8-2654-48A2-A44B-D3802314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090D-3379-44BA-9384-A5BB8BC2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5680-1232-4232-B159-AF91F2BC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B4F8-44CA-43CF-B2B4-691F7D8B03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676440" y="762120"/>
            <a:ext cx="7785000" cy="2450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94920" y="3933360"/>
            <a:ext cx="7921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Автор проекта: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Рыбкина Ольга Алексеевна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воспитатель МАОУ Гимназ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им. Н.В. Пушк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Calibri"/>
              </a:rPr>
              <a:t>2 этап</a:t>
            </a: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Calibri"/>
              </a:rPr>
              <a:t>Практическ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7164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НООД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Образовательная деятельность в ходе режимных моменто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Продуктивная деятельность (лепка,  аппликация, конструирование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Игровая деятельност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Самостоятельная деятельность дете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Театрализованная деятельност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Работа с родителя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Calibri"/>
              </a:rPr>
              <a:t>3 этап</a:t>
            </a: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Calibri"/>
              </a:rPr>
              <a:t>Заключительны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99640" y="2491920"/>
            <a:ext cx="4038840" cy="28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Защита прое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Выпуск стенгазе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Выставка книжек-самодел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Содержимое 4" descr="53365881.n3d1ityhre.W665.png"/>
          <p:cNvPicPr/>
          <p:nvPr/>
        </p:nvPicPr>
        <p:blipFill>
          <a:blip r:embed="rId1"/>
          <a:stretch/>
        </p:blipFill>
        <p:spPr>
          <a:xfrm>
            <a:off x="5003640" y="1989000"/>
            <a:ext cx="285768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Calibri"/>
              </a:rPr>
              <a:t>Реализация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6" descr="591208_2.png"/>
          <p:cNvPicPr/>
          <p:nvPr/>
        </p:nvPicPr>
        <p:blipFill>
          <a:blip r:embed="rId1"/>
          <a:stretch/>
        </p:blipFill>
        <p:spPr>
          <a:xfrm>
            <a:off x="2311560" y="2166840"/>
            <a:ext cx="452088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Речевое развит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82656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НООД «По страницам сказок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Обсуждение смысла пословицы «Сказка ложь, да в ней намек- добрым молодцам урок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Чтение сказок А.С.Пушкина «Сказка о царе Салтане», «Сказка о золотом петушке», «Сказка о рыбаке и рыбке»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Чтение русских народных сказок, венгерской сказки «Два жадных медвежонка», украинской сказки «Колосок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Чтение сказок Г.Х. Андерсена «Дюймовочка», «Гадкий утенок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Речевые игры с прибауткам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Литературная викторин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Содержимое 3" descr="IMG-20180523-WA0007.jpg"/>
          <p:cNvPicPr/>
          <p:nvPr/>
        </p:nvPicPr>
        <p:blipFill>
          <a:blip r:embed="rId1"/>
          <a:stretch/>
        </p:blipFill>
        <p:spPr>
          <a:xfrm rot="21166800">
            <a:off x="560160" y="891720"/>
            <a:ext cx="3497040" cy="5145120"/>
          </a:xfrm>
          <a:prstGeom prst="rect">
            <a:avLst/>
          </a:prstGeom>
          <a:ln w="0">
            <a:noFill/>
          </a:ln>
        </p:spPr>
      </p:pic>
      <p:pic>
        <p:nvPicPr>
          <p:cNvPr id="77" name="Содержимое 6" descr="IMG-20180523-WA0026.jpg"/>
          <p:cNvPicPr/>
          <p:nvPr/>
        </p:nvPicPr>
        <p:blipFill>
          <a:blip r:embed="rId2"/>
          <a:stretch/>
        </p:blipFill>
        <p:spPr>
          <a:xfrm rot="462000">
            <a:off x="4165200" y="1777680"/>
            <a:ext cx="456408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Заголовок 1" descr=""/>
          <p:cNvPicPr/>
          <p:nvPr/>
        </p:nvPicPr>
        <p:blipFill>
          <a:blip r:embed="rId1"/>
          <a:stretch/>
        </p:blipFill>
        <p:spPr>
          <a:xfrm>
            <a:off x="463680" y="615960"/>
            <a:ext cx="8242200" cy="1152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«Литературная минутка» – каждый ден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«Беседа по сказка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Экскурсия в библиоте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НООД «Как появилась книг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«Производство бумаги» просмотр филь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Содержимое 3" descr="20180511_113100.jpg"/>
          <p:cNvPicPr/>
          <p:nvPr/>
        </p:nvPicPr>
        <p:blipFill>
          <a:blip r:embed="rId1"/>
          <a:stretch/>
        </p:blipFill>
        <p:spPr>
          <a:xfrm>
            <a:off x="611280" y="1125360"/>
            <a:ext cx="804708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Содержимое 9" descr="20180511_110108.jpg"/>
          <p:cNvPicPr/>
          <p:nvPr/>
        </p:nvPicPr>
        <p:blipFill>
          <a:blip r:embed="rId1"/>
          <a:stretch/>
        </p:blipFill>
        <p:spPr>
          <a:xfrm>
            <a:off x="4572000" y="1268280"/>
            <a:ext cx="3718080" cy="4464360"/>
          </a:xfrm>
          <a:prstGeom prst="rect">
            <a:avLst/>
          </a:prstGeom>
          <a:ln w="0">
            <a:noFill/>
          </a:ln>
        </p:spPr>
      </p:pic>
      <p:pic>
        <p:nvPicPr>
          <p:cNvPr id="82" name="Содержимое 8" descr="20180511_105841.jpg"/>
          <p:cNvPicPr/>
          <p:nvPr/>
        </p:nvPicPr>
        <p:blipFill>
          <a:blip r:embed="rId2"/>
          <a:stretch/>
        </p:blipFill>
        <p:spPr>
          <a:xfrm>
            <a:off x="755640" y="1125360"/>
            <a:ext cx="357012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Содержимое 4" descr="20180511_110657.jpg"/>
          <p:cNvPicPr/>
          <p:nvPr/>
        </p:nvPicPr>
        <p:blipFill>
          <a:blip r:embed="rId1"/>
          <a:stretch/>
        </p:blipFill>
        <p:spPr>
          <a:xfrm>
            <a:off x="971640" y="1052640"/>
            <a:ext cx="3512880" cy="5111640"/>
          </a:xfrm>
          <a:prstGeom prst="rect">
            <a:avLst/>
          </a:prstGeom>
          <a:ln w="0">
            <a:noFill/>
          </a:ln>
        </p:spPr>
      </p:pic>
      <p:pic>
        <p:nvPicPr>
          <p:cNvPr id="84" name="Содержимое 5" descr="20180511_111549.jpg"/>
          <p:cNvPicPr/>
          <p:nvPr/>
        </p:nvPicPr>
        <p:blipFill>
          <a:blip r:embed="rId2"/>
          <a:stretch/>
        </p:blipFill>
        <p:spPr>
          <a:xfrm>
            <a:off x="4716360" y="1052640"/>
            <a:ext cx="324036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Содержимое 5" descr="20180515_162541.jpg"/>
          <p:cNvPicPr/>
          <p:nvPr/>
        </p:nvPicPr>
        <p:blipFill>
          <a:blip r:embed="rId1"/>
          <a:stretch/>
        </p:blipFill>
        <p:spPr>
          <a:xfrm>
            <a:off x="1042920" y="1197000"/>
            <a:ext cx="7058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463680" y="75564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042560" y="1700280"/>
            <a:ext cx="764388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Вид проекта: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группов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Продолжительность проекта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: краткосрочный с 02.05-19.05.2018г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Тип проекта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: познавательно-творчески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Участники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: дети разновозрастной группы, родители, воспитате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Calibri"/>
              </a:rPr>
              <a:t>Продуктивная деяте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82656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Лепка: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«Бабушкины сказк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Рисование: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«Моя любимая сказка», «Золотой петушок», «Два жадных медвежонка», «Сказка о царе Салтан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Аппликация: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«Царевна лебед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Конструирование: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«Закладка для книг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Раскраска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«Сказочные геро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Содержимое 3" descr="20180510_071044.jpg"/>
          <p:cNvPicPr/>
          <p:nvPr/>
        </p:nvPicPr>
        <p:blipFill>
          <a:blip r:embed="rId1"/>
          <a:stretch/>
        </p:blipFill>
        <p:spPr>
          <a:xfrm>
            <a:off x="611280" y="1197000"/>
            <a:ext cx="76816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Содержимое 6" descr="20180510_101717.jpg"/>
          <p:cNvPicPr/>
          <p:nvPr/>
        </p:nvPicPr>
        <p:blipFill>
          <a:blip r:embed="rId1"/>
          <a:stretch/>
        </p:blipFill>
        <p:spPr>
          <a:xfrm>
            <a:off x="900000" y="1268280"/>
            <a:ext cx="3540240" cy="4525920"/>
          </a:xfrm>
          <a:prstGeom prst="rect">
            <a:avLst/>
          </a:prstGeom>
          <a:ln w="0">
            <a:noFill/>
          </a:ln>
        </p:spPr>
      </p:pic>
      <p:pic>
        <p:nvPicPr>
          <p:cNvPr id="90" name="Содержимое 9" descr="20180510_102916.jpg"/>
          <p:cNvPicPr/>
          <p:nvPr/>
        </p:nvPicPr>
        <p:blipFill>
          <a:blip r:embed="rId2"/>
          <a:stretch/>
        </p:blipFill>
        <p:spPr>
          <a:xfrm>
            <a:off x="4859280" y="1268280"/>
            <a:ext cx="3305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Содержимое 4" descr="20180514_100334.jpg"/>
          <p:cNvPicPr/>
          <p:nvPr/>
        </p:nvPicPr>
        <p:blipFill>
          <a:blip r:embed="rId1"/>
          <a:stretch/>
        </p:blipFill>
        <p:spPr>
          <a:xfrm>
            <a:off x="1116000" y="765000"/>
            <a:ext cx="3008160" cy="5348520"/>
          </a:xfrm>
          <a:prstGeom prst="rect">
            <a:avLst/>
          </a:prstGeom>
          <a:ln w="0">
            <a:noFill/>
          </a:ln>
        </p:spPr>
      </p:pic>
      <p:pic>
        <p:nvPicPr>
          <p:cNvPr id="92" name="Содержимое 5" descr="20180514_100346.jpg"/>
          <p:cNvPicPr/>
          <p:nvPr/>
        </p:nvPicPr>
        <p:blipFill>
          <a:blip r:embed="rId2"/>
          <a:stretch/>
        </p:blipFill>
        <p:spPr>
          <a:xfrm>
            <a:off x="4643280" y="836640"/>
            <a:ext cx="29577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Игровая деяте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14400" y="21337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Сюжетно-ролевая игра «Книжника больниц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Лото- сказки «Найди героя любимой сказк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Содержимое 6" descr="IMG-20180523-WA0027.jpg"/>
          <p:cNvPicPr/>
          <p:nvPr/>
        </p:nvPicPr>
        <p:blipFill>
          <a:blip r:embed="rId1"/>
          <a:stretch/>
        </p:blipFill>
        <p:spPr>
          <a:xfrm>
            <a:off x="755640" y="1125360"/>
            <a:ext cx="3745080" cy="499140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7" descr="IMG-20180523-WA0028.jpg"/>
          <p:cNvPicPr/>
          <p:nvPr/>
        </p:nvPicPr>
        <p:blipFill>
          <a:blip r:embed="rId2"/>
          <a:stretch/>
        </p:blipFill>
        <p:spPr>
          <a:xfrm>
            <a:off x="4716360" y="1197000"/>
            <a:ext cx="36720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Calibri"/>
              </a:rPr>
              <a:t>Самостоятельная деятельность дет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2349000"/>
            <a:ext cx="403848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Рассматривание иллюстраций в книг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Рисование, лепка, аппликация, конструирова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Содержимое 4" descr="11.png"/>
          <p:cNvPicPr/>
          <p:nvPr/>
        </p:nvPicPr>
        <p:blipFill>
          <a:blip r:embed="rId1"/>
          <a:stretch/>
        </p:blipFill>
        <p:spPr>
          <a:xfrm>
            <a:off x="4129200" y="1989000"/>
            <a:ext cx="4403520" cy="33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Содержимое 6" descr="20180517_135428.jpg"/>
          <p:cNvPicPr/>
          <p:nvPr/>
        </p:nvPicPr>
        <p:blipFill>
          <a:blip r:embed="rId1"/>
          <a:stretch/>
        </p:blipFill>
        <p:spPr>
          <a:xfrm>
            <a:off x="611280" y="836640"/>
            <a:ext cx="770580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Содержимое 6" descr="IMG-20180523-WA0018.jpg"/>
          <p:cNvPicPr/>
          <p:nvPr/>
        </p:nvPicPr>
        <p:blipFill>
          <a:blip r:embed="rId1"/>
          <a:stretch/>
        </p:blipFill>
        <p:spPr>
          <a:xfrm>
            <a:off x="755640" y="126828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102" name="Содержимое 7" descr="IMG-20180523-WA0003.jpg"/>
          <p:cNvPicPr/>
          <p:nvPr/>
        </p:nvPicPr>
        <p:blipFill>
          <a:blip r:embed="rId2"/>
          <a:stretch/>
        </p:blipFill>
        <p:spPr>
          <a:xfrm>
            <a:off x="4427640" y="2205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Театрализованная 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деятельн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187280" y="2707920"/>
            <a:ext cx="670752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Драматизация сказо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«Волк и семеро козлят»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«Заячья избушк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826920" y="1341360"/>
            <a:ext cx="754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alibri"/>
              </a:rPr>
              <a:t>Образовательная область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познавательное развитие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социально-коммуникативное развитие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речевое развит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художественно - эстетическое развит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alibri"/>
              </a:rPr>
              <a:t>Цель проекта</a:t>
            </a: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: формирование интереса детей к детской книге через творческую и познавательную деятельност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Содержимое 7" descr="IMG-20180523-WA0023.jpg"/>
          <p:cNvPicPr/>
          <p:nvPr/>
        </p:nvPicPr>
        <p:blipFill>
          <a:blip r:embed="rId1"/>
          <a:stretch/>
        </p:blipFill>
        <p:spPr>
          <a:xfrm>
            <a:off x="4932360" y="836640"/>
            <a:ext cx="3394080" cy="3805200"/>
          </a:xfrm>
          <a:prstGeom prst="rect">
            <a:avLst/>
          </a:prstGeom>
          <a:ln w="0">
            <a:noFill/>
          </a:ln>
        </p:spPr>
      </p:pic>
      <p:pic>
        <p:nvPicPr>
          <p:cNvPr id="106" name="Содержимое 9" descr="IMG-20180523-WA0004.jpg"/>
          <p:cNvPicPr/>
          <p:nvPr/>
        </p:nvPicPr>
        <p:blipFill>
          <a:blip r:embed="rId2"/>
          <a:stretch/>
        </p:blipFill>
        <p:spPr>
          <a:xfrm>
            <a:off x="324000" y="404640"/>
            <a:ext cx="4128840" cy="309744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0" descr="IMG-20180523-WA0014.jpg"/>
          <p:cNvPicPr/>
          <p:nvPr/>
        </p:nvPicPr>
        <p:blipFill>
          <a:blip r:embed="rId3"/>
          <a:stretch/>
        </p:blipFill>
        <p:spPr>
          <a:xfrm>
            <a:off x="900000" y="3716280"/>
            <a:ext cx="457992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Работа с родителя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26920" y="2060640"/>
            <a:ext cx="787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Консультация 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«Книга в жизни ребенк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Анкетир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Оформление выставки детских рисун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Изготовление книжек-самодел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Пополнение книжного угол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Содержимое 6" descr="IMG-20180523-WA0019.jpg"/>
          <p:cNvPicPr/>
          <p:nvPr/>
        </p:nvPicPr>
        <p:blipFill>
          <a:blip r:embed="rId1"/>
          <a:stretch/>
        </p:blipFill>
        <p:spPr>
          <a:xfrm rot="21390000">
            <a:off x="382320" y="1231920"/>
            <a:ext cx="3660840" cy="4411800"/>
          </a:xfrm>
          <a:prstGeom prst="rect">
            <a:avLst/>
          </a:prstGeom>
          <a:ln w="0">
            <a:noFill/>
          </a:ln>
        </p:spPr>
      </p:pic>
      <p:pic>
        <p:nvPicPr>
          <p:cNvPr id="111" name="Содержимое 7" descr="IMG-20180523-WA0009.jpg"/>
          <p:cNvPicPr/>
          <p:nvPr/>
        </p:nvPicPr>
        <p:blipFill>
          <a:blip r:embed="rId2"/>
          <a:stretch/>
        </p:blipFill>
        <p:spPr>
          <a:xfrm rot="372600">
            <a:off x="3963600" y="258480"/>
            <a:ext cx="4992840" cy="374472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8" descr="IMG-20180523-WA0010.jpg"/>
          <p:cNvPicPr/>
          <p:nvPr/>
        </p:nvPicPr>
        <p:blipFill>
          <a:blip r:embed="rId3"/>
          <a:stretch/>
        </p:blipFill>
        <p:spPr>
          <a:xfrm>
            <a:off x="3851280" y="4149720"/>
            <a:ext cx="399744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Calibri"/>
              </a:rPr>
              <a:t>Предполагаемые результ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ДЕТИ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получают представления о происхождении, производстве книг, о библиотек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осваивают правила поведения в библиотеке, правила обращения с книго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называют детских авторов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различают жанры литературных произведений (рассказ, сказка, стихотворение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называют любимые сказки и героев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пересказывают и драматизируют отрывок из сказки, рассказ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эмоционально реагируют на художественные произведе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получают обогащение словаря, развитие лексико-грамматического строя, связной реч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возрождение чтения в кругу семь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Заголовок 1" descr=""/>
          <p:cNvPicPr/>
          <p:nvPr/>
        </p:nvPicPr>
        <p:blipFill>
          <a:blip r:embed="rId1"/>
          <a:stretch/>
        </p:blipFill>
        <p:spPr>
          <a:xfrm>
            <a:off x="536400" y="1047600"/>
            <a:ext cx="8242560" cy="1506600"/>
          </a:xfrm>
          <a:prstGeom prst="rect">
            <a:avLst/>
          </a:prstGeom>
          <a:ln w="0">
            <a:noFill/>
          </a:ln>
        </p:spPr>
      </p:pic>
      <p:pic>
        <p:nvPicPr>
          <p:cNvPr id="116" name="Содержимое 4" descr="IMG-20180523-WA0025.jpg"/>
          <p:cNvPicPr/>
          <p:nvPr/>
        </p:nvPicPr>
        <p:blipFill>
          <a:blip r:embed="rId2"/>
          <a:stretch/>
        </p:blipFill>
        <p:spPr>
          <a:xfrm>
            <a:off x="2556000" y="2060640"/>
            <a:ext cx="4144680" cy="41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826920" y="1196640"/>
            <a:ext cx="7632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Активизировать познавательный интерес дет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Расширять представления детей о многообразии видов и форм книг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Сформировать у детей понятие, что книга- источник знани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Воспитывать любовь к книгам, бережное отношение к ни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Развивать зрительное, слуховое внимание, память, воображение, творческие способ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Вызвать положительные эмоции и интерес при чтении книг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Дать представление о библиотек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Вовлечь родителей в совместную деятельность с деть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Заголовок 1" descr=""/>
          <p:cNvPicPr/>
          <p:nvPr/>
        </p:nvPicPr>
        <p:blipFill>
          <a:blip r:embed="rId1"/>
          <a:stretch/>
        </p:blipFill>
        <p:spPr>
          <a:xfrm>
            <a:off x="536400" y="542880"/>
            <a:ext cx="8242560" cy="1157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33cc"/>
                </a:solidFill>
                <a:latin typeface="Calibri"/>
              </a:rPr>
              <a:t>Проблема чтения сейчас одна из главных в нашей стране. Большинство современных дошкольников и школьников не хотят читать книги. Им просто не интересно проводить вечер за книгой, если есть альтернатива в виде телевизора и компьютера. Это вызывает беспокойство у педагогов и родителе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33cc"/>
                </a:solidFill>
                <a:latin typeface="Calibri"/>
              </a:rPr>
              <a:t>Значение хорошей книги в жизни человека сложно переоценить. Читающий человек – мыслящий человек! Вот почему так важно прививать детям любовь к книге начиная с дошкольного возраста. Ведь книга способствует расширению горизонта детского знания о мире, помогает ребенку усвоить образы поведения, воплощенные в тех или иных литературных героях, формирует начальный интерес к прекрасном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1" descr=""/>
          <p:cNvPicPr/>
          <p:nvPr/>
        </p:nvPicPr>
        <p:blipFill>
          <a:blip r:embed="rId1"/>
          <a:stretch/>
        </p:blipFill>
        <p:spPr>
          <a:xfrm>
            <a:off x="317520" y="828720"/>
            <a:ext cx="8240760" cy="1158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395280" y="263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Ослабевающий     интерес детей к художественной литерату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4" descr="2_6548746565758.jpg"/>
          <p:cNvPicPr/>
          <p:nvPr/>
        </p:nvPicPr>
        <p:blipFill>
          <a:blip r:embed="rId2"/>
          <a:stretch/>
        </p:blipFill>
        <p:spPr>
          <a:xfrm>
            <a:off x="4284720" y="234936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Calibri"/>
              </a:rPr>
              <a:t>Предполагаемый результ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4000" y="1628280"/>
            <a:ext cx="80024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Повышение интереса детей к чтению и художественной литератур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Знакомство детей с библиотекой и правилами поведения в библиотеке, правилами общения с книго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Повышение уровня развития речи дете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Активное участие родителей в жизни детского сад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Возрождение чтения в кругу семь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Calibri"/>
              </a:rPr>
              <a:t>Этапы работы над проект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95280" y="2636640"/>
            <a:ext cx="4038480" cy="27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Организацион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Практиче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Заключитель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4" descr="97207a70ee90ad0c2312c3721fb2336d.png"/>
          <p:cNvPicPr/>
          <p:nvPr/>
        </p:nvPicPr>
        <p:blipFill>
          <a:blip r:embed="rId1"/>
          <a:stretch/>
        </p:blipFill>
        <p:spPr>
          <a:xfrm>
            <a:off x="4140360" y="1916280"/>
            <a:ext cx="3822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66"/>
                </a:solidFill>
                <a:latin typeface="Calibri"/>
              </a:rPr>
              <a:t>1 этап</a:t>
            </a: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Calibri"/>
              </a:rPr>
              <a:t>Организационны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144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Определение темы проект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Формулировка целей и задач. Ознакомление детей и родителей с целями и задачами проект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Составление плана основного этапа проект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Подбор материала, дидактического и методического оснащения проект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Анкетирование родителей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Опрос дете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3T13:35:22Z</dcterms:created>
  <dc:creator>Ольга</dc:creator>
  <dc:description/>
  <dc:language>en-US</dc:language>
  <cp:lastModifiedBy>Ольга</cp:lastModifiedBy>
  <dcterms:modified xsi:type="dcterms:W3CDTF">2019-01-08T18:03:16Z</dcterms:modified>
  <cp:revision>60</cp:revision>
  <dc:subject/>
  <dc:title>Познавательно-творческий проект С 03.05.2018 – 18.05.2018гг.  «Книга – лучший друг»</dc:title>
</cp:coreProperties>
</file>