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5158-08CE-4AE8-AA48-9D14AD63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71E3-F34E-49E8-A746-45AF49F5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A1D8-973E-4912-8223-078B0FDE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BFCB-498A-45ED-B47F-686DDF6B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D914-0021-4707-A68D-403C1BC0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B496-0124-4496-8881-76DEC8A5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9F73-067D-43E4-8E4A-41C739E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A68A-83B9-4654-A8B4-FD5F79B7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3EFE-5593-4B83-8E7E-F67EFDD4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47A2-0A78-4650-B46A-643B369E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F6F7-EF2F-4E3D-9F64-EC3D7AC8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B486-01D6-48C1-A478-DCB67A38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7F41-0836-473B-9DCA-AF790687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4FF5-BA45-4AF1-B2F1-A1B4E250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2886-F8D7-4F24-BD21-13DBCC1D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D3AB-B5A8-4663-96EC-CF009440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BA55-DA28-4D77-9E0B-8929923A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D491-9943-4CCE-8126-F26C7C02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A1BD-C65D-4D80-B726-C5122400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2089-0C40-417F-A74A-EA1E0277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2586-0AEB-48E8-AD02-3A406ACF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88F1-0E7F-4891-80EE-9FF77EB4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6424-9232-4EFE-993E-49887EDA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E962-0598-4A96-928D-E15AB36A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D67F-193F-43E6-A124-A7E757D799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A75E-467B-4DDD-820F-2C69E382F7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Результаты диагностики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360" y="2666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«Правовая культура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1. Назови твои основные права перед обществом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сказывать своё мн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щаться с кем мне хоче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аво на жизнь, на учёб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молч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аво сл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т никаких прав Я сам решаю, что мне дел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Назови твои основные  обязанности перед обществом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ести себя прилично и культур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хамить взросл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хулигани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распивать спиртные напитки в общественном мест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ворова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контролировать своё поведен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одить в школу, хорошо учить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лушаться родител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нарушать закон, соблюдать Конституцию Р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ичего никому не долже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2. Как ты считаешь, кто должен нести ответственность за твой плохой поступок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ителя -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одители - 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щественные организации-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вои друзья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лассный руководитель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Я сам-5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3. Как ты поступишь в том случае, когда уверен, что это никто не узнает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умаешь о том, что тебе выгодно-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упаешь так, как считаешь правильным- 4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умаешь о том, что скажут твои друзья-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4. Как бы ты поступил, если бы в совершённом тобой преступлении обвинили другого человек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 сознался бы-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знался бы в своей вине- 5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лчал бы-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лал вид, что лично знал это-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5. Какую ответственность  уголовную или административную несёт ученик за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04920" y="1676520"/>
          <a:ext cx="8686800" cy="4884480"/>
        </p:xfrm>
        <a:graphic>
          <a:graphicData uri="http://schemas.openxmlformats.org/drawingml/2006/table">
            <a:tbl>
              <a:tblPr/>
              <a:tblGrid>
                <a:gridCol w="2895480"/>
                <a:gridCol w="2743200"/>
                <a:gridCol w="304812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ров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Уголовная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Администрати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рчу  школьного имуще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чтожение зелёных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сажд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улиган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ьян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6. Каково твоё отношение к правонарушениям и правонарушителям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гативное, отрицательное, плохо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х никто не любит, не уважает, таких людей нужно избегать, жизнь без них была бы лучш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льзя нарушать законы, а кто это делает должен понести наказ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 делают то, что считают нужным я в это не лезу. Мне параллель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26T18:35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