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996E-16A6-45A3-9D44-8EDD2EB0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9B0C-F558-4AA4-9B15-A5B13BA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F5E9-47CE-4B62-93FD-39E61BD5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E05D-0D3B-4B3A-9212-ACAFC022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669-DB0F-41AA-B418-AB2CF148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3BD8-B60D-41D5-BEEA-028DC09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2CDB-FB1B-4289-9759-6D4D3C2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EC9-AF62-4C2C-9B8A-FEA12B91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8F50-D509-4454-99C2-CE0B986B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946-81DF-49E6-BCDE-5C98BDD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92E4-5640-4050-A1BD-64179C7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3848-8BC2-4C91-8103-44D5A5E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D7E-0319-4AE9-93C9-460017F6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D88-9DE4-4566-AE3E-C4AA270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E230-36FB-4845-ABA9-58946EF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96C8-5CAB-477B-8A09-98E0B99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DC77-B1E6-4B8B-908E-21D276E6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8F9D-FDF3-4AAA-8168-7B8A9292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D41A-CF7C-4782-847E-58022E9A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2E2C-8D4A-45A4-A5C4-35D64BCF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DD49-6EAA-49F0-B9C9-FC6DAB86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31CE-5301-4065-A754-4C4315D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A7AF-8B38-4532-B2C3-6A4F5B45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2252-F9D2-4D3E-AD10-75EC540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ACA8-8B37-4E3F-9310-CD0411DD2A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043-EE3C-4335-AFB0-E797DA5F52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Результаты диагностики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«Правовая культура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1. Назови твои основные права перед общество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сказывать своё мн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щаться с кем мне хоче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о на жизнь, на учёб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молч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о с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т никаких прав Я сам решаю, что мне дел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Назови твои основные  обязанности перед общество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ести себя прилично и культур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хамить взросл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хулиган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распивать спиртные напитки в общественном мес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воров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контролировать своё поведен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одить в школу, хорошо учи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лушаться родите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нарушать закон, соблюдать Конституцию Р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ичего никому не долж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2. Как ты считаешь, кто должен нести ответственность за твой плохой поступок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теля -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одители - 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щественные организации-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вои друзья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сный руководитель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Я сам-5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3. Как ты поступишь в том случае, когда уверен, что это никто не узнает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умаешь о том, что тебе выгодно-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упаешь так, как считаешь правильным- 4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умаешь о том, что скажут твои друзья-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4. Как бы ты поступил, если бы в совершённом тобой преступлении обвинили другого человек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сознался бы-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знался бы в своей вине- 5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лчал бы-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лал вид, что лично знал это-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5. Какую ответственность  уголовную или административную несёт ученик за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676520"/>
          <a:ext cx="8686800" cy="4884480"/>
        </p:xfrm>
        <a:graphic>
          <a:graphicData uri="http://schemas.openxmlformats.org/drawingml/2006/table">
            <a:tbl>
              <a:tblPr/>
              <a:tblGrid>
                <a:gridCol w="2895480"/>
                <a:gridCol w="2743200"/>
                <a:gridCol w="304812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ров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Уголовная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Администр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рчу  школьного имущ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чтожение зелёны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сажд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улиган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ьян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6. Каково твоё отношение к правонарушениям и правонарушителя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гативное, отрицательное, плох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х никто не любит, не уважает, таких людей нужно избегать, жизнь без них была бы лучш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льзя нарушать законы, а кто это делает должен понести наказ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 делают то, что считают нужным я в это не лезу. Мне параллель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6T18:35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