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E41-3CAD-48B6-A3C0-A39AFFE85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912-83B5-483D-827D-3679869A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3C58-5EA0-427F-823F-370FA25AE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ABB-A529-43A2-AC85-DBA9FA40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7A9F-70E7-48D4-A3A4-AD40E0EF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4BC-FC18-428E-B7F2-3849C6AE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223F-9372-43C1-8E03-BD74F99C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47B-329B-480D-AC33-D8A1F1C6A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02A-59FC-4743-B1DB-02B918C6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9315-6E25-4B36-9877-1F8F4539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A38-DBC4-4F4C-894E-E9300198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7771-3D1C-48C8-BDB1-6B71D4441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53E4-E471-4F9A-BEA1-A14E41993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5720" y="18900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цена 1. Занятия Королевы и профессора.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01760" y="906480"/>
            <a:ext cx="193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оле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фесс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нц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6360" y="404640"/>
            <a:ext cx="78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цена 2. Снаряжение падчерицы в лес за подснеж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3880" y="1125360"/>
            <a:ext cx="167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ч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ч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дчер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19280" y="189000"/>
            <a:ext cx="69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цена 3. Встреча падчерицы и месяцев в л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1200" y="112536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дчер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5:30:48Z</dcterms:created>
  <dc:creator>Family</dc:creator>
  <dc:description/>
  <dc:language>en-US</dc:language>
  <cp:lastModifiedBy>Family</cp:lastModifiedBy>
  <dcterms:modified xsi:type="dcterms:W3CDTF">2018-04-26T15:34:34Z</dcterms:modified>
  <cp:revision>2</cp:revision>
  <dc:subject/>
  <dc:title>Слайд 1</dc:title>
</cp:coreProperties>
</file>