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38EA-F462-4C3B-8E72-263C7CA0D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886C-2E4E-4711-9D86-E494F222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B9A6-E9DB-4074-B62B-1967C2E4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51D6-DC12-499F-9673-D5F3D4EA0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5F67-2C4C-45E0-B13A-94902CC6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C36E-DB3D-44F8-ADD1-8215C3E9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7E7A-8786-4781-9FEA-40F5B1F4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3F7B-59A3-408D-A23B-0E0A1261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2A65-3C4F-4CFA-8004-5910E67B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E40-F37F-4328-96E3-5766F0F0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36D9-3124-41C8-B1F2-A4E57342F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17F7-1206-4204-AE9F-6C275CA6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9D1-1EDF-4172-B862-59E6B181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755720" y="189000"/>
            <a:ext cx="66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Сцена 1. Занятия Королевы и профессора.</a:t>
            </a:r>
            <a:r>
              <a:rPr b="0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301760" y="906480"/>
            <a:ext cx="1939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ол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оролев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офессор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Канцл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756360" y="404640"/>
            <a:ext cx="78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цена 2. Снаряжение падчерицы в лес за подснежн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23880" y="1125360"/>
            <a:ext cx="167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Мачех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Доч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дчер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619280" y="189000"/>
            <a:ext cx="69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Сцена 3. Встреча падчерицы и месяцев в лес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1200" y="112536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Рол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адчериц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 месяц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5:30:48Z</dcterms:created>
  <dc:creator>Family</dc:creator>
  <dc:description/>
  <dc:language>en-US</dc:language>
  <cp:lastModifiedBy>Family</cp:lastModifiedBy>
  <dcterms:modified xsi:type="dcterms:W3CDTF">2018-04-26T15:34:34Z</dcterms:modified>
  <cp:revision>2</cp:revision>
  <dc:subject/>
  <dc:title>Слайд 1</dc:title>
</cp:coreProperties>
</file>