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6FD-D05C-4005-8658-04B45C0B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B8B-2715-4D77-8D0D-6CCED8C3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E46-CA49-4060-A2F7-9B2FB69D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ED0-7C3C-4760-9638-2DBC963D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8EC-E742-40E5-AD92-5342E721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7F4-5D17-4315-9169-D2663A9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FB1-A502-4C0C-A051-4A92994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05BE-73BC-4A4F-A7BD-1A84EDF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5DBA-39FD-4E68-A306-0834E26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6689-08DE-427D-A56A-597EC42D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BD1-BCCD-4516-B03F-42D4057C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C58-D0C2-4134-B19F-F71974F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2088-7DA6-4791-B451-1F49252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5E3-A93F-4ACB-88D0-D5CD3B5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50F-11C3-417F-BC5D-0FE924D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3489-6AF7-4881-B273-D0BF5863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A9F3-D01E-4DD0-87D4-A3935352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AD2-2002-456B-B134-90714EA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489-7849-4A0F-89E3-DBA04E04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AD4-E17C-4B4B-9446-EE74E93D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E16-536C-4879-963B-D99D866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4AA-DE81-499B-9352-5D02967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624-7EDC-4CCF-BB20-517F7F1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DC3-0AB3-4C53-9E20-33D813E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E16-B216-46BE-9A9C-34E94671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A65-A578-441F-AA76-51F05AF6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Ostrouhov_Zolotaya_Osen.jpg?uselang=r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operativno.ua/images/userimages/articles/0a04347ffefc2497c0d8f19a044613f5.jp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28876"/>
          <p:cNvPicPr/>
          <p:nvPr/>
        </p:nvPicPr>
        <p:blipFill>
          <a:blip r:embed="rId1"/>
          <a:stretch/>
        </p:blipFill>
        <p:spPr>
          <a:xfrm>
            <a:off x="179280" y="404640"/>
            <a:ext cx="8766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a7462932e7da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utumn_13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ван Алексеевич Бунин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         «ЛИСТОПАД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. С. Остроухов «Золотая осен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Ostrouhov Zolotaya Os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4464000" cy="35020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5292720" y="981000"/>
            <a:ext cx="385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. И. Леви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«Золотая осен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Левитан Золотая осень"/>
          <p:cNvPicPr/>
          <p:nvPr/>
        </p:nvPicPr>
        <p:blipFill>
          <a:blip r:embed="rId3"/>
          <a:stretch/>
        </p:blipFill>
        <p:spPr>
          <a:xfrm>
            <a:off x="4356000" y="3263760"/>
            <a:ext cx="478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www.buninmuseum.narod.ru/data/halls/elkray/mb_018.JPG"/>
          <p:cNvPicPr/>
          <p:nvPr/>
        </p:nvPicPr>
        <p:blipFill>
          <a:blip r:embed="rId1"/>
          <a:stretch/>
        </p:blipFill>
        <p:spPr>
          <a:xfrm>
            <a:off x="2916360" y="2060640"/>
            <a:ext cx="6227640" cy="4649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59280" y="188640"/>
            <a:ext cx="608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ван Алексеевич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уни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pодился 22 октябpя 1870 года в Воpонеж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31-010"/>
          <p:cNvPicPr/>
          <p:nvPr/>
        </p:nvPicPr>
        <p:blipFill>
          <a:blip r:embed="rId2"/>
          <a:stretch/>
        </p:blipFill>
        <p:spPr>
          <a:xfrm>
            <a:off x="0" y="0"/>
            <a:ext cx="2700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тство Бунин провел в небольшом родовом имении в деревенской глуш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young.rzd.ru/dbmm/images/41/4074/23711"/>
          <p:cNvPicPr/>
          <p:nvPr/>
        </p:nvPicPr>
        <p:blipFill>
          <a:blip r:embed="rId1"/>
          <a:srcRect l="3349" t="0" r="3349" b="0"/>
          <a:stretch/>
        </p:blipFill>
        <p:spPr>
          <a:xfrm>
            <a:off x="539640" y="26028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О чем писал Буни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detbook.ru/wp-content/uploads/2009/03/Bunin-420x543.jpg"/>
          <p:cNvPicPr/>
          <p:nvPr/>
        </p:nvPicPr>
        <p:blipFill>
          <a:blip r:embed="rId1"/>
          <a:stretch/>
        </p:blipFill>
        <p:spPr>
          <a:xfrm>
            <a:off x="250920" y="1052640"/>
            <a:ext cx="2952720" cy="39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cbs-angarsk.ru/images/stories/kids/read/Detstva_pora_zolotaya.jpg"/>
          <p:cNvPicPr/>
          <p:nvPr/>
        </p:nvPicPr>
        <p:blipFill>
          <a:blip r:embed="rId2"/>
          <a:stretch/>
        </p:blipFill>
        <p:spPr>
          <a:xfrm>
            <a:off x="6046920" y="1125360"/>
            <a:ext cx="3097080" cy="388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libex.ru/dimg/35110.jpg"/>
          <p:cNvPicPr/>
          <p:nvPr/>
        </p:nvPicPr>
        <p:blipFill>
          <a:blip r:embed="rId3"/>
          <a:stretch/>
        </p:blipFill>
        <p:spPr>
          <a:xfrm>
            <a:off x="3276720" y="1484280"/>
            <a:ext cx="2663640" cy="38577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9"/>
          <p:cNvSpPr/>
          <p:nvPr/>
        </p:nvSpPr>
        <p:spPr>
          <a:xfrm flipV="1" rot="10800000">
            <a:off x="250920" y="5248800"/>
            <a:ext cx="446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Так знать и любить прир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умеет Бунин – мало кто у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Благодаря этой любви поэт смот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алеко и зорко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лександр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.А.Бунин «ЛИСТОПАД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44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70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ил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лубой с розовым оттенком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ветло-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агря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расный густого, тёмного отт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Лазу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ветло-сини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орожё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Объясните смысл выраж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ёртвое молча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дце замирает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5902"/>
          <p:cNvPicPr/>
          <p:nvPr/>
        </p:nvPicPr>
        <p:blipFill>
          <a:blip r:embed="rId1"/>
          <a:stretch/>
        </p:blipFill>
        <p:spPr>
          <a:xfrm>
            <a:off x="250920" y="189000"/>
            <a:ext cx="504180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1190119717_e"/>
          <p:cNvPicPr/>
          <p:nvPr/>
        </p:nvPicPr>
        <p:blipFill>
          <a:blip r:embed="rId2"/>
          <a:stretch/>
        </p:blipFill>
        <p:spPr>
          <a:xfrm>
            <a:off x="250920" y="4292640"/>
            <a:ext cx="3382920" cy="227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22151982_file1485"/>
          <p:cNvPicPr/>
          <p:nvPr/>
        </p:nvPicPr>
        <p:blipFill>
          <a:blip r:embed="rId3"/>
          <a:stretch/>
        </p:blipFill>
        <p:spPr>
          <a:xfrm>
            <a:off x="5076720" y="3141720"/>
            <a:ext cx="38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1:46:48Z</dcterms:created>
  <dc:creator>1</dc:creator>
  <dc:description/>
  <dc:language>en-US</dc:language>
  <cp:lastModifiedBy>Evgeny</cp:lastModifiedBy>
  <dcterms:modified xsi:type="dcterms:W3CDTF">2019-01-08T08:03:20Z</dcterms:modified>
  <cp:revision>18</cp:revision>
  <dc:subject/>
  <dc:title>И.А. Бунин </dc:title>
</cp:coreProperties>
</file>