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0ABC-FDDD-4ED5-8768-C4B3D132E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5AA8-1644-4426-A2CB-15FF16952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A77D-A8E2-4ED9-BCAA-CBF844023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F371-AED2-4290-9392-55ED73415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51244-17C8-4F00-83B2-3399D1781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705ED-E501-4CEE-95D1-6417E9FFA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06A09-7F4E-4DDE-B2CF-7536AD481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212B2-1BBA-417D-8D9A-1F0A3A830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D42FA-E48E-4F87-85D9-7686B9FC9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F113E-6F7F-4848-B6A0-BFF33C2A4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DFEC6-FA98-4DB7-BB4A-C68CC073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14CC-7E50-46D8-B049-9F5389121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B0EFF-9207-449F-9566-EFE27558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14366-611F-4764-8AFA-2DA9CCF8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ECDA8-8C85-4F81-9245-8FCF1591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362DF-DB14-4C3C-BF9B-2E2378644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9FB12-606A-40C3-85F4-A14B7D17E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FEAD-B028-4F6C-BD6A-7B3EE6986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93D1-A18D-499A-8060-6AFB76145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651E-065C-4BCD-A222-EDBBAF6D5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07E2-C04F-46F8-9861-89904CE94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0D7E-F15B-4716-AA37-36903A37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ECCD-F040-4741-A3D2-25FE36FA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DB39-E3E3-43C7-A192-62FCB4B2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3927D-A79B-4105-9759-4E3577B4A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35134-1152-4B3C-837F-BA13B25F2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commons.wikimedia.org/wiki/File:Ostrouhov_Zolotaya_Osen.jpg?uselang=ru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operativno.ua/images/userimages/articles/0a04347ffefc2497c0d8f19a044613f5.jpg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628876"/>
          <p:cNvPicPr/>
          <p:nvPr/>
        </p:nvPicPr>
        <p:blipFill>
          <a:blip r:embed="rId1"/>
          <a:stretch/>
        </p:blipFill>
        <p:spPr>
          <a:xfrm>
            <a:off x="179280" y="404640"/>
            <a:ext cx="876636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a7462932e7da"/>
          <p:cNvPicPr/>
          <p:nvPr/>
        </p:nvPicPr>
        <p:blipFill>
          <a:blip r:embed="rId1"/>
          <a:stretch/>
        </p:blipFill>
        <p:spPr>
          <a:xfrm>
            <a:off x="324000" y="189000"/>
            <a:ext cx="8496000" cy="63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Monotype Corsiva"/>
              </a:rPr>
              <a:t>Спасибо за урок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autumn_13"/>
          <p:cNvPicPr/>
          <p:nvPr/>
        </p:nvPicPr>
        <p:blipFill>
          <a:blip r:embed="rId1"/>
          <a:stretch/>
        </p:blipFill>
        <p:spPr>
          <a:xfrm>
            <a:off x="611280" y="1628640"/>
            <a:ext cx="7993080" cy="49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ru-RU" sz="6000" spc="-1" strike="noStrike">
                <a:solidFill>
                  <a:srgbClr val="002060"/>
                </a:solidFill>
                <a:latin typeface="Monotype Corsiva"/>
              </a:rPr>
              <a:t>    </a:t>
            </a:r>
            <a:r>
              <a:rPr b="0" lang="ru-RU" sz="6000" spc="-1" strike="noStrike">
                <a:solidFill>
                  <a:srgbClr val="002060"/>
                </a:solidFill>
                <a:latin typeface="Monotype Corsiva"/>
              </a:rPr>
              <a:t>Иван Алексеевич Бунин </a:t>
            </a:r>
            <a:br>
              <a:rPr sz="6000"/>
            </a:br>
            <a:r>
              <a:rPr b="0" lang="ru-RU" sz="6000" spc="-1" strike="noStrike">
                <a:solidFill>
                  <a:srgbClr val="002060"/>
                </a:solidFill>
                <a:latin typeface="Monotype Corsiva"/>
              </a:rPr>
              <a:t>          «ЛИСТОПАД»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Monotype Corsiva"/>
              </a:rPr>
              <a:t>И. С. Остроухов «Золотая осень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Ostrouhov Zolotaya Ose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125360"/>
            <a:ext cx="4464000" cy="350208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3"/>
          <p:cNvSpPr/>
          <p:nvPr/>
        </p:nvSpPr>
        <p:spPr>
          <a:xfrm>
            <a:off x="5292720" y="981000"/>
            <a:ext cx="3851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Monotype Corsiva"/>
              </a:rPr>
              <a:t>И. И. Левита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Monotype Corsiva"/>
              </a:rPr>
              <a:t>«Золотая осень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Левитан Золотая осень"/>
          <p:cNvPicPr/>
          <p:nvPr/>
        </p:nvPicPr>
        <p:blipFill>
          <a:blip r:embed="rId3"/>
          <a:stretch/>
        </p:blipFill>
        <p:spPr>
          <a:xfrm>
            <a:off x="4356000" y="3263760"/>
            <a:ext cx="4788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http://www.buninmuseum.narod.ru/data/halls/elkray/mb_018.JPG"/>
          <p:cNvPicPr/>
          <p:nvPr/>
        </p:nvPicPr>
        <p:blipFill>
          <a:blip r:embed="rId1"/>
          <a:stretch/>
        </p:blipFill>
        <p:spPr>
          <a:xfrm>
            <a:off x="2916360" y="2060640"/>
            <a:ext cx="6227640" cy="46497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059280" y="188640"/>
            <a:ext cx="608472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Иван Алексеевич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Бунин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pодился 22 октябpя 1870 года в Воpонеже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4" descr="31-010"/>
          <p:cNvPicPr/>
          <p:nvPr/>
        </p:nvPicPr>
        <p:blipFill>
          <a:blip r:embed="rId2"/>
          <a:stretch/>
        </p:blipFill>
        <p:spPr>
          <a:xfrm>
            <a:off x="0" y="0"/>
            <a:ext cx="270036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Детство Бунин провел в небольшом родовом имении в деревенской глуши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http://young.rzd.ru/dbmm/images/41/4074/23711"/>
          <p:cNvPicPr/>
          <p:nvPr/>
        </p:nvPicPr>
        <p:blipFill>
          <a:blip r:embed="rId1"/>
          <a:srcRect l="3349" t="0" r="3349" b="0"/>
          <a:stretch/>
        </p:blipFill>
        <p:spPr>
          <a:xfrm>
            <a:off x="539640" y="260280"/>
            <a:ext cx="756144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О чем писал Бунин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http://detbook.ru/wp-content/uploads/2009/03/Bunin-420x543.jpg"/>
          <p:cNvPicPr/>
          <p:nvPr/>
        </p:nvPicPr>
        <p:blipFill>
          <a:blip r:embed="rId1"/>
          <a:stretch/>
        </p:blipFill>
        <p:spPr>
          <a:xfrm>
            <a:off x="250920" y="1052640"/>
            <a:ext cx="2952720" cy="3951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http://cbs-angarsk.ru/images/stories/kids/read/Detstva_pora_zolotaya.jpg"/>
          <p:cNvPicPr/>
          <p:nvPr/>
        </p:nvPicPr>
        <p:blipFill>
          <a:blip r:embed="rId2"/>
          <a:stretch/>
        </p:blipFill>
        <p:spPr>
          <a:xfrm>
            <a:off x="6046920" y="1125360"/>
            <a:ext cx="3097080" cy="3889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http://www.libex.ru/dimg/35110.jpg"/>
          <p:cNvPicPr/>
          <p:nvPr/>
        </p:nvPicPr>
        <p:blipFill>
          <a:blip r:embed="rId3"/>
          <a:stretch/>
        </p:blipFill>
        <p:spPr>
          <a:xfrm>
            <a:off x="3276720" y="1484280"/>
            <a:ext cx="2663640" cy="385776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9"/>
          <p:cNvSpPr/>
          <p:nvPr/>
        </p:nvSpPr>
        <p:spPr>
          <a:xfrm flipV="1" rot="10800000">
            <a:off x="250920" y="5248800"/>
            <a:ext cx="4465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«Так знать и любить природ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как умеет Бунин – мало кто уме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Благодаря этой любви поэт смотр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далеко и зорко..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Александр Бл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ru-RU" sz="6000" spc="-1" strike="noStrike">
                <a:solidFill>
                  <a:srgbClr val="002060"/>
                </a:solidFill>
                <a:latin typeface="Monotype Corsiva"/>
              </a:rPr>
              <a:t>И.А.Бунин «ЛИСТОПАД»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3" descr="44"/>
          <p:cNvPicPr/>
          <p:nvPr/>
        </p:nvPicPr>
        <p:blipFill>
          <a:blip r:embed="rId1"/>
          <a:stretch/>
        </p:blipFill>
        <p:spPr>
          <a:xfrm>
            <a:off x="539640" y="1484280"/>
            <a:ext cx="7993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16000" y="333360"/>
            <a:ext cx="75708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Словар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Лиловы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голубой с розовым оттенком (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ветло-фиолетовы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Багряны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красный густого, тёмного отт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Arial"/>
              </a:rPr>
              <a:t>Лазур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светло-синий цв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ворожённы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2. Объясните смысл выражен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ёртвое молчание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ердце замирает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0" descr="5902"/>
          <p:cNvPicPr/>
          <p:nvPr/>
        </p:nvPicPr>
        <p:blipFill>
          <a:blip r:embed="rId1"/>
          <a:stretch/>
        </p:blipFill>
        <p:spPr>
          <a:xfrm>
            <a:off x="250920" y="189000"/>
            <a:ext cx="5041800" cy="3887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1190119717_e"/>
          <p:cNvPicPr/>
          <p:nvPr/>
        </p:nvPicPr>
        <p:blipFill>
          <a:blip r:embed="rId2"/>
          <a:stretch/>
        </p:blipFill>
        <p:spPr>
          <a:xfrm>
            <a:off x="250920" y="4292640"/>
            <a:ext cx="3382920" cy="2279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22151982_file1485"/>
          <p:cNvPicPr/>
          <p:nvPr/>
        </p:nvPicPr>
        <p:blipFill>
          <a:blip r:embed="rId3"/>
          <a:stretch/>
        </p:blipFill>
        <p:spPr>
          <a:xfrm>
            <a:off x="5076720" y="3141720"/>
            <a:ext cx="381636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21:46:48Z</dcterms:created>
  <dc:creator>1</dc:creator>
  <dc:description/>
  <dc:language>en-US</dc:language>
  <cp:lastModifiedBy>Evgeny</cp:lastModifiedBy>
  <dcterms:modified xsi:type="dcterms:W3CDTF">2019-01-08T08:03:20Z</dcterms:modified>
  <cp:revision>18</cp:revision>
  <dc:subject/>
  <dc:title>И.А. Бунин </dc:title>
</cp:coreProperties>
</file>