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984F-0534-4CF9-AEA4-E7AECCA0DA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47E4-C5B4-429C-B864-D0A84DB54A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ADE8-2A55-4C39-9037-A9C784D322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C7F1-D744-4A8C-9343-417DB47848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6AE1-AB21-47C1-974D-C0A0E7B1DD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951F-D74D-4D1F-A6DC-95A510DF96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B3C5-B1E0-4288-BE67-63D605B0B8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F500-B688-4842-AC07-839063F120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E0E2-FF7D-4034-B396-21A111446B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BA88-3D83-49D3-B037-B98F6ADB6A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2F94-FD0D-481E-BC42-51A57DCD1E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2A40-C898-406C-83FE-1328210836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28CE-7088-4DB3-8DE0-FC82292434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E821-2C59-4303-9251-461B6CB7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2272-9C7D-463F-8D42-392444E6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BCC-ABA8-404C-ABBF-00F1B3BE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CB5-0813-46F9-9EE2-021E1749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5919-EE4A-492F-B284-4133CA39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8F31-CB7F-4C95-AC4C-CA7E9BA9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2E4A-6610-4CC0-928C-10F14A42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4800-092D-496A-8BD4-5372995C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D3F2-B0CC-498A-B7F8-6865DDC7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F234-4121-4C03-8FDE-339DAB1C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1793-41DD-46D1-9B92-E85D1FD3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8F3-9290-45C9-8279-89DF1A3D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FF9B-D17C-4FA8-8CEC-FC1D2C19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C2BF-61E9-425E-885B-303F3A06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9841-C229-4F40-BFF8-4D578A1D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E269-D6F6-4303-BB34-93433BBE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9621-8C3D-4D31-80AD-B6F34A4D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9077-FFCC-4941-8CBB-926C1EF8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921AE-CDC1-4D0F-AB10-DC6EB530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2C2DF-48E4-4BAE-8E19-E3148256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815F3-C07A-45D6-B430-31CFCBD5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340EF-FDA8-4F86-860B-99C14B45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490-E690-4E8F-BF2A-4F16BB1B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EFA1A-9F5C-4BE7-BCD1-16D4BA93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9E75F-4DC2-44E0-8514-55E1E130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9FDE3-F1D3-41E3-BD7D-7BA1D045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5C401-11D4-472D-8936-4B54534F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C8203-909A-4F22-92E6-FA2799CF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3C14F-CCEE-4405-9490-CDE39247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61299-3462-44A9-9214-A69D1F21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160-F0FD-469C-A3C6-73AEFA2E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82DD-E6E7-4923-99B5-FBFFCCCA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5EA5-A727-416F-9A2B-30C812C1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102-329E-4568-B8C9-CABACEFA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957E-D8F2-49E9-A758-5FD4E5BF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ACC9-AF2D-4274-B584-573AE173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333333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A3BE-26A8-435E-A374-F9A75EAF3A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E08D-D993-42A1-99A2-EDF067555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9160" cy="5562720"/>
            <a:chOff x="380880" y="457200"/>
            <a:chExt cx="839916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9160" cy="5562720"/>
            </a:xfrm>
            <a:prstGeom prst="rect">
              <a:avLst/>
            </a:prstGeom>
            <a:solidFill>
              <a:srgbClr val="333333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3068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628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8200" y="6248520"/>
            <a:ext cx="205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438E-6177-4FD8-B25F-408781D7FC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3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Albinoni-Giazotto_Adagio-symp_Karajan.mp3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7"/>
          <p:cNvSpPr/>
          <p:nvPr/>
        </p:nvSpPr>
        <p:spPr>
          <a:xfrm>
            <a:off x="2700360" y="6237360"/>
            <a:ext cx="4032360" cy="429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Вечная память погибшим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80000" y="2204640"/>
            <a:ext cx="45352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imes New Roman"/>
              </a:rPr>
              <a:t>«Мать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76360" y="693360"/>
            <a:ext cx="4680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ндрей  Платон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4140360" y="3284640"/>
            <a:ext cx="43192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«Взыскание погибших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943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4i"/>
          <p:cNvPicPr/>
          <p:nvPr/>
        </p:nvPicPr>
        <p:blipFill>
          <a:blip r:embed="rId2"/>
          <a:stretch/>
        </p:blipFill>
        <p:spPr>
          <a:xfrm>
            <a:off x="7236000" y="404640"/>
            <a:ext cx="1077840" cy="1224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3" name="Picture 8" descr="Kos-20"/>
          <p:cNvPicPr/>
          <p:nvPr/>
        </p:nvPicPr>
        <p:blipFill>
          <a:blip r:embed="rId3"/>
          <a:stretch/>
        </p:blipFill>
        <p:spPr>
          <a:xfrm>
            <a:off x="817560" y="2133720"/>
            <a:ext cx="2746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6"/>
          <p:cNvSpPr txBox="1"/>
          <p:nvPr/>
        </p:nvSpPr>
        <p:spPr>
          <a:xfrm rot="282600">
            <a:off x="792000" y="980640"/>
            <a:ext cx="7596360" cy="480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Из безд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взываю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bc9a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3" descr="p24_3"/>
          <p:cNvPicPr/>
          <p:nvPr/>
        </p:nvPicPr>
        <p:blipFill>
          <a:blip r:embed="rId1"/>
          <a:stretch/>
        </p:blipFill>
        <p:spPr>
          <a:xfrm>
            <a:off x="2627280" y="333360"/>
            <a:ext cx="3927600" cy="5759640"/>
          </a:xfrm>
          <a:prstGeom prst="rect">
            <a:avLst/>
          </a:prstGeom>
          <a:ln w="101520">
            <a:solidFill>
              <a:srgbClr val="debc9a"/>
            </a:solidFill>
            <a:miter/>
          </a:ln>
        </p:spPr>
      </p:pic>
      <p:sp>
        <p:nvSpPr>
          <p:cNvPr id="146" name="Text Box 14"/>
          <p:cNvSpPr/>
          <p:nvPr/>
        </p:nvSpPr>
        <p:spPr>
          <a:xfrm>
            <a:off x="2201040" y="6242040"/>
            <a:ext cx="470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e4c9ae"/>
                </a:solidFill>
                <a:latin typeface="Arial"/>
              </a:rPr>
              <a:t>Богородица с младенцем на рука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Albinoni-Giazotto_Adagio-symp_Karajan.mp3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c9ae"/>
            </a:gs>
            <a:gs pos="100000">
              <a:srgbClr val="0000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f4ba9a276312"/>
          <p:cNvPicPr/>
          <p:nvPr/>
        </p:nvPicPr>
        <p:blipFill>
          <a:blip r:embed="rId1"/>
          <a:stretch/>
        </p:blipFill>
        <p:spPr>
          <a:xfrm>
            <a:off x="2195640" y="262080"/>
            <a:ext cx="4832280" cy="5903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7"/>
          <p:cNvSpPr/>
          <p:nvPr/>
        </p:nvSpPr>
        <p:spPr>
          <a:xfrm>
            <a:off x="2483640" y="6308640"/>
            <a:ext cx="43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4c9ae"/>
                </a:solidFill>
                <a:latin typeface="Arial"/>
              </a:rPr>
              <a:t>Богородица, оплакивающая </a:t>
            </a:r>
            <a:r>
              <a:rPr b="0" i="1" lang="en-US" sz="2200" spc="-1" strike="noStrike">
                <a:solidFill>
                  <a:srgbClr val="e4c9ae"/>
                </a:solidFill>
                <a:latin typeface="Arial"/>
              </a:rPr>
              <a:t>Сы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c9ae"/>
            </a:gs>
            <a:gs pos="100000">
              <a:srgbClr val="272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Vziskanie_pogibshix"/>
          <p:cNvPicPr/>
          <p:nvPr/>
        </p:nvPicPr>
        <p:blipFill>
          <a:blip r:embed="rId1"/>
          <a:stretch/>
        </p:blipFill>
        <p:spPr>
          <a:xfrm>
            <a:off x="2340000" y="431640"/>
            <a:ext cx="4643280" cy="5589720"/>
          </a:xfrm>
          <a:prstGeom prst="rect">
            <a:avLst/>
          </a:prstGeom>
          <a:ln w="88920">
            <a:solidFill>
              <a:srgbClr val="debc9a"/>
            </a:solidFill>
            <a:miter/>
          </a:ln>
        </p:spPr>
      </p:pic>
      <p:sp>
        <p:nvSpPr>
          <p:cNvPr id="151" name="Text Box 8"/>
          <p:cNvSpPr/>
          <p:nvPr/>
        </p:nvSpPr>
        <p:spPr>
          <a:xfrm>
            <a:off x="3178080" y="6283440"/>
            <a:ext cx="362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e4c9ae"/>
                </a:solidFill>
                <a:latin typeface="Arial"/>
              </a:rPr>
              <a:t>«Взыскание погибших</a:t>
            </a:r>
            <a:r>
              <a:rPr b="0" lang="en-US" sz="2200" spc="-1" strike="noStrike">
                <a:solidFill>
                  <a:srgbClr val="e4c9ae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1624320" y="6308640"/>
            <a:ext cx="636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e4c9ae"/>
                </a:solidFill>
                <a:latin typeface="Arial"/>
              </a:rPr>
              <a:t>Станислав Косенков. На пепелище. 1985-198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0:43:35Z</dcterms:created>
  <dc:creator>Ученик</dc:creator>
  <dc:description/>
  <dc:language>en-US</dc:language>
  <cp:lastModifiedBy>МОУ СОШ №1</cp:lastModifiedBy>
  <dcterms:modified xsi:type="dcterms:W3CDTF">2010-01-29T07:12:31Z</dcterms:modified>
  <cp:revision>15</cp:revision>
  <dc:subject/>
  <dc:title>«Мать»   («Взыскание погибших»)</dc:title>
</cp:coreProperties>
</file>