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7B2B-DBAD-4109-886D-D376156612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4D0C-3F75-4345-9B4C-DD5294F9C4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9223-6F7F-42BB-8C7D-2996AFD6F4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A237-B4AA-4D96-9540-AB6005C4EF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EEF5-AA7F-46C4-90BD-2E0F8867BC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7561-385D-4EFF-9E39-4E3EABCE6A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DD52-B75A-4288-AB78-6CB7B958BD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EC46-CC7A-4449-8CCA-2DBB3F68DA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9E41-6411-4339-90CA-67C8111C91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0DAA-9988-4964-B894-2905D6D734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470B-4D3D-40B5-BEE2-C6525A87EC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0AFC-7216-4D16-8930-754294704F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484E-D82A-4DD2-88C6-82E40C3F89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920-8D3B-4D73-9C26-CB57B757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0AC-F129-4E7B-AAD2-81C323F5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CCE-4BC1-411F-ADB0-49B90C45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D10-9268-46CC-8A24-E59E3421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277E-9068-44E5-B708-867748D7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D268-40DF-4E9F-97A8-375022C1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B351-7E83-4523-A99F-82FA7736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6B7B-DADB-4B1A-BAFF-63CF2077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2756-313C-4C07-A649-4DA56010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8C05-F062-45BC-9C00-E60659A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E646-C55C-4154-8FB3-F9120D0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C11-587C-4439-93EA-DD4A2491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7271-02D8-4E92-AC68-58373148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F79C-5F2B-4165-879A-E0F51BFF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2C4C-D089-4727-84C0-464A562D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03D2-1085-4CEA-B0CE-82783D36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0477-1DD2-45D4-9225-B2FE3220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26A4-1EE6-45E9-87EF-E12F506D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4B32C-CB8B-4FFB-B3B3-BBFE77C8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22C5-E802-42BC-B670-D7232B94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1E75-3991-4C27-8BA7-8880DDBE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28FF-903D-4048-9AFF-C4AB3CE4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8C6-7FF6-4A30-8B75-DCEB476B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B60D-DD80-4D53-A6B2-283F6D87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320A-8BE3-4486-A08A-60B1DF5E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8B28-8F37-4BD4-B2BF-480A80FD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5445-4193-4CA4-ACEA-A6DE6718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4440-21A4-445E-852D-448256C1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EEA1-B297-45A3-9069-C73C1DB8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80CC-CDB1-4C45-A20B-74CCB0A6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27B-5544-4647-9B6C-3AEF4CAD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824-F934-41BB-95E3-CE1BE2DF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E7A-818B-4A0F-9A98-6DACEF9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1DC-5095-47F8-84B9-A33929F8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2C9-F766-4B85-95BB-0FF4A3CC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F3B-B5A5-4BC8-BB6F-F81B3D02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333333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742D-2097-44E8-9087-E06000D5D3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60B-2623-484E-9FC6-49A063658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9160" cy="5562720"/>
            <a:chOff x="380880" y="457200"/>
            <a:chExt cx="839916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9160" cy="5562720"/>
            </a:xfrm>
            <a:prstGeom prst="rect">
              <a:avLst/>
            </a:prstGeom>
            <a:solidFill>
              <a:srgbClr val="33333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3068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62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8200" y="6248520"/>
            <a:ext cx="20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42F-EEC1-420D-AEBC-EA9DC3CFCA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Albinoni-Giazotto_Adagio-symp_Karajan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7"/>
          <p:cNvSpPr/>
          <p:nvPr/>
        </p:nvSpPr>
        <p:spPr>
          <a:xfrm>
            <a:off x="2700360" y="6237360"/>
            <a:ext cx="4032360" cy="429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Вечная память погибшим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80000" y="2204640"/>
            <a:ext cx="4535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«Мать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76360" y="693360"/>
            <a:ext cx="4680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ндрей  Платон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4140360" y="3284640"/>
            <a:ext cx="43192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«Взыскание погибших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943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4i"/>
          <p:cNvPicPr/>
          <p:nvPr/>
        </p:nvPicPr>
        <p:blipFill>
          <a:blip r:embed="rId2"/>
          <a:stretch/>
        </p:blipFill>
        <p:spPr>
          <a:xfrm>
            <a:off x="7236000" y="404640"/>
            <a:ext cx="1077840" cy="1224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3" name="Picture 8" descr="Kos-20"/>
          <p:cNvPicPr/>
          <p:nvPr/>
        </p:nvPicPr>
        <p:blipFill>
          <a:blip r:embed="rId3"/>
          <a:stretch/>
        </p:blipFill>
        <p:spPr>
          <a:xfrm>
            <a:off x="817560" y="2133720"/>
            <a:ext cx="2746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6"/>
          <p:cNvSpPr txBox="1"/>
          <p:nvPr/>
        </p:nvSpPr>
        <p:spPr>
          <a:xfrm rot="282600">
            <a:off x="792000" y="980640"/>
            <a:ext cx="7596360" cy="480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Из безд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взываю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bc9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3" descr="p24_3"/>
          <p:cNvPicPr/>
          <p:nvPr/>
        </p:nvPicPr>
        <p:blipFill>
          <a:blip r:embed="rId1"/>
          <a:stretch/>
        </p:blipFill>
        <p:spPr>
          <a:xfrm>
            <a:off x="2627280" y="333360"/>
            <a:ext cx="3927600" cy="5759640"/>
          </a:xfrm>
          <a:prstGeom prst="rect">
            <a:avLst/>
          </a:prstGeom>
          <a:ln w="101520">
            <a:solidFill>
              <a:srgbClr val="debc9a"/>
            </a:solidFill>
            <a:miter/>
          </a:ln>
        </p:spPr>
      </p:pic>
      <p:sp>
        <p:nvSpPr>
          <p:cNvPr id="146" name="Text Box 14"/>
          <p:cNvSpPr/>
          <p:nvPr/>
        </p:nvSpPr>
        <p:spPr>
          <a:xfrm>
            <a:off x="2201040" y="6242040"/>
            <a:ext cx="470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c9ae"/>
                </a:solidFill>
                <a:latin typeface="Arial"/>
              </a:rPr>
              <a:t>Богородица с младенцем на рука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Albinoni-Giazotto_Adagio-symp_Karajan.mp3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c9ae"/>
            </a:gs>
            <a:gs pos="100000">
              <a:srgbClr val="0000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f4ba9a276312"/>
          <p:cNvPicPr/>
          <p:nvPr/>
        </p:nvPicPr>
        <p:blipFill>
          <a:blip r:embed="rId1"/>
          <a:stretch/>
        </p:blipFill>
        <p:spPr>
          <a:xfrm>
            <a:off x="2195640" y="262080"/>
            <a:ext cx="4832280" cy="5903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2483640" y="6308640"/>
            <a:ext cx="43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4c9ae"/>
                </a:solidFill>
                <a:latin typeface="Arial"/>
              </a:rPr>
              <a:t>Богородица, оплакивающая </a:t>
            </a:r>
            <a:r>
              <a:rPr b="0" i="1" lang="en-US" sz="2200" spc="-1" strike="noStrike">
                <a:solidFill>
                  <a:srgbClr val="e4c9ae"/>
                </a:solidFill>
                <a:latin typeface="Arial"/>
              </a:rPr>
              <a:t>Сы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c9ae"/>
            </a:gs>
            <a:gs pos="100000">
              <a:srgbClr val="272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Vziskanie_pogibshix"/>
          <p:cNvPicPr/>
          <p:nvPr/>
        </p:nvPicPr>
        <p:blipFill>
          <a:blip r:embed="rId1"/>
          <a:stretch/>
        </p:blipFill>
        <p:spPr>
          <a:xfrm>
            <a:off x="2340000" y="431640"/>
            <a:ext cx="4643280" cy="5589720"/>
          </a:xfrm>
          <a:prstGeom prst="rect">
            <a:avLst/>
          </a:prstGeom>
          <a:ln w="88920">
            <a:solidFill>
              <a:srgbClr val="debc9a"/>
            </a:solidFill>
            <a:miter/>
          </a:ln>
        </p:spPr>
      </p:pic>
      <p:sp>
        <p:nvSpPr>
          <p:cNvPr id="151" name="Text Box 8"/>
          <p:cNvSpPr/>
          <p:nvPr/>
        </p:nvSpPr>
        <p:spPr>
          <a:xfrm>
            <a:off x="3178080" y="6283440"/>
            <a:ext cx="362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c9ae"/>
                </a:solidFill>
                <a:latin typeface="Arial"/>
              </a:rPr>
              <a:t>«Взыскание погибших</a:t>
            </a:r>
            <a:r>
              <a:rPr b="0" lang="en-US" sz="2200" spc="-1" strike="noStrike">
                <a:solidFill>
                  <a:srgbClr val="e4c9ae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1624320" y="6308640"/>
            <a:ext cx="636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c9ae"/>
                </a:solidFill>
                <a:latin typeface="Arial"/>
              </a:rPr>
              <a:t>Станислав Косенков. На пепелище. 1985-198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0:43:35Z</dcterms:created>
  <dc:creator>Ученик</dc:creator>
  <dc:description/>
  <dc:language>en-US</dc:language>
  <cp:lastModifiedBy>МОУ СОШ №1</cp:lastModifiedBy>
  <dcterms:modified xsi:type="dcterms:W3CDTF">2010-01-29T07:12:31Z</dcterms:modified>
  <cp:revision>15</cp:revision>
  <dc:subject/>
  <dc:title>«Мать»   («Взыскание погибших»)</dc:title>
</cp:coreProperties>
</file>