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F5D-7211-40A7-9B6E-41A74C24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048-8CC2-4985-B541-997AA86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B71-7B3C-4CC2-9C52-37A50B6D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C0B-1F67-4616-9FB1-4AC0232E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A3B-6824-4848-A35D-F1A965D4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0AA-A774-40D3-B592-7FEA5861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B56-FBB8-45AD-825C-FCE3DB4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A75-7053-4B24-B949-B285478C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DED-DA84-437E-92B2-411BB53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1FC-85B3-46B0-BF61-5EB9679A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DA5-D774-458E-A1B8-A67422A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C8B-E49C-4223-BE34-01362EA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19C1-602D-475D-A757-FDC27540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Всех звуков и цветов соотношенья,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А также способы переложенья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Любых оттенков цвета в ноты, звуки.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О, как хотелось мне азы науки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акой постичь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Герман Гесс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ря –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емно-си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f2407"/>
                </a:solidFill>
                <a:latin typeface="Arial"/>
              </a:rPr>
              <a:t>ярко-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глою - 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бел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голубова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-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ет- </a:t>
            </a:r>
            <a:r>
              <a:rPr b="0" lang="ru-RU" sz="3200" spc="-1" strike="noStrike">
                <a:solidFill>
                  <a:srgbClr val="99ccff"/>
                </a:solidFill>
                <a:latin typeface="Arial"/>
              </a:rPr>
              <a:t>голубоват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хри-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ные –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ёрный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тя-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емно-си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ярко-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707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15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Organization Chart 7"/>
          <p:cNvGrpSpPr/>
          <p:nvPr/>
        </p:nvGrpSpPr>
        <p:grpSpPr>
          <a:xfrm>
            <a:off x="457200" y="457200"/>
            <a:ext cx="8228520" cy="5789520"/>
            <a:chOff x="457200" y="457200"/>
            <a:chExt cx="8228520" cy="578952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100120" y="2243880"/>
              <a:ext cx="1158480" cy="22154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H="1" flipV="1" rot="5400000">
              <a:off x="2883960" y="2243880"/>
              <a:ext cx="1158480" cy="22161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0"/>
            <p:cNvSpPr/>
            <p:nvPr/>
          </p:nvSpPr>
          <p:spPr>
            <a:xfrm>
              <a:off x="2673000" y="457200"/>
              <a:ext cx="3797640" cy="23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703"/>
                </a:gs>
                <a:gs pos="50000">
                  <a:srgbClr val="ffffff"/>
                </a:gs>
                <a:gs pos="100000">
                  <a:srgbClr val="fdf7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99"/>
                  </a:solidFill>
                  <a:latin typeface="Arial"/>
                </a:rPr>
                <a:t>Звукопис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457200" y="3930840"/>
              <a:ext cx="3797640" cy="23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703"/>
                </a:gs>
                <a:gs pos="50000">
                  <a:srgbClr val="ffffff"/>
                </a:gs>
                <a:gs pos="100000">
                  <a:srgbClr val="fdf7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Arial"/>
                </a:rPr>
                <a:t>Аллитера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>
              <a:off x="4888080" y="3930840"/>
              <a:ext cx="3797640" cy="23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703"/>
                </a:gs>
                <a:gs pos="50000">
                  <a:srgbClr val="ffffff"/>
                </a:gs>
                <a:gs pos="100000">
                  <a:srgbClr val="fdf7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73211"/>
                  </a:solidFill>
                  <a:latin typeface="Arial"/>
                </a:rPr>
                <a:t>Ассонан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Бу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я мг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л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ою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ебо кро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Вих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и 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еж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ые к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утя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То как зве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ь о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а за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о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То зап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л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ачет, как дит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февраль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G:\1234567890\snowstorm.jpg"/>
          <p:cNvPicPr/>
          <p:nvPr/>
        </p:nvPicPr>
        <p:blipFill>
          <a:blip r:embed="rId2"/>
          <a:stretch/>
        </p:blipFill>
        <p:spPr>
          <a:xfrm>
            <a:off x="685800" y="533520"/>
            <a:ext cx="7765920" cy="5821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28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Средства музыкальной выраз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Diagram 6"/>
          <p:cNvGrpSpPr/>
          <p:nvPr/>
        </p:nvGrpSpPr>
        <p:grpSpPr>
          <a:xfrm>
            <a:off x="1233360" y="1789200"/>
            <a:ext cx="6677280" cy="4146480"/>
            <a:chOff x="1233360" y="1789200"/>
            <a:chExt cx="6677280" cy="4146480"/>
          </a:xfrm>
        </p:grpSpPr>
        <p:sp>
          <p:nvSpPr>
            <p:cNvPr id="64" name="_s2052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53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Мелоди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54"/>
            <p:cNvSpPr/>
            <p:nvPr/>
          </p:nvSpPr>
          <p:spPr>
            <a:xfrm>
              <a:off x="4370400" y="3019320"/>
              <a:ext cx="168588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55"/>
            <p:cNvSpPr/>
            <p:nvPr/>
          </p:nvSpPr>
          <p:spPr>
            <a:xfrm>
              <a:off x="6224760" y="3652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56"/>
            <p:cNvSpPr/>
            <p:nvPr/>
          </p:nvSpPr>
          <p:spPr>
            <a:xfrm>
              <a:off x="3728880" y="3660840"/>
              <a:ext cx="1686240" cy="16858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7"/>
            <p:cNvSpPr/>
            <p:nvPr/>
          </p:nvSpPr>
          <p:spPr>
            <a:xfrm>
              <a:off x="3728880" y="5514840"/>
              <a:ext cx="1686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Динами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58"/>
            <p:cNvSpPr/>
            <p:nvPr/>
          </p:nvSpPr>
          <p:spPr>
            <a:xfrm>
              <a:off x="3087720" y="301932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59"/>
            <p:cNvSpPr/>
            <p:nvPr/>
          </p:nvSpPr>
          <p:spPr>
            <a:xfrm>
              <a:off x="1233360" y="3652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Интонация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одика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овышение и понижение голос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е ударени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самое «сильное» слово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2971800" y="1752120"/>
            <a:ext cx="990720" cy="228960"/>
            <a:chOff x="2971800" y="1752120"/>
            <a:chExt cx="990720" cy="228960"/>
          </a:xfrm>
        </p:grpSpPr>
        <p:sp>
          <p:nvSpPr>
            <p:cNvPr id="75" name="Line 4"/>
            <p:cNvSpPr/>
            <p:nvPr/>
          </p:nvSpPr>
          <p:spPr>
            <a:xfrm flipV="1">
              <a:off x="2971800" y="1752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3581280" y="175248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7"/>
          <p:cNvSpPr/>
          <p:nvPr/>
        </p:nvSpPr>
        <p:spPr>
          <a:xfrm>
            <a:off x="2438280" y="4419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Всех звуков и цветов соотношенья,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А также способы переложенья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Любых оттенков цвета в ноты, звуки.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О, как хотелось мне азы науки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акой постичь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Герман Гесс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Буря мглою небо кро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ихри снежные крут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8"/>
          <p:cNvSpPr txBox="1"/>
          <p:nvPr/>
        </p:nvSpPr>
        <p:spPr>
          <a:xfrm>
            <a:off x="1143000" y="1066680"/>
            <a:ext cx="7162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740000"/>
                  </a:solidFill>
                  <a:miter/>
                </a:ln>
                <a:gradFill rotWithShape="0">
                  <a:gsLst>
                    <a:gs pos="0">
                      <a:srgbClr val="f73211"/>
                    </a:gs>
                    <a:gs pos="50000">
                      <a:srgbClr val="fdf703"/>
                    </a:gs>
                    <a:gs pos="100000">
                      <a:srgbClr val="f7321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удожественное</a:t>
            </a:r>
            <a:endParaRPr b="1" lang="en-US" sz="1800" spc="1" strike="noStrike">
              <a:ln w="25560">
                <a:solidFill>
                  <a:srgbClr val="740000"/>
                </a:solidFill>
                <a:miter/>
              </a:ln>
              <a:gradFill rotWithShape="0">
                <a:gsLst>
                  <a:gs pos="0">
                    <a:srgbClr val="f73211"/>
                  </a:gs>
                  <a:gs pos="50000">
                    <a:srgbClr val="fdf703"/>
                  </a:gs>
                  <a:gs pos="100000">
                    <a:srgbClr val="f7321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740000"/>
                  </a:solidFill>
                  <a:miter/>
                </a:ln>
                <a:gradFill rotWithShape="0">
                  <a:gsLst>
                    <a:gs pos="0">
                      <a:srgbClr val="f73211"/>
                    </a:gs>
                    <a:gs pos="50000">
                      <a:srgbClr val="fdf703"/>
                    </a:gs>
                    <a:gs pos="100000">
                      <a:srgbClr val="f7321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 </a:t>
            </a:r>
            <a:endParaRPr b="1" lang="en-US" sz="1800" spc="1" strike="noStrike">
              <a:ln w="25560">
                <a:solidFill>
                  <a:srgbClr val="740000"/>
                </a:solidFill>
                <a:miter/>
              </a:ln>
              <a:gradFill rotWithShape="0">
                <a:gsLst>
                  <a:gs pos="0">
                    <a:srgbClr val="f73211"/>
                  </a:gs>
                  <a:gs pos="50000">
                    <a:srgbClr val="fdf703"/>
                  </a:gs>
                  <a:gs pos="100000">
                    <a:srgbClr val="f7321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740000"/>
                  </a:solidFill>
                  <a:miter/>
                </a:ln>
                <a:gradFill rotWithShape="0">
                  <a:gsLst>
                    <a:gs pos="0">
                      <a:srgbClr val="f73211"/>
                    </a:gs>
                    <a:gs pos="50000">
                      <a:srgbClr val="fdf703"/>
                    </a:gs>
                    <a:gs pos="100000">
                      <a:srgbClr val="f7321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цвете и звуке</a:t>
            </a:r>
            <a:endParaRPr b="1" lang="en-US" sz="1800" spc="1" strike="noStrike">
              <a:ln w="25560">
                <a:solidFill>
                  <a:srgbClr val="740000"/>
                </a:solidFill>
                <a:miter/>
              </a:ln>
              <a:gradFill rotWithShape="0">
                <a:gsLst>
                  <a:gs pos="0">
                    <a:srgbClr val="f73211"/>
                  </a:gs>
                  <a:gs pos="50000">
                    <a:srgbClr val="fdf703"/>
                  </a:gs>
                  <a:gs pos="100000">
                    <a:srgbClr val="f7321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о, как зверь, она заво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о заплачет, как дит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Arial"/>
              </a:rPr>
              <a:t>Ц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олжить знакомство с удивительным миром поэзии     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ее связь с миром живописи и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shkin_tropinin"/>
          <p:cNvPicPr/>
          <p:nvPr/>
        </p:nvPicPr>
        <p:blipFill>
          <a:blip r:embed="rId1"/>
          <a:stretch/>
        </p:blipFill>
        <p:spPr>
          <a:xfrm>
            <a:off x="1047600" y="1847880"/>
            <a:ext cx="285768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228600"/>
          <a:ext cx="8763120" cy="62784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284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о-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5270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, светло-же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-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84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-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252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ева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но-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убова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ачный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но-коричн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6:57:05Z</dcterms:created>
  <dc:creator>Ученик</dc:creator>
  <dc:description/>
  <dc:language>en-US</dc:language>
  <cp:lastModifiedBy>User</cp:lastModifiedBy>
  <dcterms:modified xsi:type="dcterms:W3CDTF">2011-04-29T03:57:2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