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044A-3A83-4F1C-9DBC-49E50704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CF17-0952-4955-AEB6-9CDEF8EA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7705-E466-4DF7-9E6F-422F351E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7C3-F051-4DAC-B001-615065FA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113-ACD1-45EF-ABCF-681B134A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27A-5D91-428F-A5C3-51FE1897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DD53-9FDB-4E2E-9BAD-8E26C21E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D74-AE77-4AC9-9B40-CE1C5062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3BD-EA81-4485-AD18-EBEB2518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8063-4513-4D79-95EB-AA1BF668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FDF-7DE5-4CE5-B19E-95C0A08F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E2B6-4523-4E4E-81DF-687D6D38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B7F7-C84A-4D1E-A313-B1374D2FA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9144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Всех звуков и цветов соотношенья,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А также способы переложенья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Любых оттенков цвета в ноты, звуки.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О, как хотелось мне азы науки 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такой постичь…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Герман Гесс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ря –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темно-си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cf2407"/>
                </a:solidFill>
                <a:latin typeface="Arial"/>
              </a:rPr>
              <a:t>ярко-кр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глою - </a:t>
            </a: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бел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голубова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о-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зелё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бе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ет- </a:t>
            </a:r>
            <a:r>
              <a:rPr b="0" lang="ru-RU" sz="3200" spc="-1" strike="noStrike">
                <a:solidFill>
                  <a:srgbClr val="99ccff"/>
                </a:solidFill>
                <a:latin typeface="Arial"/>
              </a:rPr>
              <a:t>голубоват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зелё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хри-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и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и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жные –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зелё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чёрный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зелё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тя-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темно-си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ярко-кр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982440" cy="7077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915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Organization Chart 7"/>
          <p:cNvGrpSpPr/>
          <p:nvPr/>
        </p:nvGrpSpPr>
        <p:grpSpPr>
          <a:xfrm>
            <a:off x="457200" y="457200"/>
            <a:ext cx="8228520" cy="5789520"/>
            <a:chOff x="457200" y="457200"/>
            <a:chExt cx="8228520" cy="5789520"/>
          </a:xfrm>
        </p:grpSpPr>
        <p:cxnSp>
          <p:nvCxnSpPr>
            <p:cNvPr id="54" name="_s1028"/>
            <p:cNvCxnSpPr>
              <a:stCxn id="55" idx="0"/>
              <a:endCxn id="56" idx="2"/>
            </p:cNvCxnSpPr>
            <p:nvPr/>
          </p:nvCxnSpPr>
          <p:spPr>
            <a:xfrm flipV="1" rot="16200000">
              <a:off x="5100120" y="2243880"/>
              <a:ext cx="1158480" cy="221544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29"/>
            <p:cNvCxnSpPr>
              <a:stCxn id="58" idx="0"/>
              <a:endCxn id="56" idx="2"/>
            </p:cNvCxnSpPr>
            <p:nvPr/>
          </p:nvCxnSpPr>
          <p:spPr>
            <a:xfrm flipH="1" flipV="1" rot="5400000">
              <a:off x="2883960" y="2243880"/>
              <a:ext cx="1158480" cy="221616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" name="_s1030"/>
            <p:cNvSpPr/>
            <p:nvPr/>
          </p:nvSpPr>
          <p:spPr>
            <a:xfrm>
              <a:off x="2673000" y="457200"/>
              <a:ext cx="3797640" cy="231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703"/>
                </a:gs>
                <a:gs pos="50000">
                  <a:srgbClr val="ffffff"/>
                </a:gs>
                <a:gs pos="100000">
                  <a:srgbClr val="fdf7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99"/>
                  </a:solidFill>
                  <a:latin typeface="Arial"/>
                </a:rPr>
                <a:t>Звукопис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1"/>
            <p:cNvSpPr/>
            <p:nvPr/>
          </p:nvSpPr>
          <p:spPr>
            <a:xfrm>
              <a:off x="457200" y="3930840"/>
              <a:ext cx="3797640" cy="231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703"/>
                </a:gs>
                <a:gs pos="50000">
                  <a:srgbClr val="ffffff"/>
                </a:gs>
                <a:gs pos="100000">
                  <a:srgbClr val="fdf7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8000"/>
                  </a:solidFill>
                  <a:latin typeface="Arial"/>
                </a:rPr>
                <a:t>Аллитерац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2"/>
            <p:cNvSpPr/>
            <p:nvPr/>
          </p:nvSpPr>
          <p:spPr>
            <a:xfrm>
              <a:off x="4888080" y="3930840"/>
              <a:ext cx="3797640" cy="231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703"/>
                </a:gs>
                <a:gs pos="50000">
                  <a:srgbClr val="ffffff"/>
                </a:gs>
                <a:gs pos="100000">
                  <a:srgbClr val="fdf7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73211"/>
                  </a:solidFill>
                  <a:latin typeface="Arial"/>
                </a:rPr>
                <a:t>Ассонан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Бу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р</a:t>
            </a: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я мг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л</a:t>
            </a: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ою 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н</a:t>
            </a: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ебо кроет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Вих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р</a:t>
            </a: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и с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н</a:t>
            </a: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еж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н</a:t>
            </a: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ые к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р</a:t>
            </a: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утя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То как зве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р</a:t>
            </a: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ь о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н</a:t>
            </a: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а за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оет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То зап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л</a:t>
            </a:r>
            <a:r>
              <a:rPr b="0" lang="en-US" sz="5400" spc="-1" strike="noStrike">
                <a:solidFill>
                  <a:srgbClr val="19194d"/>
                </a:solidFill>
                <a:latin typeface="Arial"/>
              </a:rPr>
              <a:t>ачет, как дит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февраль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G:\1234567890\snowstorm.jpg"/>
          <p:cNvPicPr/>
          <p:nvPr/>
        </p:nvPicPr>
        <p:blipFill>
          <a:blip r:embed="rId2"/>
          <a:stretch/>
        </p:blipFill>
        <p:spPr>
          <a:xfrm>
            <a:off x="685800" y="533520"/>
            <a:ext cx="7765920" cy="5821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2858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Arial"/>
              </a:rPr>
              <a:t>Средства музыкальной вырази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Diagram 6"/>
          <p:cNvGrpSpPr/>
          <p:nvPr/>
        </p:nvGrpSpPr>
        <p:grpSpPr>
          <a:xfrm>
            <a:off x="1233360" y="1789200"/>
            <a:ext cx="6677280" cy="4146480"/>
            <a:chOff x="1233360" y="1789200"/>
            <a:chExt cx="6677280" cy="4146480"/>
          </a:xfrm>
        </p:grpSpPr>
        <p:sp>
          <p:nvSpPr>
            <p:cNvPr id="64" name="_s2052"/>
            <p:cNvSpPr/>
            <p:nvPr/>
          </p:nvSpPr>
          <p:spPr>
            <a:xfrm>
              <a:off x="3728880" y="2378160"/>
              <a:ext cx="1686240" cy="168588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2053"/>
            <p:cNvSpPr/>
            <p:nvPr/>
          </p:nvSpPr>
          <p:spPr>
            <a:xfrm>
              <a:off x="3728880" y="1789200"/>
              <a:ext cx="1686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Мелодик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2054"/>
            <p:cNvSpPr/>
            <p:nvPr/>
          </p:nvSpPr>
          <p:spPr>
            <a:xfrm>
              <a:off x="4370400" y="3019320"/>
              <a:ext cx="1685880" cy="16858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2055"/>
            <p:cNvSpPr/>
            <p:nvPr/>
          </p:nvSpPr>
          <p:spPr>
            <a:xfrm>
              <a:off x="6224760" y="365292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Тем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2056"/>
            <p:cNvSpPr/>
            <p:nvPr/>
          </p:nvSpPr>
          <p:spPr>
            <a:xfrm>
              <a:off x="3728880" y="3660840"/>
              <a:ext cx="1686240" cy="168588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2057"/>
            <p:cNvSpPr/>
            <p:nvPr/>
          </p:nvSpPr>
          <p:spPr>
            <a:xfrm>
              <a:off x="3728880" y="5514840"/>
              <a:ext cx="168624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Динамик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2058"/>
            <p:cNvSpPr/>
            <p:nvPr/>
          </p:nvSpPr>
          <p:spPr>
            <a:xfrm>
              <a:off x="3087720" y="3019320"/>
              <a:ext cx="1685880" cy="16858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2059"/>
            <p:cNvSpPr/>
            <p:nvPr/>
          </p:nvSpPr>
          <p:spPr>
            <a:xfrm>
              <a:off x="1233360" y="365292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Рит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Arial"/>
              </a:rPr>
              <a:t>Интонация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лодика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повышение и понижение голос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у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|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еское ударение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самое «сильное» слово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6"/>
          <p:cNvGrpSpPr/>
          <p:nvPr/>
        </p:nvGrpSpPr>
        <p:grpSpPr>
          <a:xfrm>
            <a:off x="2971800" y="1752120"/>
            <a:ext cx="990720" cy="228960"/>
            <a:chOff x="2971800" y="1752120"/>
            <a:chExt cx="990720" cy="228960"/>
          </a:xfrm>
        </p:grpSpPr>
        <p:sp>
          <p:nvSpPr>
            <p:cNvPr id="75" name="Line 4"/>
            <p:cNvSpPr/>
            <p:nvPr/>
          </p:nvSpPr>
          <p:spPr>
            <a:xfrm flipV="1">
              <a:off x="2971800" y="17521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"/>
            <p:cNvSpPr/>
            <p:nvPr/>
          </p:nvSpPr>
          <p:spPr>
            <a:xfrm>
              <a:off x="3581280" y="1752480"/>
              <a:ext cx="381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7"/>
          <p:cNvSpPr/>
          <p:nvPr/>
        </p:nvSpPr>
        <p:spPr>
          <a:xfrm>
            <a:off x="2438280" y="44197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9144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Всех звуков и цветов соотношенья,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А также способы переложенья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Любых оттенков цвета в ноты, звуки.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О, как хотелось мне азы науки 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такой постичь…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Герман Гесс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Буря мглою небо кро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Вихри снежные крут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8"/>
          <p:cNvSpPr txBox="1"/>
          <p:nvPr/>
        </p:nvSpPr>
        <p:spPr>
          <a:xfrm>
            <a:off x="1143000" y="1066680"/>
            <a:ext cx="71629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740000"/>
                  </a:solidFill>
                  <a:miter/>
                </a:ln>
                <a:gradFill rotWithShape="0">
                  <a:gsLst>
                    <a:gs pos="0">
                      <a:srgbClr val="f73211"/>
                    </a:gs>
                    <a:gs pos="50000">
                      <a:srgbClr val="fdf703"/>
                    </a:gs>
                    <a:gs pos="100000">
                      <a:srgbClr val="f7321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удожественное</a:t>
            </a:r>
            <a:endParaRPr b="1" lang="en-US" sz="1800" spc="1" strike="noStrike">
              <a:ln w="25560">
                <a:solidFill>
                  <a:srgbClr val="740000"/>
                </a:solidFill>
                <a:miter/>
              </a:ln>
              <a:gradFill rotWithShape="0">
                <a:gsLst>
                  <a:gs pos="0">
                    <a:srgbClr val="f73211"/>
                  </a:gs>
                  <a:gs pos="50000">
                    <a:srgbClr val="fdf703"/>
                  </a:gs>
                  <a:gs pos="100000">
                    <a:srgbClr val="f73211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740000"/>
                  </a:solidFill>
                  <a:miter/>
                </a:ln>
                <a:gradFill rotWithShape="0">
                  <a:gsLst>
                    <a:gs pos="0">
                      <a:srgbClr val="f73211"/>
                    </a:gs>
                    <a:gs pos="50000">
                      <a:srgbClr val="fdf703"/>
                    </a:gs>
                    <a:gs pos="100000">
                      <a:srgbClr val="f7321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 </a:t>
            </a:r>
            <a:endParaRPr b="1" lang="en-US" sz="1800" spc="1" strike="noStrike">
              <a:ln w="25560">
                <a:solidFill>
                  <a:srgbClr val="740000"/>
                </a:solidFill>
                <a:miter/>
              </a:ln>
              <a:gradFill rotWithShape="0">
                <a:gsLst>
                  <a:gs pos="0">
                    <a:srgbClr val="f73211"/>
                  </a:gs>
                  <a:gs pos="50000">
                    <a:srgbClr val="fdf703"/>
                  </a:gs>
                  <a:gs pos="100000">
                    <a:srgbClr val="f73211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740000"/>
                  </a:solidFill>
                  <a:miter/>
                </a:ln>
                <a:gradFill rotWithShape="0">
                  <a:gsLst>
                    <a:gs pos="0">
                      <a:srgbClr val="f73211"/>
                    </a:gs>
                    <a:gs pos="50000">
                      <a:srgbClr val="fdf703"/>
                    </a:gs>
                    <a:gs pos="100000">
                      <a:srgbClr val="f7321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цвете и звуке</a:t>
            </a:r>
            <a:endParaRPr b="1" lang="en-US" sz="1800" spc="1" strike="noStrike">
              <a:ln w="25560">
                <a:solidFill>
                  <a:srgbClr val="740000"/>
                </a:solidFill>
                <a:miter/>
              </a:ln>
              <a:gradFill rotWithShape="0">
                <a:gsLst>
                  <a:gs pos="0">
                    <a:srgbClr val="f73211"/>
                  </a:gs>
                  <a:gs pos="50000">
                    <a:srgbClr val="fdf703"/>
                  </a:gs>
                  <a:gs pos="100000">
                    <a:srgbClr val="f73211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То, как зверь, она заво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То заплачет, как дит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99"/>
                </a:solidFill>
                <a:latin typeface="Arial"/>
              </a:rPr>
              <a:t>Це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239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должить знакомство с удивительным миром поэзии      А.С.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азать ее связь с миром живописи и музы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ushkin_tropinin"/>
          <p:cNvPicPr/>
          <p:nvPr/>
        </p:nvPicPr>
        <p:blipFill>
          <a:blip r:embed="rId1"/>
          <a:stretch/>
        </p:blipFill>
        <p:spPr>
          <a:xfrm>
            <a:off x="1047600" y="1847880"/>
            <a:ext cx="2857680" cy="4029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28600" y="228600"/>
          <a:ext cx="8763120" cy="627840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5284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бук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то-крас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52704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ый, светло-жел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о-крас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84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5302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-зеле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52524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302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ева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52380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но-си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5302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убова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000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ачный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но-коричне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6:57:05Z</dcterms:created>
  <dc:creator>Ученик</dc:creator>
  <dc:description/>
  <dc:language>en-US</dc:language>
  <cp:lastModifiedBy>User</cp:lastModifiedBy>
  <dcterms:modified xsi:type="dcterms:W3CDTF">2011-04-29T03:57:2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