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6858000" cy="9144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891-DFD6-4480-B422-A52680D3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B54-951E-4B10-A212-E5B2BACF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930-F089-4E2C-B44B-D859BEDF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496-77D9-46B6-98D3-1E8107A9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CB0D-6F28-4A86-9A2F-0BA1446D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0AE5-9631-4B39-80AE-44842BDF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D119-DC5A-43B3-86FC-03BCD4E8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604B-1DC8-46D8-931E-A1E82846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D0DF-10BC-406A-915B-C270A19F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58E2-358B-4FB6-9154-E7A75274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29D9-60CF-445D-A0E5-BB9A265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D24-0196-467B-AC96-CC7CE634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6EEB-5B49-4934-8131-68E1DFF1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F962-5B4E-4443-AE3E-785624E7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B947-17FC-4B04-8CA9-3C7FB701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98B5-49D6-4A1D-9941-6494C4DE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20E6-D8CA-4086-AB66-840D5254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40F-8CD6-4385-B97C-AAE42309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8AE-BBF6-41A7-ACF3-1261E754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9AE-2BB2-41F3-9527-26DDF92D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522-7BA8-4D48-B77B-258F008D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C6A-CA1A-4D24-B9D2-4B945B45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9A0-40E9-4EAF-BD3B-FFA52293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7CF-D041-4CF5-8FD0-7D3907BF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5494680" y="587880"/>
            <a:ext cx="1549440" cy="1563840"/>
          </a:xfrm>
          <a:custGeom>
            <a:avLst/>
            <a:gdLst>
              <a:gd name="textAreaLeft" fmla="*/ 0 w 1549440"/>
              <a:gd name="textAreaRight" fmla="*/ 1549800 w 1549440"/>
              <a:gd name="textAreaTop" fmla="*/ 0 h 1563840"/>
              <a:gd name="textAreaBottom" fmla="*/ 1564200 h 156384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288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52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03820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3C49-424A-4886-9A75-4680623616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5559120" y="644040"/>
            <a:ext cx="1554120" cy="15732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5574240" y="714600"/>
            <a:ext cx="1366920" cy="1177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1177920"/>
              <a:gd name="textAreaBottom" fmla="*/ 1178280 h 117792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6480" y="7386480"/>
            <a:ext cx="1337760" cy="1661400"/>
            <a:chOff x="6480" y="7386480"/>
            <a:chExt cx="1337760" cy="1661400"/>
          </a:xfrm>
        </p:grpSpPr>
        <p:sp>
          <p:nvSpPr>
            <p:cNvPr id="9" name="Freeform 11"/>
            <p:cNvSpPr/>
            <p:nvPr/>
          </p:nvSpPr>
          <p:spPr>
            <a:xfrm>
              <a:off x="28800" y="7418160"/>
              <a:ext cx="1296360" cy="1373760"/>
            </a:xfrm>
            <a:custGeom>
              <a:avLst/>
              <a:gdLst>
                <a:gd name="textAreaLeft" fmla="*/ 0 w 1296360"/>
                <a:gd name="textAreaRight" fmla="*/ 1296720 w 1296360"/>
                <a:gd name="textAreaTop" fmla="*/ 0 h 1373760"/>
                <a:gd name="textAreaBottom" fmla="*/ 1374120 h 13737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217160" y="7581240"/>
              <a:ext cx="84240" cy="272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4120" y="7987320"/>
              <a:ext cx="942840" cy="86796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867960"/>
                <a:gd name="textAreaBottom" fmla="*/ 868320 h 8679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54080" y="8059320"/>
              <a:ext cx="624960" cy="791280"/>
            </a:xfrm>
            <a:custGeom>
              <a:avLst/>
              <a:gdLst>
                <a:gd name="textAreaLeft" fmla="*/ 0 w 624960"/>
                <a:gd name="textAreaRight" fmla="*/ 625320 w 62496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77800" y="7475040"/>
              <a:ext cx="160560" cy="2563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63560" y="8811000"/>
              <a:ext cx="90360" cy="236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00480" y="7634160"/>
              <a:ext cx="229680" cy="810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810720"/>
                <a:gd name="textAreaBottom" fmla="*/ 811080 h 81072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95600" y="7598160"/>
              <a:ext cx="433080" cy="36792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13280" y="7815960"/>
              <a:ext cx="185400" cy="1418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6480" y="7386480"/>
              <a:ext cx="1337760" cy="1650600"/>
              <a:chOff x="6480" y="7386480"/>
              <a:chExt cx="1337760" cy="16506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594360" y="7538400"/>
                <a:ext cx="651960" cy="1498680"/>
                <a:chOff x="594360" y="7538400"/>
                <a:chExt cx="651960" cy="14986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594360" y="7591320"/>
                  <a:ext cx="186840" cy="18360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57440" y="8755560"/>
                  <a:ext cx="136800" cy="28152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0 h 281520"/>
                    <a:gd name="textAreaBottom" fmla="*/ 281880 h 2815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195200" y="7538400"/>
                  <a:ext cx="51120" cy="24732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90720" y="7898400"/>
                <a:ext cx="708120" cy="529200"/>
              </a:xfrm>
              <a:custGeom>
                <a:avLst/>
                <a:gdLst>
                  <a:gd name="textAreaLeft" fmla="*/ 0 w 708120"/>
                  <a:gd name="textAreaRight" fmla="*/ 708120 w 708120"/>
                  <a:gd name="textAreaTop" fmla="*/ 0 h 529200"/>
                  <a:gd name="textAreaBottom" fmla="*/ 529560 h 52920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09960" y="8224560"/>
                <a:ext cx="290160" cy="31320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313200"/>
                  <a:gd name="textAreaBottom" fmla="*/ 313560 h 3132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672840" y="7788600"/>
                <a:ext cx="127080" cy="5032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6480" y="7386480"/>
                <a:ext cx="1337760" cy="1434600"/>
                <a:chOff x="6480" y="7386480"/>
                <a:chExt cx="1337760" cy="14346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796680" y="8567280"/>
                  <a:ext cx="89280" cy="1836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480" y="7889760"/>
                  <a:ext cx="1002240" cy="931320"/>
                </a:xfrm>
                <a:custGeom>
                  <a:avLst/>
                  <a:gdLst>
                    <a:gd name="textAreaLeft" fmla="*/ 0 w 1002240"/>
                    <a:gd name="textAreaRight" fmla="*/ 1002600 w 1002240"/>
                    <a:gd name="textAreaTop" fmla="*/ 0 h 931320"/>
                    <a:gd name="textAreaBottom" fmla="*/ 931680 h 93132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26360" y="7979040"/>
                  <a:ext cx="95040" cy="3531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353160"/>
                    <a:gd name="textAreaBottom" fmla="*/ 353520 h 3531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534960" y="7386480"/>
                  <a:ext cx="383040" cy="1256760"/>
                </a:xfrm>
                <a:custGeom>
                  <a:avLst/>
                  <a:gdLst>
                    <a:gd name="textAreaLeft" fmla="*/ 0 w 383040"/>
                    <a:gd name="textAreaRight" fmla="*/ 383400 w 383040"/>
                    <a:gd name="textAreaTop" fmla="*/ 0 h 1256760"/>
                    <a:gd name="textAreaBottom" fmla="*/ 1257120 h 12567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688320" y="7724520"/>
                  <a:ext cx="114120" cy="53352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390600" y="7682400"/>
                  <a:ext cx="231840" cy="28584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285840"/>
                    <a:gd name="textAreaBottom" fmla="*/ 286200 h 285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783720" y="7488000"/>
                  <a:ext cx="560520" cy="448200"/>
                </a:xfrm>
                <a:custGeom>
                  <a:avLst/>
                  <a:gdLst>
                    <a:gd name="textAreaLeft" fmla="*/ 0 w 560520"/>
                    <a:gd name="textAreaRight" fmla="*/ 560880 w 5605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853920" y="7631640"/>
                  <a:ext cx="291240" cy="182160"/>
                </a:xfrm>
                <a:custGeom>
                  <a:avLst/>
                  <a:gdLst>
                    <a:gd name="textAreaLeft" fmla="*/ 0 w 291240"/>
                    <a:gd name="textAreaRight" fmla="*/ 291600 w 291240"/>
                    <a:gd name="textAreaTop" fmla="*/ 0 h 182160"/>
                    <a:gd name="textAreaBottom" fmla="*/ 182160 h 18216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6509880" y="2820960"/>
            <a:ext cx="288720" cy="5744880"/>
            <a:chOff x="6509880" y="2820960"/>
            <a:chExt cx="288720" cy="5744880"/>
          </a:xfrm>
        </p:grpSpPr>
        <p:sp>
          <p:nvSpPr>
            <p:cNvPr id="36" name="Freeform 38"/>
            <p:cNvSpPr/>
            <p:nvPr/>
          </p:nvSpPr>
          <p:spPr>
            <a:xfrm flipH="1">
              <a:off x="6509520" y="5545080"/>
              <a:ext cx="243720" cy="3020760"/>
            </a:xfrm>
            <a:custGeom>
              <a:avLst/>
              <a:gdLst>
                <a:gd name="textAreaLeft" fmla="*/ -360 w 243720"/>
                <a:gd name="textAreaRight" fmla="*/ 243720 w 243720"/>
                <a:gd name="textAreaTop" fmla="*/ 0 h 3020760"/>
                <a:gd name="textAreaBottom" fmla="*/ 3021120 h 30207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6554520" y="2820960"/>
              <a:ext cx="243720" cy="3456720"/>
            </a:xfrm>
            <a:custGeom>
              <a:avLst/>
              <a:gdLst>
                <a:gd name="textAreaLeft" fmla="*/ -360 w 243720"/>
                <a:gd name="textAreaRight" fmla="*/ 243720 w 243720"/>
                <a:gd name="textAreaTop" fmla="*/ 0 h 3456720"/>
                <a:gd name="textAreaBottom" fmla="*/ 3457080 h 345672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5167800" y="108000"/>
            <a:ext cx="2243520" cy="2649960"/>
            <a:chOff x="5167800" y="108000"/>
            <a:chExt cx="2243520" cy="2649960"/>
          </a:xfrm>
        </p:grpSpPr>
        <p:grpSp>
          <p:nvGrpSpPr>
            <p:cNvPr id="39" name="Group 41"/>
            <p:cNvGrpSpPr/>
            <p:nvPr/>
          </p:nvGrpSpPr>
          <p:grpSpPr>
            <a:xfrm>
              <a:off x="5167800" y="108000"/>
              <a:ext cx="2243520" cy="2649960"/>
              <a:chOff x="5167800" y="108000"/>
              <a:chExt cx="2243520" cy="2649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6437160" y="2430360"/>
                <a:ext cx="131400" cy="34272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342720"/>
                  <a:gd name="textAreaBottom" fmla="*/ 342720 h 34272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5167800" y="108000"/>
                <a:ext cx="2243520" cy="2395440"/>
                <a:chOff x="5167800" y="108000"/>
                <a:chExt cx="2243520" cy="23954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5842440" y="207360"/>
                  <a:ext cx="323640" cy="149040"/>
                </a:xfrm>
                <a:custGeom>
                  <a:avLst/>
                  <a:gdLst>
                    <a:gd name="textAreaLeft" fmla="*/ 0 w 323640"/>
                    <a:gd name="textAreaRight" fmla="*/ 324000 w 32364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5886720" y="903240"/>
                  <a:ext cx="569160" cy="521280"/>
                </a:xfrm>
                <a:custGeom>
                  <a:avLst/>
                  <a:gdLst>
                    <a:gd name="textAreaLeft" fmla="*/ 0 w 569160"/>
                    <a:gd name="textAreaRight" fmla="*/ 569520 w 569160"/>
                    <a:gd name="textAreaTop" fmla="*/ 0 h 521280"/>
                    <a:gd name="textAreaBottom" fmla="*/ 521640 h 52128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5551560" y="798480"/>
                  <a:ext cx="1068120" cy="1069200"/>
                </a:xfrm>
                <a:custGeom>
                  <a:avLst/>
                  <a:gdLst>
                    <a:gd name="textAreaLeft" fmla="*/ 0 w 1068120"/>
                    <a:gd name="textAreaRight" fmla="*/ 1068480 w 1068120"/>
                    <a:gd name="textAreaTop" fmla="*/ 0 h 1069200"/>
                    <a:gd name="textAreaBottom" fmla="*/ 1069560 h 10692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5487840" y="581040"/>
                  <a:ext cx="1603440" cy="1600200"/>
                </a:xfrm>
                <a:custGeom>
                  <a:avLst/>
                  <a:gdLst>
                    <a:gd name="textAreaLeft" fmla="*/ 0 w 1603440"/>
                    <a:gd name="textAreaRight" fmla="*/ 1603800 w 1603440"/>
                    <a:gd name="textAreaTop" fmla="*/ 0 h 1600200"/>
                    <a:gd name="textAreaBottom" fmla="*/ 1600560 h 160020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6229440" y="1952640"/>
                  <a:ext cx="357120" cy="145080"/>
                </a:xfrm>
                <a:custGeom>
                  <a:avLst/>
                  <a:gdLst>
                    <a:gd name="textAreaLeft" fmla="*/ 0 w 357120"/>
                    <a:gd name="textAreaRight" fmla="*/ 357480 w 357120"/>
                    <a:gd name="textAreaTop" fmla="*/ 0 h 145080"/>
                    <a:gd name="textAreaBottom" fmla="*/ 145440 h 1450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6171480" y="1770480"/>
                  <a:ext cx="383040" cy="171360"/>
                </a:xfrm>
                <a:custGeom>
                  <a:avLst/>
                  <a:gdLst>
                    <a:gd name="textAreaLeft" fmla="*/ 0 w 383040"/>
                    <a:gd name="textAreaRight" fmla="*/ 383400 w 383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5852520" y="511560"/>
                  <a:ext cx="382680" cy="174960"/>
                </a:xfrm>
                <a:custGeom>
                  <a:avLst/>
                  <a:gdLst>
                    <a:gd name="textAreaLeft" fmla="*/ 0 w 382680"/>
                    <a:gd name="textAreaRight" fmla="*/ 383040 w 38268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5809680" y="362880"/>
                  <a:ext cx="378360" cy="164160"/>
                </a:xfrm>
                <a:custGeom>
                  <a:avLst/>
                  <a:gdLst>
                    <a:gd name="textAreaLeft" fmla="*/ 0 w 378360"/>
                    <a:gd name="textAreaRight" fmla="*/ 378720 w 378360"/>
                    <a:gd name="textAreaTop" fmla="*/ 0 h 164160"/>
                    <a:gd name="textAreaBottom" fmla="*/ 164520 h 16416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5798880" y="177480"/>
              <a:ext cx="5004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15840" y="17640"/>
            <a:ext cx="6672240" cy="9038880"/>
          </a:xfrm>
          <a:custGeom>
            <a:avLst/>
            <a:gdLst>
              <a:gd name="textAreaLeft" fmla="*/ 0 w 6672240"/>
              <a:gd name="textAreaRight" fmla="*/ 6672600 w 6672240"/>
              <a:gd name="textAreaTop" fmla="*/ 0 h 9038880"/>
              <a:gd name="textAreaBottom" fmla="*/ 9039240 h 903888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46160" y="312840"/>
            <a:ext cx="2841480" cy="2371320"/>
            <a:chOff x="146160" y="312840"/>
            <a:chExt cx="2841480" cy="2371320"/>
          </a:xfrm>
        </p:grpSpPr>
        <p:sp>
          <p:nvSpPr>
            <p:cNvPr id="89" name="Freeform 9"/>
            <p:cNvSpPr/>
            <p:nvPr/>
          </p:nvSpPr>
          <p:spPr>
            <a:xfrm>
              <a:off x="210600" y="374040"/>
              <a:ext cx="2679120" cy="2152800"/>
            </a:xfrm>
            <a:custGeom>
              <a:avLst/>
              <a:gdLst>
                <a:gd name="textAreaLeft" fmla="*/ 0 w 2679120"/>
                <a:gd name="textAreaRight" fmla="*/ 2679480 w 2679120"/>
                <a:gd name="textAreaTop" fmla="*/ 0 h 2152800"/>
                <a:gd name="textAreaBottom" fmla="*/ 2153160 h 215280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197280" y="551880"/>
              <a:ext cx="2671920" cy="2132280"/>
            </a:xfrm>
            <a:custGeom>
              <a:avLst/>
              <a:gdLst>
                <a:gd name="textAreaLeft" fmla="*/ 0 w 2671920"/>
                <a:gd name="textAreaRight" fmla="*/ 2672280 w 2671920"/>
                <a:gd name="textAreaTop" fmla="*/ 0 h 2132280"/>
                <a:gd name="textAreaBottom" fmla="*/ 2132640 h 21322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564120" y="727560"/>
              <a:ext cx="1771920" cy="1945440"/>
            </a:xfrm>
            <a:custGeom>
              <a:avLst/>
              <a:gdLst>
                <a:gd name="textAreaLeft" fmla="*/ 0 w 1771920"/>
                <a:gd name="textAreaRight" fmla="*/ 1772280 w 1771920"/>
                <a:gd name="textAreaTop" fmla="*/ 0 h 1945440"/>
                <a:gd name="textAreaBottom" fmla="*/ 1945800 h 19454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46160" y="312840"/>
              <a:ext cx="2841480" cy="2288520"/>
              <a:chOff x="146160" y="312840"/>
              <a:chExt cx="2841480" cy="22885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2387160" y="1976760"/>
                <a:ext cx="252360" cy="45252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46160" y="312840"/>
                <a:ext cx="2841480" cy="2288520"/>
              </a:xfrm>
              <a:custGeom>
                <a:avLst/>
                <a:gdLst>
                  <a:gd name="textAreaLeft" fmla="*/ 0 w 2841480"/>
                  <a:gd name="textAreaRight" fmla="*/ 2841840 w 2841480"/>
                  <a:gd name="textAreaTop" fmla="*/ 0 h 2288520"/>
                  <a:gd name="textAreaBottom" fmla="*/ 2288880 h 22885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385560" y="333720"/>
                <a:ext cx="2007720" cy="1299600"/>
              </a:xfrm>
              <a:custGeom>
                <a:avLst/>
                <a:gdLst>
                  <a:gd name="textAreaLeft" fmla="*/ 0 w 2007720"/>
                  <a:gd name="textAreaRight" fmla="*/ 2008080 w 2007720"/>
                  <a:gd name="textAreaTop" fmla="*/ 0 h 1299600"/>
                  <a:gd name="textAreaBottom" fmla="*/ 1299960 h 129960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486720" y="530640"/>
                <a:ext cx="270000" cy="86796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867960"/>
                  <a:gd name="textAreaBottom" fmla="*/ 868320 h 8679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007280" y="1134000"/>
                <a:ext cx="822600" cy="7704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770400"/>
                  <a:gd name="textAreaBottom" fmla="*/ 770760 h 7704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5684400" y="5833440"/>
            <a:ext cx="1062720" cy="1393920"/>
            <a:chOff x="5684400" y="5833440"/>
            <a:chExt cx="1062720" cy="1393920"/>
          </a:xfrm>
        </p:grpSpPr>
        <p:sp>
          <p:nvSpPr>
            <p:cNvPr id="99" name="Freeform 19"/>
            <p:cNvSpPr/>
            <p:nvPr/>
          </p:nvSpPr>
          <p:spPr>
            <a:xfrm rot="7320000">
              <a:off x="5553000" y="6349680"/>
              <a:ext cx="1332360" cy="348840"/>
            </a:xfrm>
            <a:custGeom>
              <a:avLst/>
              <a:gdLst>
                <a:gd name="textAreaLeft" fmla="*/ 0 w 1332360"/>
                <a:gd name="textAreaRight" fmla="*/ 1332360 w 133236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5535360" y="6319080"/>
              <a:ext cx="1328040" cy="345240"/>
            </a:xfrm>
            <a:custGeom>
              <a:avLst/>
              <a:gdLst>
                <a:gd name="textAreaLeft" fmla="*/ 0 w 1328040"/>
                <a:gd name="textAreaRight" fmla="*/ 1328400 w 132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5759640" y="6286680"/>
              <a:ext cx="881280" cy="315360"/>
            </a:xfrm>
            <a:custGeom>
              <a:avLst/>
              <a:gdLst>
                <a:gd name="textAreaLeft" fmla="*/ 0 w 881280"/>
                <a:gd name="textAreaRight" fmla="*/ 881640 w 88128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5684400" y="5833440"/>
              <a:ext cx="1062720" cy="1393920"/>
              <a:chOff x="5684400" y="5833440"/>
              <a:chExt cx="1062720" cy="139392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5910120" y="6779520"/>
                <a:ext cx="125280" cy="723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5509440" y="6345000"/>
                <a:ext cx="1412280" cy="370440"/>
              </a:xfrm>
              <a:custGeom>
                <a:avLst/>
                <a:gdLst>
                  <a:gd name="textAreaLeft" fmla="*/ 0 w 1412280"/>
                  <a:gd name="textAreaRight" fmla="*/ 1412640 w 141228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5808240" y="6424200"/>
                <a:ext cx="999720" cy="209520"/>
              </a:xfrm>
              <a:custGeom>
                <a:avLst/>
                <a:gdLst>
                  <a:gd name="textAreaLeft" fmla="*/ 0 w 999720"/>
                  <a:gd name="textAreaRight" fmla="*/ 1000080 w 99972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6357240" y="6135840"/>
                <a:ext cx="132840" cy="1404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6026040" y="6396480"/>
                <a:ext cx="408600" cy="12348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123480"/>
                  <a:gd name="textAreaBottom" fmla="*/ 123480 h 1234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676440" y="6738840"/>
            <a:ext cx="5105160" cy="971640"/>
          </a:xfrm>
          <a:custGeom>
            <a:avLst/>
            <a:gdLst>
              <a:gd name="textAreaLeft" fmla="*/ 0 w 5105160"/>
              <a:gd name="textAreaRight" fmla="*/ 5105520 w 510516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3057480" y="2573280"/>
            <a:ext cx="666720" cy="507960"/>
          </a:xfrm>
          <a:custGeom>
            <a:avLst/>
            <a:gdLst>
              <a:gd name="textAreaLeft" fmla="*/ 0 w 666720"/>
              <a:gd name="textAreaRight" fmla="*/ 667080 w 6667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DC4A-4522-4C00-BD83-5E46084568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5829120" cy="1960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оект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Профилактика дислексии и дисграфии у дошкольников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62080" y="5401800"/>
            <a:ext cx="452448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бдусаламова Г.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-логопед МБДОУ «Центр развития ребёнка – детский сад №103» города Курс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440" y="-246240"/>
            <a:ext cx="481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584856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уществуют следующие виды дислексий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лексия аграмматическая - дислексия, обусловленная недоразвитием грамматического строя реч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лексия вербальная - оптическая дислексия, которая проявляется в нарушениях при чтении сло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лексия литеральная [лат. lit(t)era буква] - оптическая дислексия, проявляющаяся в нарушениях при изолированном узнавании и различении буквы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лексия мнестическая [греч. mnesis память] - дислексия, проявляющаяся в трудностях усвоения всех букв, в их недифференцированных заменах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лексия оптическая [греч. optikos относящийся к зрению] - дислексия, которая проявляется в трудностях усвоения и в смешениях сходных графически букв, а также их взаимных заменах; к оптической дислексии относят и зеркальное чтение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лексия семантическая [греч. semantikos  обозначающий, смысловой] -дислексия, проявляющаяся в нарушении понимания прочитанных слов, предложений, текста при технически правильном чтени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Как правило, в логопедической практике выделяются первичные и вторичные дислекси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ервичные дислексии выявляются при клинических исследованиях. Они возникают вследствие органических поражений коры головного мозга, когда наблюдается распад процесса чтени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торичные дислексии представляют собой различные типы нарушений чтения, обусловленных несформированностью вербальных и невербальных высших психических функций, лежащих в основе становления данного навыка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ными словами, вторичные дислексии связаны с несформированностью у ребенка функционального базиса чтения. Именно вторичные дислексии являются предметом моей работы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свою очередь, профилактика дислексии [от греч. prophylaktikos -предохранительный] подразумевает совокупность предупредительных мер, направленных на предотвращение дислексии у старших дошкольнико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551160"/>
            <a:ext cx="38098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57150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исграфия – это специфическое расстройство письменной речи, проявляющееся в многочисленных типичных ошибках стойкого характера и обусловленное несформированностью высших психических функций, участвующих в процессе овладения навыками письма. Письмо представляет собой сложную форму речевой деятельности, многоуровневый процесс. В нем принимают участие различные анализаторы: речеслуховой,  речедвигательный, зрительный, общедвигательный. Между ними в процессе письма устанавливается тесная связь и взаимообусловленность. Чтобы написать предложение, необходимо мысленно его выстроить, проговорить, сохранить нужный порядок написания, разбить предложение на составляющие его слова, обозначить границы каждого слова. Если у ребенка имеются нарушения хотя бы в одной из этих функций: слуховой дифференциации звуков, правильного их произношения, звуковом анализе и синтезе, лексико-грамматической стороне речи, зрительном анализе и синтезе, пространственных представлениях, то может возникнуть нарушение процесса овладения письмом - дисграфия (от греческого «графо» - письмо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исьмо тесно связано с процессом устной речи и осуществляется только на основе достаточно высокого уровня ее развит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-170280"/>
            <a:ext cx="444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5677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иды дисграфий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ртикуляторно - акустическая дисграфия. Причиной возникновения этого вида нарушений является неправильное произношение звуков речи. Ребенок пишет слова так, как их произносит. То есть отражает свое дефектное произношение на письме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кустическая дисграфия (наоснове фонемного распознавания, дифференциация фонем). Причиной возникновения этого вида является нарушение дифференциации, распознавания близких звуков речи. На письме это проявляется в заменах букв, обозначающих свистящие и шипящие, звонкие и глухие, твердые и мягкие (б-п, д-т, з-с, в-ф, г-к, ж-ш, ц-с, ц-т, ч-щ, о-у е-и). Такие замены и смешение являются ярким показателем ОНР III-IV уровней и реже отмечаются у детей с ФФ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графия на почве нарушений языкового анализа и синтеза. Проявляется на уровне слова и на уровне предложения. Причина ее возникновения – затруднения при делении предложений на слова, слов на слоги, звуки. Характерные ошибки:пропуски согласных;пропуски гласных; перестановки букв;добавления букв;пропуски, добавления, перестановки слогов;слитное написание слов;раздельное написание слов;слитное написание предлогов с другими словами;раздельное написание приставки и корн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грамматическая дисграфия. Причина возникновения – недоразвитие грамматического строя речи. На письме проявляется в изменении падежных окончаний, неправильном употреблении предлогов, рода, числа, пропусках членов предложения, нарушениях последовательности слов в предложении, нарушениях смысловых связей в предложении и между предложениям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тическая дисграфия. Причина возникновения - несформированность зрительно-пространственных функций. Проявляется в заменах и искажениях на письме графически сходных рукописных букв (и-ш, п-т, т-ш, в-д, б-д, л-м, э-с и др.)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тапы  проекта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Этап(подготовительный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 данном этапе дети знакомятся с новыми буквами, не изученными в предыдущем году, совершенствуют навыки чтения и печатания, педагог выявляет различные нарушения в развитии письменной речи и разрабатывает методики их преодолен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09480" y="2743200"/>
          <a:ext cx="5562720" cy="502920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детей грамоте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фонематического слух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новыми букв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чтению слогов, слов, предложе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выков звукобуквенного и слогового анализа и синтез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семинара для родителей «Что писать и как писать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в чтении и печатании букв, слогов, слов, предлож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в обучении и совершенствовании навыков звукобуквенного и слогового анализа и синтез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 полученных детьми знаний дома, изготовление вместе с детьми букв из различного материала, закрепление навыков чтения и печат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14080" y="202680"/>
            <a:ext cx="5352840" cy="147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 Основной (осуществление поставленных задач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3520" y="2438280"/>
          <a:ext cx="5771880" cy="532620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192384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ятельность 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ятельность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ятельность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спользование специальных методик, приёмов, игр, направленных на профилактику нарушений письменной речи у дошколь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оведение специальных занятий по дифференциации звуков и букв по акустическому, оптическому и кинестетическому призна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нсультация для родителей «Как выполнять домашние задания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частие в  дидактических играх, расшифровка ребусов, лабиринтов, шифровок, выполнение домашних зада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овершенствование навыков звукобуквенного и слогового анализа и синтез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нтроль за выполнением домашних заданий, закрепление навыков чтения и печат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080" y="203040"/>
            <a:ext cx="550548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 Заключитель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дение итогового занятия по обучению грамоте «Наш родной язык» для педагогов и родит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зентация проек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май 2014год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сновные направления работы в проект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3123720"/>
            <a:ext cx="58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крупной и мелкой моторик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зрительного восприятия и узнав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ование фонематических процесс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ование навыков звукобуквенного и слогового анализа и синтез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грамматического строя реч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связной реч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ширение и обогащение словар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восприятия простран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080" y="202680"/>
            <a:ext cx="5352840" cy="18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езультаты диагностики речевого развития до начала проек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2438280"/>
          <a:ext cx="5638680" cy="6004080"/>
        </p:xfrm>
        <a:graphic>
          <a:graphicData uri="http://schemas.openxmlformats.org/drawingml/2006/table">
            <a:tbl>
              <a:tblPr/>
              <a:tblGrid>
                <a:gridCol w="2536920"/>
                <a:gridCol w="1550880"/>
                <a:gridCol w="1550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произ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матические проце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й строй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ная ре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 чтения и пис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080" y="202680"/>
            <a:ext cx="5505480" cy="10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глашения написали с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828800" y="1752480"/>
            <a:ext cx="2819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828800" y="1752480"/>
            <a:ext cx="2819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828800" y="1752480"/>
            <a:ext cx="2819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10" descr="P1010128"/>
          <p:cNvPicPr/>
          <p:nvPr/>
        </p:nvPicPr>
        <p:blipFill>
          <a:blip r:embed="rId1"/>
          <a:stretch/>
        </p:blipFill>
        <p:spPr>
          <a:xfrm>
            <a:off x="1295280" y="1981080"/>
            <a:ext cx="3810240" cy="23623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1752480" y="4724280"/>
            <a:ext cx="2971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2" descr="P1010127"/>
          <p:cNvPicPr/>
          <p:nvPr/>
        </p:nvPicPr>
        <p:blipFill>
          <a:blip r:embed="rId2"/>
          <a:stretch/>
        </p:blipFill>
        <p:spPr>
          <a:xfrm>
            <a:off x="1447920" y="5334120"/>
            <a:ext cx="3733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4876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юбим разные иг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28800" y="2286000"/>
            <a:ext cx="2895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8" descr="P1010100"/>
          <p:cNvPicPr/>
          <p:nvPr/>
        </p:nvPicPr>
        <p:blipFill>
          <a:blip r:embed="rId1"/>
          <a:stretch/>
        </p:blipFill>
        <p:spPr>
          <a:xfrm>
            <a:off x="1828800" y="198108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9"/>
          <p:cNvSpPr/>
          <p:nvPr/>
        </p:nvSpPr>
        <p:spPr>
          <a:xfrm>
            <a:off x="1295280" y="5257800"/>
            <a:ext cx="38005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10" descr="P1010098"/>
          <p:cNvPicPr/>
          <p:nvPr/>
        </p:nvPicPr>
        <p:blipFill>
          <a:blip r:embed="rId2"/>
          <a:stretch/>
        </p:blipFill>
        <p:spPr>
          <a:xfrm>
            <a:off x="1417680" y="52578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27688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ктуальность профилактики дисграфий и дислексий у дошкольников с  нарушениями речи состоит в наиболее ранней, целенаправленной коррекции речевого и психического развития дошкольников, обеспечение готовности детей к обучению грамоте и школьной адаптации в целом, предупреждение вторичных отклонений в развитии ребен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исуем Буквогра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05120" y="220932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5105160"/>
            <a:ext cx="2809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657240" y="5867280"/>
            <a:ext cx="2809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1616040" y="1719360"/>
            <a:ext cx="4632480" cy="3633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3213000" y="5986440"/>
            <a:ext cx="3548160" cy="2090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171360" y="5157720"/>
            <a:ext cx="33577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Библиографический спис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.Н Садовникова Нарушения письменной речи и их преодоление у младших школьников Москва «Гуманитарный издательский центр ВЛАДОС» 1997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арамонова Л.Г. Предупреждение и устранение дисграфии у детей - СПб.: Союз, 2001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личева Т. Б., Чиркина Г. В. Устранение ОНР у детей дошкольного возраста. – М. : Айрис- пресс, 2005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мирнова Л. Н. Логопедия. Играем со звуками. - М. : «Мозаика-Синтез», 200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.В.Ястребова, Т.П.Бессонова «Учим писать без ошибок». М. Издательство АРКТИ, 2007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28520" y="2014200"/>
            <a:ext cx="4686120" cy="1414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ил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62080" y="5401800"/>
            <a:ext cx="452448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спекты занятий, памятки для родител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редупреждение нарушений письменной речи у детей – логопатов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дачи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основ письменной реч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мышления, памяти, внима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ание самостоятельности, инициативности, ответ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5334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аспорт проек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д: информационно-практико-ориентирован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должительность: долгосроч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оки реализации: сентябрь 2013г – май 2014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астники проекта: учитель – логопед, дети группы общеразвивающей направленности для детей 6 – 7 лет №6,  родите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Мониторинг речевого развития детей группы №6 на 2013 – 2014 учебный год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после завершения проект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520" y="2209680"/>
          <a:ext cx="5771880" cy="6004080"/>
        </p:xfrm>
        <a:graphic>
          <a:graphicData uri="http://schemas.openxmlformats.org/drawingml/2006/table">
            <a:tbl>
              <a:tblPr/>
              <a:tblGrid>
                <a:gridCol w="1904760"/>
                <a:gridCol w="1143000"/>
                <a:gridCol w="1447920"/>
                <a:gridCol w="127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произ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матические проце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й строй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ная ре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 чтения и пис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дёт обучение грамот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42667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бери «правильные» букв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0" descr="DSCF5122"/>
          <p:cNvPicPr/>
          <p:nvPr/>
        </p:nvPicPr>
        <p:blipFill>
          <a:blip r:embed="rId1"/>
          <a:stretch/>
        </p:blipFill>
        <p:spPr>
          <a:xfrm>
            <a:off x="1600200" y="106668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DSCF5128"/>
          <p:cNvPicPr/>
          <p:nvPr/>
        </p:nvPicPr>
        <p:blipFill>
          <a:blip r:embed="rId2"/>
          <a:stretch/>
        </p:blipFill>
        <p:spPr>
          <a:xfrm>
            <a:off x="1523880" y="5181480"/>
            <a:ext cx="4038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38102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тради  по обучению грамот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1" descr="DSCF5132"/>
          <p:cNvPicPr/>
          <p:nvPr/>
        </p:nvPicPr>
        <p:blipFill>
          <a:blip r:embed="rId1"/>
          <a:stretch/>
        </p:blipFill>
        <p:spPr>
          <a:xfrm>
            <a:off x="1371600" y="1758960"/>
            <a:ext cx="4038480" cy="2577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DSCF5134"/>
          <p:cNvPicPr/>
          <p:nvPr/>
        </p:nvPicPr>
        <p:blipFill>
          <a:blip r:embed="rId2"/>
          <a:stretch/>
        </p:blipFill>
        <p:spPr>
          <a:xfrm>
            <a:off x="1295280" y="5410080"/>
            <a:ext cx="41148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вечаем на «отлично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40384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равь ошиб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447920" y="1295280"/>
            <a:ext cx="28191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9" descr="DSCF5123"/>
          <p:cNvPicPr/>
          <p:nvPr/>
        </p:nvPicPr>
        <p:blipFill>
          <a:blip r:embed="rId1"/>
          <a:stretch/>
        </p:blipFill>
        <p:spPr>
          <a:xfrm>
            <a:off x="1219320" y="1306440"/>
            <a:ext cx="3962160" cy="2503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DSCF5130"/>
          <p:cNvPicPr/>
          <p:nvPr/>
        </p:nvPicPr>
        <p:blipFill>
          <a:blip r:embed="rId2"/>
          <a:stretch/>
        </p:blipFill>
        <p:spPr>
          <a:xfrm>
            <a:off x="1143000" y="480060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Теоретическая база проек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57913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основе педагогического опыта лежат идеи Л.С. Волковой, Р.И. Лалаевой, О.В. Правдиной, А.Н. Корнева, Л.Г. Парамоновой, Т.В. Тумановой, Т.Б. Филичевой, Н.С. Жуковой и др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 основании анализа исследований указанных авторов, я сформулировала следующие теоретические категории, принципиально важные для работы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ислексия [дис - лат.  lego читаю] - это частичное расстройство процесса овладения чтением, проявляющееся в многочисленных повторяющихся ошибках стойкого характера, обусловленное несформированностью психических функций, участвующих в процессе овладения чтением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оворя о дислексии, мы подразумеваем состояния, основным проявлением которых является стойкая избирательная неспособность овладеть навыком чтения, несмотря на достаточный для этого уровень интеллектуального и речевого развития, отсутствие нарушений слухового и зрительного анализаторов и оптимальные условия обучения. Осевым нарушением при этом является стойкая неспособность овладеть слогослиянием и автоматизированным чтением целыми словами, что нередко сопровождается недостаточным пониманием прочитанного. В основе расстройства лежат нарушения специфических церебральных процессов, в целом составляющих основной функциональный базис навыка чтени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8:14:22Z</dcterms:created>
  <dc:creator>xxx</dc:creator>
  <dc:description/>
  <dc:language>en-US</dc:language>
  <cp:lastModifiedBy>User</cp:lastModifiedBy>
  <dcterms:modified xsi:type="dcterms:W3CDTF">2019-01-08T20:43:5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