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7C3-51CF-4E29-A52E-94E4559D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FF2-C2BA-4627-85DD-B42FA0D1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1D9-327C-443B-AE5F-E0414198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85C0-3726-4218-95B2-BA7B9456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A6C2-1390-4DEE-8915-07C2A21C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0A3E-5E4F-448B-87B6-F9413D6D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1027-D119-47A4-BE53-325FC399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0878-A84E-47A2-8F8B-A1C06040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ECBE-8597-4586-9C82-F5CE9610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5E68-E999-4F5D-AEC5-E9319009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C98A-BF4F-44FE-A352-01360EB9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1D9-B16D-416F-B1AD-888498D7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640DB-0E89-450C-B983-D94FDF68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224B-B0BE-48D4-BF09-49765979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882B-69FE-450D-8619-7CB4D468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D453-E9F1-48FF-933D-72D32021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F9ED-F30A-47FC-9C6C-811A2DC9F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89F3-59C6-48A8-939E-6D61E6A0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74F3-5C71-4B81-9875-E6F57BB1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412-D8B2-41FE-BEA7-60468B4B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B757-F8BD-4BB5-BCB3-281776742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DE61-F089-43A1-9CB9-FC3353AC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16A3-DC8E-4A84-9716-993228E8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7B94-60C8-4EEF-8CA2-49F99316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8468-8231-4C76-95AA-E2C2F1CC0A3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BBC4-0922-4803-AE25-C744CB8F644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resentation in Englis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avorite people in the family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my family I am the only child. My parents are wonderful and good, but the only one from the family of a loved one, I do not because I love them both. I just think that if I wrote about my mother offend the pope about dad and if you offend my mother so I do not have a loved 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Pictures of the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6740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86120" y="1828800"/>
            <a:ext cx="117000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255680" y="3733920"/>
            <a:ext cx="2630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family is the b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me, my family is the best. We walked together go to the park, sitting in a cafe, eating ice cream, etc. Everyone thinks that their family is still the bes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have no doubt because each family has its own bes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family SUP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07T14:55:2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