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CEF-E77C-4DA0-A27C-0F80B301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0BD5-4C0A-41AD-BF10-EA500A02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18EE-3A37-486C-8EB9-8209853A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FB20-3B13-4D69-B242-DC31BE08F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2C6-90A0-4E0A-9039-B7BB8E247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D31C-4A01-4A22-B4D0-07455D6E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9BEF-5B9F-4247-B0C9-D5DFE024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1866-8E45-43B4-80A6-038ACB0D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ABD0-C4F5-47D3-907D-A0C16711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563BB-16FE-47BF-8B71-87C4B6AD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40F7-FABE-4026-80EC-DA275EA1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073F-C655-4C1F-93BF-59A6DE40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5880-AA93-4A63-856A-CC838156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0273-B416-4D2C-ABD5-E3D4DAEC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7D84C-3938-4E19-BDE8-9CCD05677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ABDB-6751-4F4B-8909-C68744E6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1ABF-D5DE-48BB-A0DA-633F93859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4A32-1ADC-4151-A8B7-167A64C2D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AA43-272F-4B2C-B159-7E5F16F54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71B5-8B3C-4B9F-9D49-45CF496D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A5A6-088F-4B51-AC04-7978B2438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24F-F8A7-467B-A72A-1EBE6C50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05ED-54DD-421D-B96D-00352184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05E-C961-43E7-9410-0A77C304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CC11-AF27-4822-93B5-91A03A57E5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8BFA-DDCF-452E-842B-16A4515B3A6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resentation in English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favorite people in the family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my family I am the only child. My parents are wonderful and good, but the only one from the family of a loved one, I do not because I love them both. I just think that if I wrote about my mother offend the pope about dad and if you offend my mother so I do not have a loved 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Pictures of the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6740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986120" y="1828800"/>
            <a:ext cx="117000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255680" y="3733920"/>
            <a:ext cx="2630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y family is the be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me, my family is the best. We walked together go to the park, sitting in a cafe, eating ice cream, etc. Everyone thinks that their family is still the bes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have no doubt because each family has its own best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y family SUP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2-07T14:55:2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