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91F9-0381-437D-A8B5-A1162D78B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267F-FC22-40D2-8A76-087620D0C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CFC1-DFF1-4133-A134-02F30AC52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B5D1-A72C-49E6-B66F-523B75F1D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555E-B4E6-4EA6-A386-0F8B70726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B7DA-C614-49C7-8CD2-971AEF9C1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D182-EE9D-4B08-BD47-04AC91B46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F8F8-18BB-4157-9005-95E29D011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81F5-2026-427D-AD88-B904465A5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D3C2-DA4F-45B4-9A4C-F89B4AE5C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4D4E-652E-4B09-926F-73419FDF1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650D-7E05-49FD-B68D-E356825B1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0A0DB-0B6E-4C91-9C6F-F1DDD113B8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Развитие мелкой моторики рук у детей дошкольного возраста через нетрадиционные техники рисова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95280" y="1197000"/>
            <a:ext cx="84247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ольшую роль отводится использованию нетрадиционного рисования. Работа с необычными материалами позволяет детям ощутить незабываемые эмоции, развивает творческие способности ребенка, его креативность, что способствует общему психическому и личностному развити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етрадиционное рисование имеет целый ряд преимуществ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вивает мелкую моторику руки и творческие способности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зывает целый комплекс эмоций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являет характер ребёнка, его индивидуальность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зволяет применять многообразие способов и средств рисования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вивает любовь к изобразительному искусств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Нетрадиционное рисование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искусство изображать, не основываясь на традици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исование нетрадиционными способами, увлекательная, завораживающая деятельность, которая удивляет и восхищает дет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394920" y="404640"/>
            <a:ext cx="84978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менно нетрадиционные техники рисования создают атмосферу непринуждённости, открытости, содействуют развитию инициативы, самостоятельности, создают эмоционально - благоприятное отношение к деятельности у дет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зультат изобразительной деятельности не может быть плохим или хорошим, работа каждого ребёнка индивидуальна и неповторим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Виды нетрадиционных техник рисовани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«Рисование пальчиком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бёнок опускает в гуашь пальчик и наносит точки, пятнышки на бумагу. На каждый пальчик набирается краска разного цвета. После работы пальчики вытираются салфеткой, затем гуашь легко смывает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Содержимое 3" descr="hello_html_219d7c58.jpg"/>
          <p:cNvPicPr/>
          <p:nvPr/>
        </p:nvPicPr>
        <p:blipFill>
          <a:blip r:embed="rId1"/>
          <a:stretch/>
        </p:blipFill>
        <p:spPr>
          <a:xfrm>
            <a:off x="250920" y="836640"/>
            <a:ext cx="8718480" cy="54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«Рисование ладошкой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бёнок опускает ладошку в гуашь (всю кисть) или окрашивает её с помощью кисти и делает отпечаток на бумаге. Рисуют и правой и левой руками, окрашенными разными цветами. После работы руки вытираются салфетками, затем гуашь легко смывает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Содержимое 3" descr="008.jpg"/>
          <p:cNvPicPr/>
          <p:nvPr/>
        </p:nvPicPr>
        <p:blipFill>
          <a:blip r:embed="rId1"/>
          <a:stretch/>
        </p:blipFill>
        <p:spPr>
          <a:xfrm>
            <a:off x="611280" y="549360"/>
            <a:ext cx="7821360" cy="58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«Оттиск печатками из пробки или ластика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особ получения изображения: ребёнок прижимает пробку к штемпельной подушке с краской и наносит оттиск на бумагу. Для получения другого цвета меняется и мисочка и проб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250920" y="549000"/>
            <a:ext cx="864216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елкая моторик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это двигательная деятельность, которая обусловлена скоординированной работой мелких мышц руки и глаз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вижения руки человека, как писал И. Н. Сеченов, наследственно не предопределены и формируются в процессе воспитания и обуч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последнее время развитию мелкой моторики педагоги и психологи придают всё большее значение, ведь оно является важной составляющей обучения и развития ребён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Содержимое 3" descr="hello_html_2e236bc.jpg"/>
          <p:cNvPicPr/>
          <p:nvPr/>
        </p:nvPicPr>
        <p:blipFill>
          <a:blip r:embed="rId1"/>
          <a:stretch/>
        </p:blipFill>
        <p:spPr>
          <a:xfrm>
            <a:off x="755640" y="404640"/>
            <a:ext cx="7345440" cy="59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«Печать по трафарету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особ получения изображения: ребёнок прижимает печатку или поролоновый тампон к штемпельной подушке с краской и наносит оттиск на бумагу с помощью трафарета. Чтобы изменить цвет, берут другие тампон и трафар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Содержимое 3" descr="87076848_4195696_gh.jpg"/>
          <p:cNvPicPr/>
          <p:nvPr/>
        </p:nvPicPr>
        <p:blipFill>
          <a:blip r:embed="rId1"/>
          <a:stretch/>
        </p:blipFill>
        <p:spPr>
          <a:xfrm>
            <a:off x="108000" y="1413000"/>
            <a:ext cx="9036000" cy="37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«Набрызг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особ получения изображения: ребенок набирает краску на кисть и ударяет кистью о картон, который держит над бумагой. Затем закрашивает лист акварелью в один или несколько цветов. Краска разбрызгивается на бумаг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Содержимое 3" descr="hello_html_6fb064f8.jpg"/>
          <p:cNvPicPr/>
          <p:nvPr/>
        </p:nvPicPr>
        <p:blipFill>
          <a:blip r:embed="rId1"/>
          <a:stretch/>
        </p:blipFill>
        <p:spPr>
          <a:xfrm>
            <a:off x="468360" y="620640"/>
            <a:ext cx="809316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«Кляксография обычная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пособ получения изображения: ребёнок зачерпывает гуашь пластиковой ложкой и выливает на бумагу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 результате получаются пятна в произвольном порядке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Затем лист накрывается другим листом и прижимается (можно согнуть пополам, на одну половину капнуть тушь, а другой его прикрыть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алее верхний лист снимается, изображение рассматривается: определяется, на что оно похоже. Недостающие детали дорисовываютс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Содержимое 6" descr="hello_html_147d58de.jpg"/>
          <p:cNvPicPr/>
          <p:nvPr/>
        </p:nvPicPr>
        <p:blipFill>
          <a:blip r:embed="rId1"/>
          <a:stretch/>
        </p:blipFill>
        <p:spPr>
          <a:xfrm>
            <a:off x="2916360" y="2708280"/>
            <a:ext cx="5624280" cy="3745080"/>
          </a:xfrm>
          <a:prstGeom prst="rect">
            <a:avLst/>
          </a:prstGeom>
          <a:ln w="0">
            <a:noFill/>
          </a:ln>
        </p:spPr>
      </p:pic>
      <p:pic>
        <p:nvPicPr>
          <p:cNvPr id="83" name="Содержимое 3" descr="2386765897.jpg"/>
          <p:cNvPicPr/>
          <p:nvPr/>
        </p:nvPicPr>
        <p:blipFill>
          <a:blip r:embed="rId2"/>
          <a:stretch/>
        </p:blipFill>
        <p:spPr>
          <a:xfrm>
            <a:off x="179280" y="189000"/>
            <a:ext cx="4038840" cy="38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«Отпечатки листьев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особ получения изображения: ребенок покрывает листок дерева красками разных цветов, затем прикладывает его окрашенной стороной к бумаге для получения отпечатка. Каждый раз берется новый листок. Черешки у листьев можно дорисовать кисть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Содержимое 3" descr="faa28f76bd648e521e8e6f6e7c357fec.jpg"/>
          <p:cNvPicPr/>
          <p:nvPr/>
        </p:nvPicPr>
        <p:blipFill>
          <a:blip r:embed="rId1"/>
          <a:stretch/>
        </p:blipFill>
        <p:spPr>
          <a:xfrm>
            <a:off x="611280" y="404640"/>
            <a:ext cx="777708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«Тычок жёсткой полусухой кистью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особ получения изображения: ребёнок опускает в гуашь кисть и ударяет ею по бумаге, даже вертикально. При работе кисть в воду не опускается. Таким образом, заполняется весь лист, контур или шаблон. Получается имитация фактурности пушистой или колючей поверх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9528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витие навыков мелкой моторики важно потому, что вся дальнейшая жизнь ребёнка потребует использования точных, координированных движений кистей и пальцев, которые необходимы, чтобы одеваться, рисовать, писать, а также выполнять множество разнообразных бытовых, учебных и трудовых действ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Содержимое 3" descr="img11.jpg"/>
          <p:cNvPicPr/>
          <p:nvPr/>
        </p:nvPicPr>
        <p:blipFill>
          <a:blip r:embed="rId1"/>
          <a:stretch/>
        </p:blipFill>
        <p:spPr>
          <a:xfrm>
            <a:off x="250920" y="33336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92" name="Содержимое 6" descr="img14.jpg"/>
          <p:cNvPicPr/>
          <p:nvPr/>
        </p:nvPicPr>
        <p:blipFill>
          <a:blip r:embed="rId2"/>
          <a:stretch/>
        </p:blipFill>
        <p:spPr>
          <a:xfrm>
            <a:off x="3564000" y="2421000"/>
            <a:ext cx="540072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«Восковые мелки или свеча+акварель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особ получения изображения: ребёнок рисует восковыми мелками или свечой на бумаге. Затем закрашивает лист акварелью в один или несколько цветов. Рисунок остаётся не закрашенны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Содержимое 9" descr="s1200.jpg"/>
          <p:cNvPicPr/>
          <p:nvPr/>
        </p:nvPicPr>
        <p:blipFill>
          <a:blip r:embed="rId1"/>
          <a:stretch/>
        </p:blipFill>
        <p:spPr>
          <a:xfrm>
            <a:off x="250920" y="404640"/>
            <a:ext cx="8667720" cy="57610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78920" y="1197000"/>
            <a:ext cx="87138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Установлено, что уровень развития речи детей находится в прямой зависимости от степени сформированности тонких движений пальцев рук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 если развитие движений пальцев отстаёт, то задерживается и развитие ребёнка, не позволяет ему полноценно общаться и играть со сверстниками, затрудняет познание окружающего мира, отягощает эмоционально – психическое состояние ребёнка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днако, если вовремя помочь ребёнку, постоянно использовать все способы развития, активизации речи, эти серьёзные проблемы можно успешно решить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витие и совершенствование мелкой моторики кисти и пальцев рук является главным стимулом развития центральной нервной системы, всех психических процессов, реч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мелыми пальцы становятся не сразу. Игры, упражнения, пальчиковые разминки, конструирование, рисование, лепка, ручной труд помогают детям уверенно держать карандаш и ручку, самостоятельно заплетать косички и шнуровать ботинки, мастерить подарки своим близки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ровень развития мелкой моторики - один из показателей интеллектуальной готовности к школьному обучению. Ребенок, у которого этот уровень достаточно высокий, умеет логически рассуждать, у него хорошо развита память и внимание, связная речь, он может приступать к приобретению навыков письм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95280" y="980640"/>
            <a:ext cx="842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блюдения показывают, что у большинства детей дошкольного возраста низкий уровень развития мелкой моторики рук: дети плохо владеют карандашом, линии в основном кривые, неточные и слабые, у некоторых детей отмечается плохая координация движений, что говорит об общей неготовности большинства детей к письму, а также возникают  проблемы с речевым развитие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к же рука изучает предметы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24000" y="1052640"/>
            <a:ext cx="8640720" cy="60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икосновение позволяет убедиться в наличии предмета, его температуре, влажности и т. д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стукивание даёт возможность получить информацию о свойствах материало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зятие в руки помогает обнаружить многие свойства предметов: вес, особенности поверхности, формы и т. д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давливание даёт возможность определить мягкость или твёрдость, упругость, из какого материала сделан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щупывание (обхват, потирание, поглаживание, круговые и мнущие движения) мелких и сыпучих предметов учит ребёнка ощущать прикосновение ладони или пальцев. Большим, указательным, средним пальцами дети ощупывают детали мозаики, пуговицы, гайки, монетки; крупные предметы захватывают всеми пятью пальцам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9528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дним из самых эффективных форм развития мелкой моторики являются занятия по изобразительной деятель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дь по рисункам детей можно проследить, как развивается ребенок, его мелкая моторика, какого уровня она достигает на каждом возрастном этап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26T14:24:48Z</dcterms:created>
  <dc:creator>Ольга</dc:creator>
  <dc:description/>
  <dc:language>en-US</dc:language>
  <cp:lastModifiedBy>Ольга</cp:lastModifiedBy>
  <dcterms:modified xsi:type="dcterms:W3CDTF">2019-01-08T17:50:27Z</dcterms:modified>
  <cp:revision>14</cp:revision>
  <dc:subject/>
  <dc:title>Развитие мелкой моторики у детей дошкольного возраста через нетрадиционные техники рисования</dc:title>
</cp:coreProperties>
</file>