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CEE1-D10A-4AFE-9A05-7DDB7933F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5524-F655-4CBA-BCFC-E0E1279E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3E6A-F44B-4F0A-8121-EE5874F5B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9B15-7F1E-412B-BE66-715AC0156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EA33-0020-4D3C-8608-65435BF9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99C5-9DE0-4590-A974-D68BB2D0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2968-4A88-4E60-A991-4B6F2584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A69E-3230-43BC-9F46-593D6F6F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116C-8A94-4C91-AB37-2F9078E9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99D6-CCF6-478D-937D-FD003F90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97C7-C659-4070-8E39-3C90F8FE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BCAC-8081-4D7C-8D11-25DF5C41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0048-B533-43B4-83E9-6BE72E0227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азвитие мелкой моторики рук у детей дошкольного возраста через нетрадиционные техники рис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95280" y="1197000"/>
            <a:ext cx="8424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льшую роль отводится использованию нетрадиционного рисования. Работа с необычными материалами позволяет детям ощутить незабываемые эмоции, развивает творческие способности ребенка, его креативность, что способствует общему психическому и личностному развит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традиционное рисование имеет целый ряд преимущест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вает мелкую моторику руки и творческие способност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зывает целый комплекс эмоци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являет характер ребёнка, его индивидуальност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воляет применять многообразие способов и средств рисовани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вивает любовь к изобразительному искусств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етрадиционное рисование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искусство изображать, не основываясь на тради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исование нетрадиционными способами, увлекательная, завораживающая деятельность, которая удивляет и восхищает де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94920" y="404640"/>
            <a:ext cx="8497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менно нетрадиционные техники рисования создают атмосферу непринуждённости, открытости, содействуют развитию инициативы, самостоятельности, создают эмоционально - благоприятное отношение к деятельности у де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зультат изобразительной деятельности не может быть плохим или хорошим, работа каждого ребёнка индивидуальна и неповтори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Виды нетрадиционных техник рисован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«Рисование пальчиком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бёнок опускает в гуашь пальчик и наносит точки, пятнышки на бумагу. На каждый пальчик набирается краска разного цвета. После работы пальчики вытираются салфеткой, затем гуашь легко смывае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hello_html_219d7c58.jpg"/>
          <p:cNvPicPr/>
          <p:nvPr/>
        </p:nvPicPr>
        <p:blipFill>
          <a:blip r:embed="rId1"/>
          <a:stretch/>
        </p:blipFill>
        <p:spPr>
          <a:xfrm>
            <a:off x="250920" y="836640"/>
            <a:ext cx="871848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«Рисование ладошко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бёнок опускает ладошку в гуашь (всю кисть) или окрашивает её с помощью кисти и делает отпечаток на бумаге. Рисуют и правой и левой руками, окрашенными разными цветами. После работы руки вытираются салфетками, затем гуашь легко смывае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008.jpg"/>
          <p:cNvPicPr/>
          <p:nvPr/>
        </p:nvPicPr>
        <p:blipFill>
          <a:blip r:embed="rId1"/>
          <a:stretch/>
        </p:blipFill>
        <p:spPr>
          <a:xfrm>
            <a:off x="611280" y="549360"/>
            <a:ext cx="7821360" cy="58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«Оттиск печатками из пробки или ластик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 получения изображения: ребёнок прижимает пробку к штемпельной подушке с краской и наносит оттиск на бумагу. Для получения другого цвета меняется и мисочка и проб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50920" y="549000"/>
            <a:ext cx="86421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лкая мотори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это двигательная деятельность, которая обусловлена скоординированной работой мелких мышц руки и гла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вижения руки человека, как писал И. Н. Сеченов, наследственно не предопределены и формируются в процессе воспитания и обу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последнее время развитию мелкой моторики педагоги и психологи придают всё большее значение, ведь оно является важной составляющей обучения и развития ребё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3" descr="hello_html_2e236bc.jpg"/>
          <p:cNvPicPr/>
          <p:nvPr/>
        </p:nvPicPr>
        <p:blipFill>
          <a:blip r:embed="rId1"/>
          <a:stretch/>
        </p:blipFill>
        <p:spPr>
          <a:xfrm>
            <a:off x="755640" y="404640"/>
            <a:ext cx="734544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«Печать по трафарету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 получения изображения: ребёнок прижимает печатку или поролоновый тампон к штемпельной подушке с краской и наносит оттиск на бумагу с помощью трафарета. Чтобы изменить цвет, берут другие тампон и трафар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3" descr="87076848_4195696_gh.jpg"/>
          <p:cNvPicPr/>
          <p:nvPr/>
        </p:nvPicPr>
        <p:blipFill>
          <a:blip r:embed="rId1"/>
          <a:stretch/>
        </p:blipFill>
        <p:spPr>
          <a:xfrm>
            <a:off x="108000" y="1413000"/>
            <a:ext cx="903600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«Набрызг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 получения изображения: ребенок набирает краску на кисть и ударяет кистью о картон, который держит над бумагой. Затем закрашивает лист акварелью в один или несколько цветов. Краска разбрызгивается на бумаг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3" descr="hello_html_6fb064f8.jpg"/>
          <p:cNvPicPr/>
          <p:nvPr/>
        </p:nvPicPr>
        <p:blipFill>
          <a:blip r:embed="rId1"/>
          <a:stretch/>
        </p:blipFill>
        <p:spPr>
          <a:xfrm>
            <a:off x="468360" y="620640"/>
            <a:ext cx="80931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«Кляксография обычна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пособ получения изображения: ребёнок зачерпывает гуашь пластиковой ложкой и выливает на бумагу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результате получаются пятна в произвольном порядке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атем лист накрывается другим листом и прижимается (можно согнуть пополам, на одну половину капнуть тушь, а другой его прикрыть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алее верхний лист снимается, изображение рассматривается: определяется, на что оно похоже. Недостающие детали дорисовываютс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6" descr="hello_html_147d58de.jpg"/>
          <p:cNvPicPr/>
          <p:nvPr/>
        </p:nvPicPr>
        <p:blipFill>
          <a:blip r:embed="rId1"/>
          <a:stretch/>
        </p:blipFill>
        <p:spPr>
          <a:xfrm>
            <a:off x="2916360" y="2708280"/>
            <a:ext cx="5624280" cy="3745080"/>
          </a:xfrm>
          <a:prstGeom prst="rect">
            <a:avLst/>
          </a:prstGeom>
          <a:ln w="0">
            <a:noFill/>
          </a:ln>
        </p:spPr>
      </p:pic>
      <p:pic>
        <p:nvPicPr>
          <p:cNvPr id="83" name="Содержимое 3" descr="2386765897.jpg"/>
          <p:cNvPicPr/>
          <p:nvPr/>
        </p:nvPicPr>
        <p:blipFill>
          <a:blip r:embed="rId2"/>
          <a:stretch/>
        </p:blipFill>
        <p:spPr>
          <a:xfrm>
            <a:off x="179280" y="189000"/>
            <a:ext cx="4038840" cy="38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«Отпечатки листьев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 получения изображения: ребенок покрывает листок дерева красками разных цветов, затем прикладывает его окрашенной стороной к бумаге для получения отпечатка. Каждый раз берется новый листок. Черешки у листьев можно дорисовать кист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одержимое 3" descr="faa28f76bd648e521e8e6f6e7c357fec.jpg"/>
          <p:cNvPicPr/>
          <p:nvPr/>
        </p:nvPicPr>
        <p:blipFill>
          <a:blip r:embed="rId1"/>
          <a:stretch/>
        </p:blipFill>
        <p:spPr>
          <a:xfrm>
            <a:off x="611280" y="404640"/>
            <a:ext cx="77770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«Тычок жёсткой полусухой кистью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 получения изображения: ребёнок опускает в гуашь кисть и ударяет ею по бумаге, даже вертикально. При работе кисть в воду не опускается. Таким образом, заполняется весь лист, контур или шаблон. Получается имитация фактурности пушистой или колючей поверх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тие навыков мелкой моторики важно потому, что вся дальнейшая жизнь ребёнка потребует использования точных, координированных движений кистей и пальцев, которые необходимы, чтобы одеваться, рисовать, писать, а также выполнять множество разнообразных бытовых, учебных и трудовых действ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Содержимое 3" descr="img11.jpg"/>
          <p:cNvPicPr/>
          <p:nvPr/>
        </p:nvPicPr>
        <p:blipFill>
          <a:blip r:embed="rId1"/>
          <a:stretch/>
        </p:blipFill>
        <p:spPr>
          <a:xfrm>
            <a:off x="250920" y="3333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92" name="Содержимое 6" descr="img14.jpg"/>
          <p:cNvPicPr/>
          <p:nvPr/>
        </p:nvPicPr>
        <p:blipFill>
          <a:blip r:embed="rId2"/>
          <a:stretch/>
        </p:blipFill>
        <p:spPr>
          <a:xfrm>
            <a:off x="3564000" y="2421000"/>
            <a:ext cx="54007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«Восковые мелки или свеча+акварель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 получения изображения: ребёнок рисует восковыми мелками или свечой на бумаге. Затем закрашивает лист акварелью в один или несколько цветов. Рисунок остаётся не закрашенн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9" descr="s1200.jpg"/>
          <p:cNvPicPr/>
          <p:nvPr/>
        </p:nvPicPr>
        <p:blipFill>
          <a:blip r:embed="rId1"/>
          <a:stretch/>
        </p:blipFill>
        <p:spPr>
          <a:xfrm>
            <a:off x="250920" y="404640"/>
            <a:ext cx="8667720" cy="5761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78920" y="119700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становлено, что уровень развития речи детей находится в прямой зависимости от степени сформированности тонких движений пальцев рук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если развитие движений пальцев отстаёт, то задерживается и развитие ребёнка, не позволяет ему полноценно общаться и играть со сверстниками, затрудняет познание окружающего мира, отягощает эмоционально – психическое состояние ребёнк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днако, если вовремя помочь ребёнку, постоянно использовать все способы развития, активизации речи, эти серьёзные проблемы можно успешно решить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тие и совершенствование мелкой моторики кисти и пальцев рук является главным стимулом развития центральной нервной системы, всех психических процессов, реч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мелыми пальцы становятся не сразу. Игры, упражнения, пальчиковые разминки, конструирование, рисование, лепка, ручной труд помогают детям уверенно держать карандаш и ручку, самостоятельно заплетать косички и шнуровать ботинки, мастерить подарки своим близки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вень развития мелкой моторики - один из показателей интеллектуальной готовности к школьному обучению. Ребенок, у которого этот уровень достаточно высокий, умеет логически рассуждать, у него хорошо развита память и внимание, связная речь, он может приступать к приобретению навыков пись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95280" y="98064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блюдения показывают, что у большинства детей дошкольного возраста низкий уровень развития мелкой моторики рук: дети плохо владеют карандашом, линии в основном кривые, неточные и слабые, у некоторых детей отмечается плохая координация движений, что говорит об общей неготовности большинства детей к письму, а также возникают  проблемы с речевым развити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же рука изучает предметы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4000" y="1052640"/>
            <a:ext cx="8640720" cy="60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косновение позволяет убедиться в наличии предмета, его температуре, влажности и т. д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стукивание даёт возможность получить информацию о свойствах материал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зятие в руки помогает обнаружить многие свойства предметов: вес, особенности поверхности, формы и т. д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давливание даёт возможность определить мягкость или твёрдость, упругость, из какого материала сделан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щупывание (обхват, потирание, поглаживание, круговые и мнущие движения) мелких и сыпучих предметов учит ребёнка ощущать прикосновение ладони или пальцев. Большим, указательным, средним пальцами дети ощупывают детали мозаики, пуговицы, гайки, монетки; крупные предметы захватывают всеми пятью пальца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им из самых эффективных форм развития мелкой моторики являются занятия по изобразительной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дь по рисункам детей можно проследить, как развивается ребенок, его мелкая моторика, какого уровня она достигает на каждом возрастном эта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14:24:48Z</dcterms:created>
  <dc:creator>Ольга</dc:creator>
  <dc:description/>
  <dc:language>en-US</dc:language>
  <cp:lastModifiedBy>Ольга</cp:lastModifiedBy>
  <dcterms:modified xsi:type="dcterms:W3CDTF">2019-01-08T17:50:27Z</dcterms:modified>
  <cp:revision>14</cp:revision>
  <dc:subject/>
  <dc:title>Развитие мелкой моторики у детей дошкольного возраста через нетрадиционные техники рисования</dc:title>
</cp:coreProperties>
</file>