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3.gif" ContentType="image/gif"/>
  <Override PartName="/ppt/media/image10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3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chimes.wav" ContentType="audio/x-wav"/>
  <Override PartName="/ppt/media/image11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F67-A3F2-4833-B5E4-8158E5832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EE5B-C6C3-4F78-AB1F-5A14DD607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8E4-0290-4E9E-BF49-60556D5F2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83D-149E-48EB-98CE-DFD09FBA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5DD-6ACA-4930-BB34-A146BC5C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B0D-FED7-4E01-9A42-FDF2323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C75-0122-4607-A543-EF062488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9E8-8285-4331-A842-53A3C93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6DD-9F80-41D9-9994-1A7D5D3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5BF-3CF4-484A-8C59-354C6B8A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2F4-A5D9-4703-8719-CDE135E0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9D4-39F6-400E-80CD-E25E151B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557-2FD1-48E0-95A8-C7657D9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38E-CCC0-4E96-8EA4-216837CB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062-68FC-4AA0-B2EC-0E3EFDB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DA1-E850-4437-93FD-2F5AB9DCE1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3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380880"/>
            <a:ext cx="655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МОУ  Милютинская  СОШ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0880" y="4572000"/>
            <a:ext cx="8344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учитель начальных  классов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Мушиц  Оксана  Александровн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143000" y="1981080"/>
            <a:ext cx="7238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80008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Окружающий мир</a:t>
            </a:r>
            <a:endParaRPr b="0" i="1" lang="en-US" sz="1800" spc="1" strike="noStrike">
              <a:ln w="38160">
                <a:solidFill>
                  <a:srgbClr val="80008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80008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2 класс</a:t>
            </a:r>
            <a:endParaRPr b="0" i="1" lang="en-US" sz="1800" spc="1" strike="noStrike">
              <a:ln w="38160">
                <a:solidFill>
                  <a:srgbClr val="80008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066680" y="380880"/>
            <a:ext cx="655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МОУ  Милютинская  СОШ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1981080" y="617220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ст.  Милютинская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  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3" name="Picture 10" descr="book35"/>
          <p:cNvPicPr/>
          <p:nvPr/>
        </p:nvPicPr>
        <p:blipFill>
          <a:blip r:embed="rId17"/>
          <a:stretch/>
        </p:blipFill>
        <p:spPr>
          <a:xfrm>
            <a:off x="723888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5"/>
          <p:cNvPicPr/>
          <p:nvPr/>
        </p:nvPicPr>
        <p:blipFill>
          <a:blip r:embed="rId1"/>
          <a:stretch/>
        </p:blipFill>
        <p:spPr>
          <a:xfrm>
            <a:off x="250920" y="1341360"/>
            <a:ext cx="3400200" cy="4464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56" name="Text Box 4"/>
          <p:cNvSpPr/>
          <p:nvPr/>
        </p:nvSpPr>
        <p:spPr>
          <a:xfrm>
            <a:off x="3849480" y="2421000"/>
            <a:ext cx="38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скрути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48040" y="3284640"/>
            <a:ext cx="51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го цве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обусе, каким каж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45880" y="2349360"/>
            <a:ext cx="5024160" cy="2653560"/>
          </a:xfrm>
          <a:prstGeom prst="rect">
            <a:avLst/>
          </a:prstGeom>
          <a:solidFill>
            <a:srgbClr val="ccec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ой краской изобра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лобусе вода – все м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кеаны на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занимают в два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места, чем с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476360" y="2060640"/>
            <a:ext cx="6337440" cy="3816360"/>
          </a:xfrm>
          <a:prstGeom prst="wedgeEllipseCallout">
            <a:avLst>
              <a:gd name="adj1" fmla="val -62000"/>
              <a:gd name="adj2" fmla="val -54162"/>
            </a:avLst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09840" y="292428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оге стоит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ит-вертит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оказывая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и, горы, оке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827640" y="40464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850560" y="16286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такое 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917440" y="404640"/>
            <a:ext cx="557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 модель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GLOBE9"/>
          <p:cNvPicPr/>
          <p:nvPr/>
        </p:nvPicPr>
        <p:blipFill>
          <a:blip r:embed="rId2"/>
          <a:stretch/>
        </p:blipFill>
        <p:spPr>
          <a:xfrm>
            <a:off x="8153280" y="1371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7" descr="5317_w400.jpg"/>
          <p:cNvPicPr/>
          <p:nvPr/>
        </p:nvPicPr>
        <p:blipFill>
          <a:blip r:embed="rId1"/>
          <a:stretch/>
        </p:blipFill>
        <p:spPr>
          <a:xfrm>
            <a:off x="1000080" y="46368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384053_25.jpg"/>
          <p:cNvPicPr/>
          <p:nvPr/>
        </p:nvPicPr>
        <p:blipFill>
          <a:blip r:embed="rId2"/>
          <a:stretch/>
        </p:blipFill>
        <p:spPr>
          <a:xfrm>
            <a:off x="5718240" y="542880"/>
            <a:ext cx="2859120" cy="1998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m_05_03.jpg"/>
          <p:cNvPicPr/>
          <p:nvPr/>
        </p:nvPicPr>
        <p:blipFill>
          <a:blip r:embed="rId3"/>
          <a:stretch/>
        </p:blipFill>
        <p:spPr>
          <a:xfrm>
            <a:off x="1000080" y="3968640"/>
            <a:ext cx="2712960" cy="2035440"/>
          </a:xfrm>
          <a:prstGeom prst="rect">
            <a:avLst/>
          </a:prstGeom>
          <a:ln w="0">
            <a:noFill/>
          </a:ln>
        </p:spPr>
      </p:pic>
      <p:sp>
        <p:nvSpPr>
          <p:cNvPr id="68" name="WordArt 9"/>
          <p:cNvSpPr txBox="1"/>
          <p:nvPr/>
        </p:nvSpPr>
        <p:spPr>
          <a:xfrm>
            <a:off x="1219320" y="60199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609480" y="281952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715000" y="266688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от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5867280" y="5943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ре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2" name="Picture 13" descr="4"/>
          <p:cNvPicPr/>
          <p:nvPr/>
        </p:nvPicPr>
        <p:blipFill>
          <a:blip r:embed="rId4"/>
          <a:stretch/>
        </p:blipFill>
        <p:spPr>
          <a:xfrm>
            <a:off x="5529240" y="3932280"/>
            <a:ext cx="2889360" cy="1974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752480" y="380880"/>
            <a:ext cx="6019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Куда  же  текут  реки?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4" descr="C:\Users\1\Pictures\КАРТИНКИ\АНИМИРОВАННЫЕ КАРТИНКИ\1 (363).gif"/>
          <p:cNvPicPr/>
          <p:nvPr/>
        </p:nvPicPr>
        <p:blipFill>
          <a:blip r:embed="rId1"/>
          <a:stretch/>
        </p:blipFill>
        <p:spPr>
          <a:xfrm>
            <a:off x="6400800" y="4267080"/>
            <a:ext cx="2743200" cy="2256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04920" y="9907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есто, где река впадает  в  море,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 или  другую  ре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устьем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Картинка 11 из 4161"/>
          <p:cNvPicPr/>
          <p:nvPr/>
        </p:nvPicPr>
        <p:blipFill>
          <a:blip r:embed="rId2"/>
          <a:stretch/>
        </p:blipFill>
        <p:spPr>
          <a:xfrm>
            <a:off x="304920" y="2666880"/>
            <a:ext cx="6019560" cy="4191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77" name="WordArt 9"/>
          <p:cNvSpPr txBox="1"/>
          <p:nvPr/>
        </p:nvSpPr>
        <p:spPr>
          <a:xfrm>
            <a:off x="609480" y="2895480"/>
            <a:ext cx="3657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Каспийское  мор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 rot="20370000">
            <a:off x="3338640" y="4962600"/>
            <a:ext cx="2394000" cy="1143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webshot475"/>
          <p:cNvPicPr/>
          <p:nvPr/>
        </p:nvPicPr>
        <p:blipFill>
          <a:blip r:embed="rId1"/>
          <a:stretch/>
        </p:blipFill>
        <p:spPr>
          <a:xfrm>
            <a:off x="457200" y="2895480"/>
            <a:ext cx="4876920" cy="36385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81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>
            <a:off x="7315200" y="3124080"/>
            <a:ext cx="152388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312408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-облако 2"/>
          <p:cNvSpPr/>
          <p:nvPr/>
        </p:nvSpPr>
        <p:spPr>
          <a:xfrm>
            <a:off x="457200" y="228600"/>
            <a:ext cx="8686800" cy="2514600"/>
          </a:xfrm>
          <a:prstGeom prst="cloudCallout">
            <a:avLst>
              <a:gd name="adj1" fmla="val 17453"/>
              <a:gd name="adj2" fmla="val 172981"/>
            </a:avLst>
          </a:pr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-228600" y="121932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Приток - это  рек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впадающая  в  другую  реку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609480" y="457200"/>
            <a:ext cx="7467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акие  водоёмы  пополняют  воды  реки?</a:t>
            </a:r>
            <a:endParaRPr b="1" lang="en-US" sz="4400" spc="1" strike="noStrike">
              <a:ln w="19080">
                <a:solidFill>
                  <a:srgbClr val="9933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4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тетрадь"/>
          <p:cNvPicPr/>
          <p:nvPr/>
        </p:nvPicPr>
        <p:blipFill>
          <a:blip r:embed="rId1"/>
          <a:stretch/>
        </p:blipFill>
        <p:spPr>
          <a:xfrm>
            <a:off x="609480" y="838080"/>
            <a:ext cx="7932960" cy="5114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87" name="WordArt 5"/>
          <p:cNvSpPr txBox="1"/>
          <p:nvPr/>
        </p:nvSpPr>
        <p:spPr>
          <a:xfrm>
            <a:off x="28954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6324480" y="2133720"/>
            <a:ext cx="15264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76960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438280" y="42670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579132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3657600" y="4648320"/>
            <a:ext cx="15228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6477120" y="38098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754380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2971800" y="297180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6324480" y="2133720"/>
            <a:ext cx="15264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76960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438280" y="42670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3657600" y="4648320"/>
            <a:ext cx="15228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579132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6400800" y="38098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7467480" y="44956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2"/>
          <a:stretch/>
        </p:blipFill>
        <p:spPr>
          <a:xfrm>
            <a:off x="6934320" y="464832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7561-9084-4CF3-AC4F-F59C5CB5E4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D39A-3B99-4976-ACF2-1D3C9C211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obl_w"/>
          <p:cNvPicPr/>
          <p:nvPr/>
        </p:nvPicPr>
        <p:blipFill>
          <a:blip r:embed="rId1"/>
          <a:stretch/>
        </p:blipFill>
        <p:spPr>
          <a:xfrm>
            <a:off x="1371600" y="152280"/>
            <a:ext cx="6572160" cy="65534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07" name="Rectangle 3"/>
          <p:cNvSpPr/>
          <p:nvPr/>
        </p:nvSpPr>
        <p:spPr>
          <a:xfrm>
            <a:off x="4786200" y="2857680"/>
            <a:ext cx="6796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Calibri"/>
              </a:rPr>
              <a:t>р. Быстр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786200" y="185724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Calibri"/>
              </a:rPr>
              <a:t>Больш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4929120" y="2428920"/>
            <a:ext cx="571680" cy="250920"/>
          </a:xfrm>
          <a:custGeom>
            <a:avLst/>
            <a:gdLst>
              <a:gd name="textAreaLeft" fmla="*/ 0 w 571680"/>
              <a:gd name="textAreaRight" fmla="*/ 572040 w 571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928" h="532">
                <a:moveTo>
                  <a:pt x="0" y="532"/>
                </a:moveTo>
                <a:cubicBezTo>
                  <a:pt x="18" y="479"/>
                  <a:pt x="26" y="481"/>
                  <a:pt x="77" y="455"/>
                </a:cubicBezTo>
                <a:cubicBezTo>
                  <a:pt x="96" y="446"/>
                  <a:pt x="105" y="420"/>
                  <a:pt x="126" y="416"/>
                </a:cubicBezTo>
                <a:cubicBezTo>
                  <a:pt x="170" y="408"/>
                  <a:pt x="216" y="409"/>
                  <a:pt x="261" y="406"/>
                </a:cubicBezTo>
                <a:cubicBezTo>
                  <a:pt x="315" y="389"/>
                  <a:pt x="361" y="362"/>
                  <a:pt x="416" y="348"/>
                </a:cubicBezTo>
                <a:cubicBezTo>
                  <a:pt x="459" y="320"/>
                  <a:pt x="504" y="326"/>
                  <a:pt x="551" y="310"/>
                </a:cubicBezTo>
                <a:cubicBezTo>
                  <a:pt x="570" y="304"/>
                  <a:pt x="609" y="290"/>
                  <a:pt x="609" y="290"/>
                </a:cubicBezTo>
                <a:cubicBezTo>
                  <a:pt x="615" y="277"/>
                  <a:pt x="616" y="259"/>
                  <a:pt x="628" y="252"/>
                </a:cubicBezTo>
                <a:cubicBezTo>
                  <a:pt x="651" y="238"/>
                  <a:pt x="706" y="232"/>
                  <a:pt x="706" y="232"/>
                </a:cubicBezTo>
                <a:cubicBezTo>
                  <a:pt x="732" y="152"/>
                  <a:pt x="721" y="161"/>
                  <a:pt x="812" y="145"/>
                </a:cubicBezTo>
                <a:cubicBezTo>
                  <a:pt x="849" y="121"/>
                  <a:pt x="842" y="133"/>
                  <a:pt x="860" y="87"/>
                </a:cubicBezTo>
                <a:cubicBezTo>
                  <a:pt x="875" y="50"/>
                  <a:pt x="877" y="0"/>
                  <a:pt x="928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0360" y="457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90360" y="686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5"/>
          <p:cNvSpPr/>
          <p:nvPr/>
        </p:nvSpPr>
        <p:spPr>
          <a:xfrm>
            <a:off x="5029200" y="2057400"/>
            <a:ext cx="380880" cy="36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1219320" cy="838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148-2134-467C-874A-E8BF24BA50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987-32CA-467C-A478-53E7A51F1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7" descr="5"/>
          <p:cNvPicPr/>
          <p:nvPr/>
        </p:nvPicPr>
        <p:blipFill>
          <a:blip r:embed="rId1"/>
          <a:stretch/>
        </p:blipFill>
        <p:spPr>
          <a:xfrm>
            <a:off x="395280" y="357120"/>
            <a:ext cx="4567320" cy="3429000"/>
          </a:xfrm>
          <a:prstGeom prst="rect">
            <a:avLst/>
          </a:prstGeom>
          <a:ln cap="sq" w="127080">
            <a:solidFill>
              <a:srgbClr val="00b0f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7" name="Picture 13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205740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236"/>
          <p:cNvPicPr/>
          <p:nvPr/>
        </p:nvPicPr>
        <p:blipFill>
          <a:blip r:embed="rId3"/>
          <a:stretch/>
        </p:blipFill>
        <p:spPr>
          <a:xfrm>
            <a:off x="4267080" y="2857680"/>
            <a:ext cx="4600800" cy="4000320"/>
          </a:xfrm>
          <a:prstGeom prst="rect">
            <a:avLst/>
          </a:prstGeom>
          <a:ln cap="sq" w="127080">
            <a:solidFill>
              <a:srgbClr val="00b0f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WordArt 10"/>
          <p:cNvSpPr txBox="1"/>
          <p:nvPr/>
        </p:nvSpPr>
        <p:spPr>
          <a:xfrm>
            <a:off x="5334120" y="990720"/>
            <a:ext cx="338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река  Гнилая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0" name="06-Серебряная река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7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0:57:02Z</dcterms:created>
  <dc:creator>all</dc:creator>
  <dc:description/>
  <dc:language>en-US</dc:language>
  <cp:lastModifiedBy>uzer</cp:lastModifiedBy>
  <dcterms:modified xsi:type="dcterms:W3CDTF">2019-01-08T10:22:4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