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png" ContentType="image/png"/>
  <Override PartName="/ppt/media/image3.gif" ContentType="image/gif"/>
  <Override PartName="/ppt/media/image10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5.png" ContentType="image/png"/>
  <Override PartName="/ppt/media/image13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6.jpeg" ContentType="image/jpeg"/>
  <Override PartName="/ppt/media/chimes.wav" ContentType="audio/x-wav"/>
  <Override PartName="/ppt/media/image11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8149-34A5-4458-AA65-797835F12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4811-F4A0-4A53-B56A-91A001FDC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6C36-360B-453E-B511-ED34323461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2CA-EE6C-4262-B9EB-5AD35C7F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ACC-A02F-466D-B0FC-0CC728F1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2A1-1774-4231-927F-BAF68AD7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69E-7ECE-42C0-8A45-4C185940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C04-9E15-4672-9B56-7533EB77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19E-C5D1-488C-AF88-AF8CBD4A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2CF-FCA5-45BA-939F-B6F57501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901-4CED-4F17-A179-C85E1746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6B6-1EE1-4E10-8B79-2C45D26A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E00-08C0-4444-A981-F718B047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301-5CB7-4A14-A2CB-A26AB282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CAE-0049-4274-A39D-EAB1D873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3FDD-55A1-4BAD-8544-E10CC00D250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3.gif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gif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image" Target="../media/image17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66680" y="380880"/>
            <a:ext cx="6553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МОУ  Милютинская  СОШ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80880" y="4572000"/>
            <a:ext cx="8344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учитель начальных  классов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Мушиц  Оксана  Александровн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1143000" y="1981080"/>
            <a:ext cx="7238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80008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Окружающий мир</a:t>
            </a:r>
            <a:endParaRPr b="0" i="1" lang="en-US" sz="1800" spc="1" strike="noStrike">
              <a:ln w="38160">
                <a:solidFill>
                  <a:srgbClr val="80008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80008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2 класс</a:t>
            </a:r>
            <a:endParaRPr b="0" i="1" lang="en-US" sz="1800" spc="1" strike="noStrike">
              <a:ln w="38160">
                <a:solidFill>
                  <a:srgbClr val="80008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1066680" y="380880"/>
            <a:ext cx="6553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МОУ  Милютинская  СОШ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1981080" y="617220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ст.  Милютинская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  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3" name="Picture 10" descr="book35"/>
          <p:cNvPicPr/>
          <p:nvPr/>
        </p:nvPicPr>
        <p:blipFill>
          <a:blip r:embed="rId17"/>
          <a:stretch/>
        </p:blipFill>
        <p:spPr>
          <a:xfrm>
            <a:off x="7238880" y="31240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18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5"/>
          <p:cNvPicPr/>
          <p:nvPr/>
        </p:nvPicPr>
        <p:blipFill>
          <a:blip r:embed="rId1"/>
          <a:stretch/>
        </p:blipFill>
        <p:spPr>
          <a:xfrm>
            <a:off x="250920" y="1341360"/>
            <a:ext cx="3400200" cy="4464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56" name="Text Box 4"/>
          <p:cNvSpPr/>
          <p:nvPr/>
        </p:nvSpPr>
        <p:spPr>
          <a:xfrm>
            <a:off x="3849480" y="2421000"/>
            <a:ext cx="38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Раскрути глоб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48040" y="3284640"/>
            <a:ext cx="51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Какого цве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глобусе, каким каж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б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845880" y="2349360"/>
            <a:ext cx="5024160" cy="2653560"/>
          </a:xfrm>
          <a:prstGeom prst="rect">
            <a:avLst/>
          </a:prstGeom>
          <a:solidFill>
            <a:srgbClr val="ccec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убой краской изображ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лобусе вода – все мо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кеаны на нашей пла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занимают в два р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места, чем су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1476360" y="2060640"/>
            <a:ext cx="6337440" cy="3816360"/>
          </a:xfrm>
          <a:prstGeom prst="wedgeEllipseCallout">
            <a:avLst>
              <a:gd name="adj1" fmla="val -62000"/>
              <a:gd name="adj2" fmla="val -54162"/>
            </a:avLst>
          </a:prstGeom>
          <a:solidFill>
            <a:srgbClr val="ffff99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09840" y="2924280"/>
            <a:ext cx="466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ноге стоит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тит-вертит гол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оказывая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и, горы, оке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827640" y="404640"/>
            <a:ext cx="20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л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850560" y="162864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то такое глоб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917440" y="404640"/>
            <a:ext cx="557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это модель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GLOBE9"/>
          <p:cNvPicPr/>
          <p:nvPr/>
        </p:nvPicPr>
        <p:blipFill>
          <a:blip r:embed="rId2"/>
          <a:stretch/>
        </p:blipFill>
        <p:spPr>
          <a:xfrm>
            <a:off x="8153280" y="1371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7" descr="5317_w400.jpg"/>
          <p:cNvPicPr/>
          <p:nvPr/>
        </p:nvPicPr>
        <p:blipFill>
          <a:blip r:embed="rId1"/>
          <a:stretch/>
        </p:blipFill>
        <p:spPr>
          <a:xfrm>
            <a:off x="1000080" y="46368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384053_25.jpg"/>
          <p:cNvPicPr/>
          <p:nvPr/>
        </p:nvPicPr>
        <p:blipFill>
          <a:blip r:embed="rId2"/>
          <a:stretch/>
        </p:blipFill>
        <p:spPr>
          <a:xfrm>
            <a:off x="5718240" y="542880"/>
            <a:ext cx="2859120" cy="1998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m_05_03.jpg"/>
          <p:cNvPicPr/>
          <p:nvPr/>
        </p:nvPicPr>
        <p:blipFill>
          <a:blip r:embed="rId3"/>
          <a:stretch/>
        </p:blipFill>
        <p:spPr>
          <a:xfrm>
            <a:off x="1000080" y="3968640"/>
            <a:ext cx="2712960" cy="2035440"/>
          </a:xfrm>
          <a:prstGeom prst="rect">
            <a:avLst/>
          </a:prstGeom>
          <a:ln w="0">
            <a:noFill/>
          </a:ln>
        </p:spPr>
      </p:pic>
      <p:sp>
        <p:nvSpPr>
          <p:cNvPr id="68" name="WordArt 9"/>
          <p:cNvSpPr txBox="1"/>
          <p:nvPr/>
        </p:nvSpPr>
        <p:spPr>
          <a:xfrm>
            <a:off x="1219320" y="6019920"/>
            <a:ext cx="228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WordArt 10"/>
          <p:cNvSpPr txBox="1"/>
          <p:nvPr/>
        </p:nvSpPr>
        <p:spPr>
          <a:xfrm>
            <a:off x="609480" y="281952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зеро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5715000" y="2666880"/>
            <a:ext cx="2895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лото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5867280" y="5943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ре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2" name="Picture 13" descr="4"/>
          <p:cNvPicPr/>
          <p:nvPr/>
        </p:nvPicPr>
        <p:blipFill>
          <a:blip r:embed="rId4"/>
          <a:stretch/>
        </p:blipFill>
        <p:spPr>
          <a:xfrm>
            <a:off x="5529240" y="3932280"/>
            <a:ext cx="2889360" cy="19749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752480" y="380880"/>
            <a:ext cx="6019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Куда  же  текут  реки?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4" descr="C:\Users\1\Pictures\КАРТИНКИ\АНИМИРОВАННЫЕ КАРТИНКИ\1 (363).gif"/>
          <p:cNvPicPr/>
          <p:nvPr/>
        </p:nvPicPr>
        <p:blipFill>
          <a:blip r:embed="rId1"/>
          <a:stretch/>
        </p:blipFill>
        <p:spPr>
          <a:xfrm>
            <a:off x="6400800" y="4267080"/>
            <a:ext cx="2743200" cy="2256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04920" y="9907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есто, где река впадает  в  море,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еро  или  другую  ре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ывают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устьем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Картинка 11 из 4161"/>
          <p:cNvPicPr/>
          <p:nvPr/>
        </p:nvPicPr>
        <p:blipFill>
          <a:blip r:embed="rId2"/>
          <a:stretch/>
        </p:blipFill>
        <p:spPr>
          <a:xfrm>
            <a:off x="304920" y="2666880"/>
            <a:ext cx="6019560" cy="4191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77" name="WordArt 9"/>
          <p:cNvSpPr txBox="1"/>
          <p:nvPr/>
        </p:nvSpPr>
        <p:spPr>
          <a:xfrm>
            <a:off x="609480" y="2895480"/>
            <a:ext cx="3657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Каспийское  мор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3"/>
          <a:stretch/>
        </p:blipFill>
        <p:spPr>
          <a:xfrm rot="20370000">
            <a:off x="3338640" y="4962600"/>
            <a:ext cx="2394000" cy="1143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webshot475"/>
          <p:cNvPicPr/>
          <p:nvPr/>
        </p:nvPicPr>
        <p:blipFill>
          <a:blip r:embed="rId1"/>
          <a:stretch/>
        </p:blipFill>
        <p:spPr>
          <a:xfrm>
            <a:off x="457200" y="2895480"/>
            <a:ext cx="4876920" cy="36385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81" name="Picture 4" descr="C:\Users\1\Pictures\КАРТИНКИ\АНИМИРОВАННЫЕ КАРТИНКИ\1 (363).gif"/>
          <p:cNvPicPr/>
          <p:nvPr/>
        </p:nvPicPr>
        <p:blipFill>
          <a:blip r:embed="rId2"/>
          <a:stretch/>
        </p:blipFill>
        <p:spPr>
          <a:xfrm>
            <a:off x="7315200" y="3124080"/>
            <a:ext cx="1523880" cy="9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3124080" cy="1828800"/>
          </a:xfrm>
          <a:prstGeom prst="rect">
            <a:avLst/>
          </a:prstGeom>
          <a:ln w="0">
            <a:noFill/>
          </a:ln>
        </p:spPr>
      </p:pic>
      <p:sp>
        <p:nvSpPr>
          <p:cNvPr id="83" name="Выноска-облако 2"/>
          <p:cNvSpPr/>
          <p:nvPr/>
        </p:nvSpPr>
        <p:spPr>
          <a:xfrm>
            <a:off x="457200" y="228600"/>
            <a:ext cx="8686800" cy="2514600"/>
          </a:xfrm>
          <a:prstGeom prst="cloudCallout">
            <a:avLst>
              <a:gd name="adj1" fmla="val 17453"/>
              <a:gd name="adj2" fmla="val 172981"/>
            </a:avLst>
          </a:prstGeom>
          <a:solidFill>
            <a:srgbClr val="00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-228600" y="121932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Приток - это  река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впадающая  в  другую  реку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609480" y="457200"/>
            <a:ext cx="7467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акие  водоёмы  пополняют  воды  реки?</a:t>
            </a:r>
            <a:endParaRPr b="1" lang="en-US" sz="4400" spc="1" strike="noStrike">
              <a:ln w="19080">
                <a:solidFill>
                  <a:srgbClr val="993300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4" name="chimes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тетрадь"/>
          <p:cNvPicPr/>
          <p:nvPr/>
        </p:nvPicPr>
        <p:blipFill>
          <a:blip r:embed="rId1"/>
          <a:stretch/>
        </p:blipFill>
        <p:spPr>
          <a:xfrm>
            <a:off x="609480" y="838080"/>
            <a:ext cx="7932960" cy="5114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87" name="WordArt 5"/>
          <p:cNvSpPr txBox="1"/>
          <p:nvPr/>
        </p:nvSpPr>
        <p:spPr>
          <a:xfrm>
            <a:off x="2895480" y="297180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6324480" y="2133720"/>
            <a:ext cx="15264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7696080" y="297180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2438280" y="426708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" name="WordArt 9"/>
          <p:cNvSpPr txBox="1"/>
          <p:nvPr/>
        </p:nvSpPr>
        <p:spPr>
          <a:xfrm>
            <a:off x="5791320" y="449568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3657600" y="4648320"/>
            <a:ext cx="15228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6477120" y="380988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7543800" y="449568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" name="WordArt 13"/>
          <p:cNvSpPr txBox="1"/>
          <p:nvPr/>
        </p:nvSpPr>
        <p:spPr>
          <a:xfrm>
            <a:off x="2971800" y="297180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6324480" y="2133720"/>
            <a:ext cx="15264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7" name="WordArt 15"/>
          <p:cNvSpPr txBox="1"/>
          <p:nvPr/>
        </p:nvSpPr>
        <p:spPr>
          <a:xfrm>
            <a:off x="7696080" y="297180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п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2438280" y="426708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" name="WordArt 17"/>
          <p:cNvSpPr txBox="1"/>
          <p:nvPr/>
        </p:nvSpPr>
        <p:spPr>
          <a:xfrm>
            <a:off x="3657600" y="4648320"/>
            <a:ext cx="15228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п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5791320" y="449568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у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1" name="WordArt 19"/>
          <p:cNvSpPr txBox="1"/>
          <p:nvPr/>
        </p:nvSpPr>
        <p:spPr>
          <a:xfrm>
            <a:off x="6400800" y="3809880"/>
            <a:ext cx="1522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у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2" name="WordArt 20"/>
          <p:cNvSpPr txBox="1"/>
          <p:nvPr/>
        </p:nvSpPr>
        <p:spPr>
          <a:xfrm>
            <a:off x="7467480" y="4495680"/>
            <a:ext cx="1526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у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03" name="Picture 13" descr=""/>
          <p:cNvPicPr/>
          <p:nvPr/>
        </p:nvPicPr>
        <p:blipFill>
          <a:blip r:embed="rId2"/>
          <a:stretch/>
        </p:blipFill>
        <p:spPr>
          <a:xfrm>
            <a:off x="6934320" y="4648320"/>
            <a:ext cx="1676160" cy="12952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2C71-11C7-4585-BD25-A6149BCD86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5CAB-E891-4BB0-B956-08CDFEACE3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" descr="obl_w"/>
          <p:cNvPicPr/>
          <p:nvPr/>
        </p:nvPicPr>
        <p:blipFill>
          <a:blip r:embed="rId1"/>
          <a:stretch/>
        </p:blipFill>
        <p:spPr>
          <a:xfrm>
            <a:off x="1371600" y="152280"/>
            <a:ext cx="6572160" cy="65534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107" name="Rectangle 3"/>
          <p:cNvSpPr/>
          <p:nvPr/>
        </p:nvSpPr>
        <p:spPr>
          <a:xfrm>
            <a:off x="4786200" y="2857680"/>
            <a:ext cx="6796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Calibri"/>
              </a:rPr>
              <a:t>р. Быстра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786200" y="1857240"/>
            <a:ext cx="57168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Calibri"/>
              </a:rPr>
              <a:t>Больша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4929120" y="2428920"/>
            <a:ext cx="571680" cy="250920"/>
          </a:xfrm>
          <a:custGeom>
            <a:avLst/>
            <a:gdLst>
              <a:gd name="textAreaLeft" fmla="*/ 0 w 571680"/>
              <a:gd name="textAreaRight" fmla="*/ 572040 w 5716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928" h="532">
                <a:moveTo>
                  <a:pt x="0" y="532"/>
                </a:moveTo>
                <a:cubicBezTo>
                  <a:pt x="18" y="479"/>
                  <a:pt x="26" y="481"/>
                  <a:pt x="77" y="455"/>
                </a:cubicBezTo>
                <a:cubicBezTo>
                  <a:pt x="96" y="446"/>
                  <a:pt x="105" y="420"/>
                  <a:pt x="126" y="416"/>
                </a:cubicBezTo>
                <a:cubicBezTo>
                  <a:pt x="170" y="408"/>
                  <a:pt x="216" y="409"/>
                  <a:pt x="261" y="406"/>
                </a:cubicBezTo>
                <a:cubicBezTo>
                  <a:pt x="315" y="389"/>
                  <a:pt x="361" y="362"/>
                  <a:pt x="416" y="348"/>
                </a:cubicBezTo>
                <a:cubicBezTo>
                  <a:pt x="459" y="320"/>
                  <a:pt x="504" y="326"/>
                  <a:pt x="551" y="310"/>
                </a:cubicBezTo>
                <a:cubicBezTo>
                  <a:pt x="570" y="304"/>
                  <a:pt x="609" y="290"/>
                  <a:pt x="609" y="290"/>
                </a:cubicBezTo>
                <a:cubicBezTo>
                  <a:pt x="615" y="277"/>
                  <a:pt x="616" y="259"/>
                  <a:pt x="628" y="252"/>
                </a:cubicBezTo>
                <a:cubicBezTo>
                  <a:pt x="651" y="238"/>
                  <a:pt x="706" y="232"/>
                  <a:pt x="706" y="232"/>
                </a:cubicBezTo>
                <a:cubicBezTo>
                  <a:pt x="732" y="152"/>
                  <a:pt x="721" y="161"/>
                  <a:pt x="812" y="145"/>
                </a:cubicBezTo>
                <a:cubicBezTo>
                  <a:pt x="849" y="121"/>
                  <a:pt x="842" y="133"/>
                  <a:pt x="860" y="87"/>
                </a:cubicBezTo>
                <a:cubicBezTo>
                  <a:pt x="875" y="50"/>
                  <a:pt x="877" y="0"/>
                  <a:pt x="928" y="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90360" y="457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90360" y="6867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15"/>
          <p:cNvSpPr/>
          <p:nvPr/>
        </p:nvSpPr>
        <p:spPr>
          <a:xfrm>
            <a:off x="5029200" y="2057400"/>
            <a:ext cx="380880" cy="366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"/>
          <p:cNvPicPr/>
          <p:nvPr/>
        </p:nvPicPr>
        <p:blipFill>
          <a:blip r:embed="rId2"/>
          <a:stretch/>
        </p:blipFill>
        <p:spPr>
          <a:xfrm>
            <a:off x="1828800" y="4495680"/>
            <a:ext cx="1219320" cy="838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6AB2-6B51-446C-9020-A53F50CD5A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8166-95A6-4FA5-A421-137F62A8E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7" descr="5"/>
          <p:cNvPicPr/>
          <p:nvPr/>
        </p:nvPicPr>
        <p:blipFill>
          <a:blip r:embed="rId1"/>
          <a:stretch/>
        </p:blipFill>
        <p:spPr>
          <a:xfrm>
            <a:off x="395280" y="357120"/>
            <a:ext cx="4567320" cy="3429000"/>
          </a:xfrm>
          <a:prstGeom prst="rect">
            <a:avLst/>
          </a:prstGeom>
          <a:ln cap="sq" w="127080">
            <a:solidFill>
              <a:srgbClr val="00b0f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7" name="Picture 13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2057400" cy="12956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236"/>
          <p:cNvPicPr/>
          <p:nvPr/>
        </p:nvPicPr>
        <p:blipFill>
          <a:blip r:embed="rId3"/>
          <a:stretch/>
        </p:blipFill>
        <p:spPr>
          <a:xfrm>
            <a:off x="4267080" y="2857680"/>
            <a:ext cx="4600800" cy="4000320"/>
          </a:xfrm>
          <a:prstGeom prst="rect">
            <a:avLst/>
          </a:prstGeom>
          <a:ln cap="sq" w="127080">
            <a:solidFill>
              <a:srgbClr val="00b0f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9" name="WordArt 10"/>
          <p:cNvSpPr txBox="1"/>
          <p:nvPr/>
        </p:nvSpPr>
        <p:spPr>
          <a:xfrm>
            <a:off x="5334120" y="990720"/>
            <a:ext cx="3381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река  Гнилая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0" name="06-Серебряная река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7" name="chimes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30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0:57:02Z</dcterms:created>
  <dc:creator>all</dc:creator>
  <dc:description/>
  <dc:language>en-US</dc:language>
  <cp:lastModifiedBy>uzer</cp:lastModifiedBy>
  <dcterms:modified xsi:type="dcterms:W3CDTF">2019-01-08T10:22:4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