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867900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A73-8CAC-471D-9171-ECD89923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F29D-F1F7-4039-AB9F-14F4BBA4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05B-ACCD-40D2-B35C-5FA80A81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428-1964-4C08-BAE7-A98407FE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36A-8069-4D30-A387-7E8643DC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DE8-9391-48CF-ACF8-6F76CA56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841-4E48-4EEF-8632-22D5A5C3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A0C-A098-4BD1-B334-EDDB7EF8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9B36-BA98-4515-B6D7-20C5DA8E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0AA-6BAF-49B0-929A-19DCF578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DC97-57F2-4B13-B4A6-3258B149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F88-3922-4E27-B7CC-3CD89AC4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1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1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1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1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1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1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1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1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DE76-CA0D-475F-BA61-36AA2C074965}" type="slidenum">
              <a:rPr b="0" lang="ru-RU" sz="1400" spc="-1" strike="noStrike">
                <a:solidFill>
                  <a:srgbClr val="00331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ПРИЧИНЫ </a:t>
            </a:r>
            <a:br>
              <a:rPr sz="4400"/>
            </a:b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ВРЕДНЫХ ПРИВЫЧЕК</a:t>
            </a: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Работа в группах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Arial"/>
              </a:rPr>
              <a:t>Что я должен рассказать своему ребёнку о вредных привычках?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ОСЛЕДСТВИЯ УПОТРЕБЛЕНИЯ НАРКОТИКОВ</a:t>
            </a:r>
            <a:br>
              <a:rPr sz="2000"/>
            </a:br>
            <a:r>
              <a:rPr b="1" lang="en-US" sz="2000" spc="-1" strike="noStrike" u="sng">
                <a:solidFill>
                  <a:srgbClr val="003319"/>
                </a:solidFill>
                <a:uFillTx/>
                <a:latin typeface="Arial"/>
              </a:rPr>
              <a:t>Медицинские: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Ø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психические расстройства (галлюцинации, бред преследования);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Ø  токсическое  повреждение  органов  и  систем организма;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Ø  инфекционные заболевания (ВИЧ, СПИД, гепатиты В и С);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Ø  передозировка;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Ø  туберкулез;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Ø  преждевременная смертность.</a:t>
            </a:r>
            <a:br>
              <a:rPr sz="2000"/>
            </a:b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Ø  высокий суицидальный риск;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3319"/>
                </a:solidFill>
                <a:latin typeface="Arial"/>
              </a:rPr>
              <a:t>Социальные: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Ø  изменение личности (опустошение психики, снижение интересов, обеднение эмоций);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Ø  искажение семейных связей;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Ø  угроза здоровью будущих поколений;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Ø  совершение преступлений;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Ø  экономический ущерб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Arial"/>
              </a:rPr>
              <a:t>Могут ли семейные идеалы и жизненные ценности, привитые в раннем детстве, помочь ребёнку сказать «Нет!» вредным привычкам?</a:t>
            </a:r>
            <a:endParaRPr b="0" lang="en-US" sz="4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Arial"/>
              </a:rPr>
              <a:t>Как моя точка зрения на употребление наркотиков влияет на моего ребёнка?</a:t>
            </a:r>
            <a:endParaRPr b="0" lang="en-US" sz="4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Arial"/>
              </a:rPr>
              <a:t>Как научить детей сопротивляться предложениям со стороны сверстников попробовать сигареты, алкоголь или наркотики?</a:t>
            </a:r>
            <a:endParaRPr b="0" lang="en-US" sz="4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Arial"/>
              </a:rPr>
              <a:t>Как я могу предостеречь своего ребёнка от приёма сигарет, алкоголя и наркотиков из-за скуки и праздного любопытства?</a:t>
            </a:r>
            <a:endParaRPr b="0" lang="en-US" sz="4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Arial"/>
              </a:rPr>
              <a:t>Почему важна семейная политика относительно использования сигарет,  алкоголя и наркотиков?</a:t>
            </a:r>
            <a:endParaRPr b="0" lang="en-US" sz="4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33"/>
                </a:solidFill>
                <a:latin typeface="Arial"/>
              </a:rPr>
              <a:t>Как влияет круг общения вашего ребёнка на неупотребление сигарет, алкоголя и наркотиков?</a:t>
            </a:r>
            <a:endParaRPr b="0" lang="en-US" sz="4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Arial"/>
              </a:rPr>
              <a:t>Что вы посоветуете родителям, которые подозревают своего ребёнка в употреблении сигарет?</a:t>
            </a:r>
            <a:endParaRPr b="0" lang="en-US" sz="4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22b00"/>
                </a:solidFill>
                <a:latin typeface="Arial"/>
              </a:rPr>
              <a:t>План работы</a:t>
            </a: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1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Родительский лекторий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1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Результаты успеваемости за 2 семестр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1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Система оценивания регионального экзамена.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1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Разное.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ПИСЬМО-ПОСЛАНИЕ ДЕТЯМ-</a:t>
            </a:r>
            <a:br>
              <a:rPr sz="4400"/>
            </a:b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призыв вести ЗОЖ</a:t>
            </a: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Результаты успеваемости за 2 семестр</a:t>
            </a:r>
            <a:br>
              <a:rPr sz="4800"/>
            </a:br>
            <a:endParaRPr b="0" lang="en-US" sz="4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914400" y="182844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Отличников – 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Хорошистов - 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С одной «3» - 1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Успеваемость: 100%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Качество: 91%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 марта</a:t>
            </a:r>
            <a:br>
              <a:rPr sz="4800"/>
            </a:br>
            <a:r>
              <a:rPr b="1" lang="ru-RU" sz="4800" spc="-1" strike="noStrike" u="sng">
                <a:solidFill>
                  <a:srgbClr val="006633"/>
                </a:solidFill>
                <a:uFillTx/>
                <a:latin typeface="Times New Roman"/>
                <a:ea typeface="Times New Roman"/>
              </a:rPr>
              <a:t>17 марта</a:t>
            </a:r>
            <a:br>
              <a:rPr sz="4800"/>
            </a:br>
            <a:r>
              <a:rPr b="1" lang="ru-RU" sz="4800" spc="-1" strike="noStrike" u="sng">
                <a:solidFill>
                  <a:srgbClr val="006633"/>
                </a:solidFill>
                <a:uFillTx/>
                <a:latin typeface="Times New Roman"/>
                <a:ea typeface="Times New Roman"/>
              </a:rPr>
              <a:t>19 мая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 мая</a:t>
            </a:r>
            <a:endParaRPr b="0" lang="en-US" sz="4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380880" y="22860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Система оценивания экзаменов.</a:t>
            </a:r>
            <a:endParaRPr b="0" lang="en-US" sz="44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Пропуски </a:t>
            </a:r>
            <a:br>
              <a:rPr sz="4800"/>
            </a:br>
            <a:r>
              <a:rPr b="1" lang="ru-RU" sz="40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(образец заявления и объяснительной)</a:t>
            </a:r>
            <a:endParaRPr b="0" lang="en-US" sz="4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Внешний вид!! – девочки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ПРИЧЁСКИ-девочки и мальчики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Дневники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Тетради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Учебники 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Принадлежности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Спортивная форма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В марте проверка гимназии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Внеклассные мероприятия</a:t>
            </a: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ЧАЕПИТИЕ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ТЕАТР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28600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19"/>
                </a:solidFill>
                <a:latin typeface="Arial"/>
              </a:rPr>
              <a:t>Родительское собрание </a:t>
            </a:r>
            <a:endParaRPr b="0" lang="en-US" sz="2400" spc="-1" strike="noStrike">
              <a:solidFill>
                <a:srgbClr val="00331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19"/>
                </a:solidFill>
                <a:latin typeface="Arial"/>
              </a:rPr>
              <a:t>04.03.2016</a:t>
            </a:r>
            <a:endParaRPr b="0" lang="en-US" sz="24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8" name="WordArt 8"/>
          <p:cNvSpPr txBox="1"/>
          <p:nvPr/>
        </p:nvSpPr>
        <p:spPr>
          <a:xfrm>
            <a:off x="762120" y="533520"/>
            <a:ext cx="80769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b050"/>
                  </a:solidFill>
                  <a:miter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доровье и безопасность </a:t>
            </a:r>
            <a:endParaRPr b="1" lang="en-US" sz="1800" spc="1" strike="noStrike">
              <a:ln w="9360">
                <a:solidFill>
                  <a:srgbClr val="00b050"/>
                </a:solidFill>
                <a:miter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b050"/>
                  </a:solidFill>
                  <a:miter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ших детей</a:t>
            </a:r>
            <a:endParaRPr b="1" lang="en-US" sz="1800" spc="1" strike="noStrike">
              <a:ln w="9360">
                <a:solidFill>
                  <a:srgbClr val="00b050"/>
                </a:solidFill>
                <a:miter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1219320" y="2438280"/>
            <a:ext cx="7642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b812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3b812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669960" y="2571840"/>
            <a:ext cx="30844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Бегущая ассоциация</a:t>
            </a:r>
            <a:br>
              <a:rPr sz="4400"/>
            </a:b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«ЗДОРОВЬЕ»</a:t>
            </a: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5 «шагов»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к здоровью ребенка:</a:t>
            </a: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8284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33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33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Правильное питание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33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Здоровый сон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33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Двигательная активность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33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Любовь и взаимопонимание в семье. 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Arial"/>
              </a:rPr>
              <a:t>Что может повредить здоровью?</a:t>
            </a: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Arial"/>
              </a:rPr>
              <a:t>Вредные привычки</a:t>
            </a: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Arial"/>
              </a:rPr>
              <a:t>К чему могут привести вредные привычки?</a:t>
            </a: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20:20:03Z</dcterms:created>
  <dc:creator>Win</dc:creator>
  <dc:description/>
  <dc:language>en-US</dc:language>
  <cp:lastModifiedBy>Нина</cp:lastModifiedBy>
  <dcterms:modified xsi:type="dcterms:W3CDTF">2016-03-03T15:26:58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