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555-594B-4AFB-AAB3-994E662F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72D-B1AA-40D6-9602-CDF0E56B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F94-B2BA-4237-90ED-87E97E59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ED9-4486-4A62-8DF0-A3D017B4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A25-85CB-4474-8A6B-8DD19323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2C6-C666-4CDE-9B67-440DB6DC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375-18C3-4182-8CEE-4C7D11DF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9F7-C195-4531-AEBD-9DEBEA98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866-7CB6-48BD-8F88-54C86797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ED0-98ED-4D05-B63D-562FD4A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800-F0C5-4384-804F-2EFF55C8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29F-7406-4959-9AAF-9045195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1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225D-F8B2-4B55-B9C0-16AEEC406E9F}" type="slidenum">
              <a:rPr b="0" lang="ru-RU" sz="14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ПРИЧИНЫ </a:t>
            </a:r>
            <a:br>
              <a:rPr sz="44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ВРЕДНЫХ ПРИВЫЧЕК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Работа в группах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Что я должен рассказать своему ребёнку о вредных привычках?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ОСЛЕДСТВИЯ УПОТРЕБЛЕНИЯ НАРКОТИКОВ</a:t>
            </a:r>
            <a:br>
              <a:rPr sz="2000"/>
            </a:br>
            <a:r>
              <a:rPr b="1" lang="en-US" sz="2000" spc="-1" strike="noStrike" u="sng">
                <a:solidFill>
                  <a:srgbClr val="003319"/>
                </a:solidFill>
                <a:uFillTx/>
                <a:latin typeface="Arial"/>
              </a:rPr>
              <a:t>Медицинские: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психические расстройства (галлюцинации, бред преследования)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токсическое  повреждение  органов  и  систем организма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инфекционные заболевания (ВИЧ, СПИД, гепатиты В и С)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передозировка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туберкулез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преждевременная смертность.</a:t>
            </a:r>
            <a:br>
              <a:rPr sz="20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Ø  высокий суицидальный риск;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3319"/>
                </a:solidFill>
                <a:latin typeface="Arial"/>
              </a:rPr>
              <a:t>Социальные: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изменение личности (опустошение психики, снижение интересов, обеднение эмоций)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искажение семейных связей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угроза здоровью будущих поколений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совершение преступлений;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Ø  экономический ущерб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Могут ли семейные идеалы и жизненные ценности, привитые в раннем детстве, помочь ребёнку сказать «Нет!» вредным привычкам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Как моя точка зрения на употребление наркотиков влияет на моего ребёнка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Как научить детей сопротивляться предложениям со стороны сверстников попробовать сигареты, алкоголь или наркотики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Как я могу предостеречь своего ребёнка от приёма сигарет, алкоголя и наркотиков из-за скуки и праздного любопытства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Почему важна семейная политика относительно использования сигарет,  алкоголя и наркотиков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Arial"/>
              </a:rPr>
              <a:t>Как влияет круг общения вашего ребёнка на неупотребление сигарет, алкоголя и наркотиков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Arial"/>
              </a:rPr>
              <a:t>Что вы посоветуете родителям, которые подозревают своего ребёнка в употреблении сигарет?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2b00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1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Родительский лекторий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1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Результаты успеваемости за 2 семестр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1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Система оценивания регионального экзамена.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1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Разное.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ПИСЬМО-ПОСЛАНИЕ ДЕТЯМ-</a:t>
            </a:r>
            <a:br>
              <a:rPr sz="44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призыв вести ЗОЖ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Результаты успеваемости за 2 семестр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14400" y="18284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Отличников –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Хорошистов -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С одной «3» - 1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Успеваемость: 100%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Качество: 91%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марта</a:t>
            </a:r>
            <a:br>
              <a:rPr sz="4800"/>
            </a:br>
            <a:r>
              <a:rPr b="1" lang="ru-RU" sz="4800" spc="-1" strike="noStrike" u="sng">
                <a:solidFill>
                  <a:srgbClr val="006633"/>
                </a:solidFill>
                <a:uFillTx/>
                <a:latin typeface="Times New Roman"/>
                <a:ea typeface="Times New Roman"/>
              </a:rPr>
              <a:t>17 марта</a:t>
            </a:r>
            <a:br>
              <a:rPr sz="4800"/>
            </a:br>
            <a:r>
              <a:rPr b="1" lang="ru-RU" sz="4800" spc="-1" strike="noStrike" u="sng">
                <a:solidFill>
                  <a:srgbClr val="006633"/>
                </a:solidFill>
                <a:uFillTx/>
                <a:latin typeface="Times New Roman"/>
                <a:ea typeface="Times New Roman"/>
              </a:rPr>
              <a:t>19 мая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 мая</a:t>
            </a:r>
            <a:endParaRPr b="0" lang="en-US" sz="4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Система оценивания экзаменов.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ропуски </a:t>
            </a:r>
            <a:br>
              <a:rPr sz="4800"/>
            </a:br>
            <a:r>
              <a:rPr b="1" lang="ru-RU" sz="40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(образец заявления и объяснительной)</a:t>
            </a:r>
            <a:endParaRPr b="0" lang="en-US" sz="4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Внешний вид!! – девочк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ПРИЧЁСКИ-девочки и мальчик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Дневник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Тетрад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Учебники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Принадлежност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Спортивная форма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В марте проверка гимназии</a:t>
            </a:r>
            <a:endParaRPr b="0" lang="en-US" sz="36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Внеклассные мероприятия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ЧАЕПИТИЕ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ТЕАТР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Arial"/>
              </a:rPr>
              <a:t>Родительское собрание 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Arial"/>
              </a:rPr>
              <a:t>04.03.2016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762120" y="533520"/>
            <a:ext cx="8076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b050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оровье и безопасность </a:t>
            </a:r>
            <a:endParaRPr b="1" lang="en-US" sz="1800" spc="1" strike="noStrike">
              <a:ln w="9360">
                <a:solidFill>
                  <a:srgbClr val="00b050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b050"/>
                  </a:solidFill>
                  <a:miter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их детей</a:t>
            </a:r>
            <a:endParaRPr b="1" lang="en-US" sz="1800" spc="1" strike="noStrike">
              <a:ln w="9360">
                <a:solidFill>
                  <a:srgbClr val="00b050"/>
                </a:solidFill>
                <a:miter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1219320" y="2438280"/>
            <a:ext cx="7642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b812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3b812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669960" y="2571840"/>
            <a:ext cx="30844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Бегущая ассоциация</a:t>
            </a:r>
            <a:br>
              <a:rPr sz="44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«ЗДОРОВЬЕ»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5 «шагов»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к здоровью ребенка: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8284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Здоровый сон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Двигательная активность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33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Любовь и взаимопонимание в семье.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1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Arial"/>
              </a:rPr>
              <a:t>Что может повредить здоровью?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Arial"/>
              </a:rPr>
              <a:t>Вредные привычки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Arial"/>
              </a:rPr>
              <a:t>К чему могут привести вредные привычки?</a:t>
            </a:r>
            <a:endParaRPr b="0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0:20:03Z</dcterms:created>
  <dc:creator>Win</dc:creator>
  <dc:description/>
  <dc:language>en-US</dc:language>
  <cp:lastModifiedBy>Нина</cp:lastModifiedBy>
  <dcterms:modified xsi:type="dcterms:W3CDTF">2016-03-03T15:26:58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