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4.gif" ContentType="image/gif"/>
  <Override PartName="/ppt/media/image8.png" ContentType="image/png"/>
  <Override PartName="/ppt/media/image5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1ECC-2DD8-480B-B00F-8536E54FD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9CD1-798C-41B1-AA87-01980494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5A75-FB9B-44F9-B391-AE5078179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D733-88C6-41A5-A249-F1D53F729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9FC6-57AD-4E89-BE5D-BC978988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38E1-E8F6-43CC-A7A9-AAA1E5CE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26D6-9594-494D-82FC-38DCAF8B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E193-3AE8-4298-97F7-0ADF3822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11A6-3C4C-4DAA-8642-5624B5DF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1D07-445E-4A8B-AAAE-FBF9BA53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3989-7860-41F8-BBF5-C85CFB13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56CF-D612-4157-A203-C61E81D0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8587-4D13-4AEB-8B83-E9FD4F3A35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png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WB00756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971640" y="1197000"/>
            <a:ext cx="7200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Им  уже  13! 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27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удем вместе  с  ними."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27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WB00756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AG00402_"/>
          <p:cNvPicPr/>
          <p:nvPr/>
        </p:nvPicPr>
        <p:blipFill>
          <a:blip r:embed="rId2"/>
          <a:stretch/>
        </p:blipFill>
        <p:spPr>
          <a:xfrm>
            <a:off x="0" y="1341360"/>
            <a:ext cx="2590920" cy="51469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2554560" y="692280"/>
            <a:ext cx="59720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 Подросток – это цветок, крас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торого зависит от ухода за расте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ботиться о красоте цветка нуж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олго до того, как он начнет цве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собенности подростка зависят от то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к он воспитывался в годы детст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то заложено в него в период от рожд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 до начала подросткового возраст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. Сухомлин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WB00756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WordArt 5"/>
          <p:cNvSpPr txBox="1"/>
          <p:nvPr/>
        </p:nvSpPr>
        <p:spPr>
          <a:xfrm>
            <a:off x="1403280" y="692280"/>
            <a:ext cx="655344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6257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Черты  подросткового возрас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810360" y="208116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ЕНИЯ В ОРГАНИЗ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334880" y="2492280"/>
            <a:ext cx="36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КАЯ СМЕНА НАСТРО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2054520" y="2924280"/>
            <a:ext cx="499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СТРАЯ УТОМЛЯЕМОСТЬ И УСТАЛ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062520" y="3284640"/>
            <a:ext cx="23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ЧТА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637440" y="3645000"/>
            <a:ext cx="461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РАЖИТЕЛЬНОСТЬ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ДИСЦИПЛИНИРОВА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5007240" y="436572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УВСТВИ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5187960" y="4797360"/>
            <a:ext cx="39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ЕМЛЕНИЕ К СОВЕРШЕН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ОБРАЗ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3" descr="J0076227"/>
          <p:cNvPicPr/>
          <p:nvPr/>
        </p:nvPicPr>
        <p:blipFill>
          <a:blip r:embed="rId2"/>
          <a:stretch/>
        </p:blipFill>
        <p:spPr>
          <a:xfrm>
            <a:off x="7236000" y="1700280"/>
            <a:ext cx="1657080" cy="1971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J0076195"/>
          <p:cNvPicPr/>
          <p:nvPr/>
        </p:nvPicPr>
        <p:blipFill>
          <a:blip r:embed="rId3"/>
          <a:stretch/>
        </p:blipFill>
        <p:spPr>
          <a:xfrm>
            <a:off x="5003640" y="1484280"/>
            <a:ext cx="1081080" cy="1258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J0076194"/>
          <p:cNvPicPr/>
          <p:nvPr/>
        </p:nvPicPr>
        <p:blipFill>
          <a:blip r:embed="rId4"/>
          <a:stretch/>
        </p:blipFill>
        <p:spPr>
          <a:xfrm>
            <a:off x="395280" y="2997360"/>
            <a:ext cx="1152360" cy="1655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J0076128"/>
          <p:cNvPicPr/>
          <p:nvPr/>
        </p:nvPicPr>
        <p:blipFill>
          <a:blip r:embed="rId5"/>
          <a:stretch/>
        </p:blipFill>
        <p:spPr>
          <a:xfrm>
            <a:off x="395280" y="5013360"/>
            <a:ext cx="1368360" cy="1554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J0095740"/>
          <p:cNvPicPr/>
          <p:nvPr/>
        </p:nvPicPr>
        <p:blipFill>
          <a:blip r:embed="rId6"/>
          <a:stretch/>
        </p:blipFill>
        <p:spPr>
          <a:xfrm>
            <a:off x="2916360" y="4365720"/>
            <a:ext cx="1584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WB00756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324000" y="260280"/>
            <a:ext cx="83516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тупает тот, кто умн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стер ссоры быстро погаснет, если в него не подбрасывать дров, чтобы скандал прекратилс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то-то должен первым замолчать. Взрослому это сделать легче, чем подростку с его неустойчивой психикой. Запомните: лавры победителя в отношениях с собственными детьми не украшаю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22280" y="2351160"/>
            <a:ext cx="82994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надо обиж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кращая ссору, не стремитесь сделать ребенку больно с помощью язвительных замечаний или хлопанья дверьми. Умению достойно  выходить из трудных ситуаций ребенок учится у н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376200" y="3994200"/>
            <a:ext cx="798192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дьте тверды и последователь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ти — тонкие психологи. Они прекрасно чувствуют слабость старших. Поэтому, несмотря на вашу готовность к компромиссу, сын или дочь должны знать, что родительский авторитет незыблем. Если же взрослые демонстрируют подростку собственную несдержанност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еричность, непоследовательность, трудно ждать от них хорошего по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5" descr="AG00041_"/>
          <p:cNvPicPr/>
          <p:nvPr/>
        </p:nvPicPr>
        <p:blipFill>
          <a:blip r:embed="rId2"/>
          <a:stretch/>
        </p:blipFill>
        <p:spPr>
          <a:xfrm>
            <a:off x="152280" y="312840"/>
            <a:ext cx="343080" cy="333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AG00041_"/>
          <p:cNvPicPr/>
          <p:nvPr/>
        </p:nvPicPr>
        <p:blipFill>
          <a:blip r:embed="rId3"/>
          <a:stretch/>
        </p:blipFill>
        <p:spPr>
          <a:xfrm>
            <a:off x="152280" y="2405160"/>
            <a:ext cx="343080" cy="333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" descr="AG00041_"/>
          <p:cNvPicPr/>
          <p:nvPr/>
        </p:nvPicPr>
        <p:blipFill>
          <a:blip r:embed="rId4"/>
          <a:stretch/>
        </p:blipFill>
        <p:spPr>
          <a:xfrm>
            <a:off x="79200" y="4076640"/>
            <a:ext cx="3430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WB00756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WordArt 5"/>
          <p:cNvSpPr txBox="1"/>
          <p:nvPr/>
        </p:nvSpPr>
        <p:spPr>
          <a:xfrm>
            <a:off x="1306440" y="476280"/>
            <a:ext cx="655344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6257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58760" y="1004760"/>
            <a:ext cx="898524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сли родители требуют от ребенка, чтобы он много и с удовольствием читал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они читают сами много и с удовольствием, несмотря на недостаток вре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24840" y="2133720"/>
            <a:ext cx="79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сли родители требуют, чтобы ребенок не лга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они не лгут сами ни себе, ни другим, ни собственному ребе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416160" y="3014640"/>
            <a:ext cx="77292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сли родители требуют от ребенка проявления трудолюб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они сами его проявляют и создают условия для формирования 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ребенка умения труди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339840" y="4365720"/>
            <a:ext cx="880416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сли родители хотят, чтобы их ребенок бережно и уважительно относился к дедушкам и бабушка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они начинают с себя и сами уважительно и бережно относятся к своим родител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"/>
          <p:cNvSpPr/>
          <p:nvPr/>
        </p:nvSpPr>
        <p:spPr>
          <a:xfrm>
            <a:off x="1306440" y="291960"/>
            <a:ext cx="628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Кодекс истинного родител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WB00756L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"/>
          <p:cNvSpPr/>
          <p:nvPr/>
        </p:nvSpPr>
        <p:spPr>
          <a:xfrm>
            <a:off x="539640" y="40464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сли родители хотят, чтобы их ребенок не страдал от одиночества, они дают ему возможность иметь друзей, приводить их в свой д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то возможно только в том случае, ес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сами родители имеют настоящих друзей, и ребенок встречается с ними в своем до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539640" y="1674720"/>
            <a:ext cx="7777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сли родители хотят, чтобы ребенок не относился к школе и учению с предубеждени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они сами вспоминают о школьных днях с удовольствием и с самыми теплыми чувст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1403280" y="2924280"/>
            <a:ext cx="604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Любите вашего ребенка таким, какой он есть, и забудьте о качествах, которых у него нет... Результат воспитания зависит не от степени строгости или мягкости, а от ваших чувств к ребенку и от тех жизненных принципов, которые вы ему прививаете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2T14:14:35Z</dcterms:created>
  <dc:creator>USER</dc:creator>
  <dc:description/>
  <dc:language>en-US</dc:language>
  <cp:lastModifiedBy>Пользователь</cp:lastModifiedBy>
  <dcterms:modified xsi:type="dcterms:W3CDTF">2018-10-12T10:11:01Z</dcterms:modified>
  <cp:revision>13</cp:revision>
  <dc:subject/>
  <dc:title>Слайд 1</dc:title>
</cp:coreProperties>
</file>