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gif" ContentType="image/gif"/>
  <Override PartName="/ppt/media/image6.png" ContentType="image/png"/>
  <Override PartName="/ppt/media/image3.gif" ContentType="image/gif"/>
  <Override PartName="/ppt/media/image4.gif" ContentType="image/gif"/>
  <Override PartName="/ppt/media/image8.png" ContentType="image/png"/>
  <Override PartName="/ppt/media/image5.gif" ContentType="image/gif"/>
  <Override PartName="/ppt/media/image7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769B7-D4C8-401A-BDEB-4810B4620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FBCFF-63E6-49BC-BC4B-BA2989D27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40746-3175-4A02-81D5-EC804A733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B9ACA-F6AD-4F9C-86E0-1AFCA3331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5E602-415A-4529-9A07-3798CE0C9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62544-982D-4A51-95D3-41316B856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42F2B-DB1E-4D79-BB59-E1B8B04C8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8FA4D-E0D1-4311-9554-56328BCDA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8C739-7D4F-40B3-AE84-113DF69A3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9FDDD-0EC9-446C-99D1-DFEF868BF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11AF3-1466-4741-AF60-68C41CF33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97759-C168-42DE-87CD-6DB45CEEE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004FB-D1BE-466C-9DB0-12151C70C26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image" Target="../media/image5.gif"/><Relationship Id="rId5" Type="http://schemas.openxmlformats.org/officeDocument/2006/relationships/image" Target="../media/image6.png"/><Relationship Id="rId6" Type="http://schemas.openxmlformats.org/officeDocument/2006/relationships/image" Target="../media/image7.gif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WB00756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WordArt 5"/>
          <p:cNvSpPr txBox="1"/>
          <p:nvPr/>
        </p:nvSpPr>
        <p:spPr>
          <a:xfrm>
            <a:off x="971640" y="1197000"/>
            <a:ext cx="7200720" cy="30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8c3d91"/>
                    </a:gs>
                  </a:gsLst>
                  <a:lin ang="27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"Им  уже  13! </a:t>
            </a:r>
            <a:endParaRPr b="1" i="1" lang="en-US" sz="4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8c3d91"/>
                  </a:gs>
                </a:gsLst>
                <a:lin ang="27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8c3d91"/>
                    </a:gs>
                  </a:gsLst>
                  <a:lin ang="27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1" i="1" lang="en-US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8c3d91"/>
                    </a:gs>
                  </a:gsLst>
                  <a:lin ang="27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Будем вместе  с  ними."</a:t>
            </a:r>
            <a:endParaRPr b="1" i="1" lang="en-US" sz="4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8c3d91"/>
                  </a:gs>
                </a:gsLst>
                <a:lin ang="27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5" descr="WB00756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AG00402_"/>
          <p:cNvPicPr/>
          <p:nvPr/>
        </p:nvPicPr>
        <p:blipFill>
          <a:blip r:embed="rId2"/>
          <a:stretch/>
        </p:blipFill>
        <p:spPr>
          <a:xfrm>
            <a:off x="0" y="1341360"/>
            <a:ext cx="2590920" cy="5146920"/>
          </a:xfrm>
          <a:prstGeom prst="rect">
            <a:avLst/>
          </a:prstGeom>
          <a:ln w="0">
            <a:noFill/>
          </a:ln>
        </p:spPr>
      </p:pic>
      <p:sp>
        <p:nvSpPr>
          <p:cNvPr id="45" name="Text Box 7"/>
          <p:cNvSpPr/>
          <p:nvPr/>
        </p:nvSpPr>
        <p:spPr>
          <a:xfrm>
            <a:off x="2554560" y="692280"/>
            <a:ext cx="597204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« Подросток – это цветок, красо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которого зависит от ухода за растения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Заботиться о красоте цветка нужн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задолго до того, как он начнет цвест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Особенности подростка зависят от того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как он воспитывался в годы детств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что заложено в него в период от рожде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и до начала подросткового возраста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. Сухомлинск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WB00756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WordArt 5"/>
          <p:cNvSpPr txBox="1"/>
          <p:nvPr/>
        </p:nvSpPr>
        <p:spPr>
          <a:xfrm>
            <a:off x="1403280" y="692280"/>
            <a:ext cx="6553440" cy="1008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62574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Arial"/>
              </a:rPr>
              <a:t>Черты  подросткового возраст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Arial"/>
              <a:ea typeface="Arial"/>
            </a:endParaRPr>
          </a:p>
        </p:txBody>
      </p:sp>
      <p:sp>
        <p:nvSpPr>
          <p:cNvPr id="48" name="Text Box 6"/>
          <p:cNvSpPr/>
          <p:nvPr/>
        </p:nvSpPr>
        <p:spPr>
          <a:xfrm>
            <a:off x="810360" y="208116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МЕНЕНИЯ В ОРГАНИЗМ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7"/>
          <p:cNvSpPr/>
          <p:nvPr/>
        </p:nvSpPr>
        <p:spPr>
          <a:xfrm>
            <a:off x="1334880" y="2492280"/>
            <a:ext cx="362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ЗКАЯ СМЕНА НАСТРО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8"/>
          <p:cNvSpPr/>
          <p:nvPr/>
        </p:nvSpPr>
        <p:spPr>
          <a:xfrm>
            <a:off x="2054520" y="2924280"/>
            <a:ext cx="499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ЫСТРАЯ УТОМЛЯЕМОСТЬ И УСТАЛ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9"/>
          <p:cNvSpPr/>
          <p:nvPr/>
        </p:nvSpPr>
        <p:spPr>
          <a:xfrm>
            <a:off x="3062520" y="3284640"/>
            <a:ext cx="235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ЧТАТЕЛЬ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0"/>
          <p:cNvSpPr/>
          <p:nvPr/>
        </p:nvSpPr>
        <p:spPr>
          <a:xfrm>
            <a:off x="3637440" y="3645000"/>
            <a:ext cx="461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ДРАЖИТЕЛЬНОСТЬ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ДИСЦИПЛИНИРОВАН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1"/>
          <p:cNvSpPr/>
          <p:nvPr/>
        </p:nvSpPr>
        <p:spPr>
          <a:xfrm>
            <a:off x="5007240" y="436572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УВСТВИТЕЛЬ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2"/>
          <p:cNvSpPr/>
          <p:nvPr/>
        </p:nvSpPr>
        <p:spPr>
          <a:xfrm>
            <a:off x="5187960" y="4797360"/>
            <a:ext cx="395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РЕМЛЕНИЕ К СОВЕРШЕНСТВ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 ОБРАЗЦ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3" descr="J0076227"/>
          <p:cNvPicPr/>
          <p:nvPr/>
        </p:nvPicPr>
        <p:blipFill>
          <a:blip r:embed="rId2"/>
          <a:stretch/>
        </p:blipFill>
        <p:spPr>
          <a:xfrm>
            <a:off x="7236000" y="1700280"/>
            <a:ext cx="1657080" cy="19717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4" descr="J0076195"/>
          <p:cNvPicPr/>
          <p:nvPr/>
        </p:nvPicPr>
        <p:blipFill>
          <a:blip r:embed="rId3"/>
          <a:stretch/>
        </p:blipFill>
        <p:spPr>
          <a:xfrm>
            <a:off x="5003640" y="1484280"/>
            <a:ext cx="1081080" cy="12589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5" descr="J0076194"/>
          <p:cNvPicPr/>
          <p:nvPr/>
        </p:nvPicPr>
        <p:blipFill>
          <a:blip r:embed="rId4"/>
          <a:stretch/>
        </p:blipFill>
        <p:spPr>
          <a:xfrm>
            <a:off x="395280" y="2997360"/>
            <a:ext cx="1152360" cy="16556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6" descr="J0076128"/>
          <p:cNvPicPr/>
          <p:nvPr/>
        </p:nvPicPr>
        <p:blipFill>
          <a:blip r:embed="rId5"/>
          <a:stretch/>
        </p:blipFill>
        <p:spPr>
          <a:xfrm>
            <a:off x="395280" y="5013360"/>
            <a:ext cx="1368360" cy="1554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J0095740"/>
          <p:cNvPicPr/>
          <p:nvPr/>
        </p:nvPicPr>
        <p:blipFill>
          <a:blip r:embed="rId6"/>
          <a:stretch/>
        </p:blipFill>
        <p:spPr>
          <a:xfrm>
            <a:off x="2916360" y="4365720"/>
            <a:ext cx="1584360" cy="18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0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1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0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9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9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9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9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9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9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9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5" descr="WB00756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Text Box 8"/>
          <p:cNvSpPr/>
          <p:nvPr/>
        </p:nvSpPr>
        <p:spPr>
          <a:xfrm>
            <a:off x="324000" y="260280"/>
            <a:ext cx="8351640" cy="16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ступает тот, кто умне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остер ссоры быстро погаснет, если в него не подбрасывать дров, чтобы скандал прекратился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то-то должен первым замолчать. Взрослому это сделать легче, чем подростку с его неустойчивой психикой. Запомните: лавры победителя в отношениях с собственными детьми не украшаю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0"/>
          <p:cNvSpPr/>
          <p:nvPr/>
        </p:nvSpPr>
        <p:spPr>
          <a:xfrm>
            <a:off x="422280" y="2351160"/>
            <a:ext cx="829944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 надо обиж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екращая ссору, не стремитесь сделать ребенку больно с помощью язвительных замечаний или хлопанья дверьми. Умению достойно  выходить из трудных ситуаций ребенок учится у нас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1"/>
          <p:cNvSpPr/>
          <p:nvPr/>
        </p:nvSpPr>
        <p:spPr>
          <a:xfrm>
            <a:off x="376200" y="3994200"/>
            <a:ext cx="7981920" cy="155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удьте тверды и последователь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ети — тонкие психологи. Они прекрасно чувствуют слабость старших. Поэтому, несмотря на вашу готовность к компромиссу, сын или дочь должны знать, что родительский авторитет незыблем. Если же взрослые демонстрируют подростку собственную несдержанность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стеричность, непоследовательность, трудно ждать от них хорошего повед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15" descr="AG00041_"/>
          <p:cNvPicPr/>
          <p:nvPr/>
        </p:nvPicPr>
        <p:blipFill>
          <a:blip r:embed="rId2"/>
          <a:stretch/>
        </p:blipFill>
        <p:spPr>
          <a:xfrm>
            <a:off x="152280" y="312840"/>
            <a:ext cx="343080" cy="3333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6" descr="AG00041_"/>
          <p:cNvPicPr/>
          <p:nvPr/>
        </p:nvPicPr>
        <p:blipFill>
          <a:blip r:embed="rId3"/>
          <a:stretch/>
        </p:blipFill>
        <p:spPr>
          <a:xfrm>
            <a:off x="152280" y="2405160"/>
            <a:ext cx="343080" cy="3333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7" descr="AG00041_"/>
          <p:cNvPicPr/>
          <p:nvPr/>
        </p:nvPicPr>
        <p:blipFill>
          <a:blip r:embed="rId4"/>
          <a:stretch/>
        </p:blipFill>
        <p:spPr>
          <a:xfrm>
            <a:off x="79200" y="4076640"/>
            <a:ext cx="343080" cy="3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0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4" descr="WB00756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WordArt 5"/>
          <p:cNvSpPr txBox="1"/>
          <p:nvPr/>
        </p:nvSpPr>
        <p:spPr>
          <a:xfrm>
            <a:off x="1306440" y="476280"/>
            <a:ext cx="6553440" cy="1008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62574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Arial"/>
              <a:ea typeface="Arial"/>
            </a:endParaRPr>
          </a:p>
        </p:txBody>
      </p:sp>
      <p:sp>
        <p:nvSpPr>
          <p:cNvPr id="69" name="Text Box 6"/>
          <p:cNvSpPr/>
          <p:nvPr/>
        </p:nvSpPr>
        <p:spPr>
          <a:xfrm>
            <a:off x="158760" y="1004760"/>
            <a:ext cx="8985240" cy="9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Если родители требуют от ребенка, чтобы он много и с удовольствием читал,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Arial"/>
              </a:rPr>
              <a:t>они читают сами много и с удовольствием, несмотря на недостаток време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8"/>
          <p:cNvSpPr/>
          <p:nvPr/>
        </p:nvSpPr>
        <p:spPr>
          <a:xfrm>
            <a:off x="24840" y="2133720"/>
            <a:ext cx="79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Если родители требуют, чтобы ребенок не лга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Arial"/>
              </a:rPr>
              <a:t>они не лгут сами ни себе, ни другим, ни собственному ребенк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9"/>
          <p:cNvSpPr/>
          <p:nvPr/>
        </p:nvSpPr>
        <p:spPr>
          <a:xfrm>
            <a:off x="416160" y="3014640"/>
            <a:ext cx="7729200" cy="16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Если родители требуют от ребенка проявления трудолюб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Arial"/>
              </a:rPr>
              <a:t>они сами его проявляют и создают условия для формирования 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70c0"/>
                </a:solidFill>
                <a:latin typeface="Arial"/>
              </a:rPr>
              <a:t>ребенка умения трудить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0"/>
          <p:cNvSpPr/>
          <p:nvPr/>
        </p:nvSpPr>
        <p:spPr>
          <a:xfrm>
            <a:off x="339840" y="4365720"/>
            <a:ext cx="8804160" cy="11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Если родители хотят, чтобы их ребенок бережно и уважительно относился к дедушкам и бабушкам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Arial"/>
              </a:rPr>
              <a:t>они начинают с себя и сами уважительно и бережно относятся к своим родителя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оугольник 1"/>
          <p:cNvSpPr/>
          <p:nvPr/>
        </p:nvSpPr>
        <p:spPr>
          <a:xfrm>
            <a:off x="1306440" y="291960"/>
            <a:ext cx="628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0000"/>
                </a:solidFill>
                <a:uFillTx/>
                <a:latin typeface="Arial"/>
              </a:rPr>
              <a:t>Кодекс истинного родителя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0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1" presetSubtype="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8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4" descr="WB00756L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Прямоугольник 1"/>
          <p:cNvSpPr/>
          <p:nvPr/>
        </p:nvSpPr>
        <p:spPr>
          <a:xfrm>
            <a:off x="539640" y="404640"/>
            <a:ext cx="806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Если родители хотят, чтобы их ребенок не страдал от одиночества, они дают ему возможность иметь друзей, приводить их в свой до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Это возможно только в том случае, есл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1800" spc="-1" strike="noStrike">
                <a:solidFill>
                  <a:srgbClr val="0070c0"/>
                </a:solidFill>
                <a:latin typeface="Arial"/>
              </a:rPr>
              <a:t>сами родители имеют настоящих друзей, и ребенок встречается с ними в своем дом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рямоугольник 2"/>
          <p:cNvSpPr/>
          <p:nvPr/>
        </p:nvSpPr>
        <p:spPr>
          <a:xfrm>
            <a:off x="539640" y="1674720"/>
            <a:ext cx="77774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Если родители хотят, чтобы ребенок не относился к школе и учению с предубеждение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1800" spc="-1" strike="noStrike">
                <a:solidFill>
                  <a:srgbClr val="0070c0"/>
                </a:solidFill>
                <a:latin typeface="Arial"/>
              </a:rPr>
              <a:t>они сами вспоминают о школьных днях с удовольствием и с самыми теплыми чувств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Прямоугольник 3"/>
          <p:cNvSpPr/>
          <p:nvPr/>
        </p:nvSpPr>
        <p:spPr>
          <a:xfrm>
            <a:off x="1403280" y="2924280"/>
            <a:ext cx="60483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Любите вашего ребенка таким, какой он есть, и забудьте о качествах, которых у него нет... Результат воспитания зависит не от степени строгости или мягкости, а от ваших чувств к ребенку и от тех жизненных принципов, которые вы ему прививаете!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22T14:14:35Z</dcterms:created>
  <dc:creator>USER</dc:creator>
  <dc:description/>
  <dc:language>en-US</dc:language>
  <cp:lastModifiedBy>Пользователь</cp:lastModifiedBy>
  <dcterms:modified xsi:type="dcterms:W3CDTF">2018-10-12T10:11:01Z</dcterms:modified>
  <cp:revision>13</cp:revision>
  <dc:subject/>
  <dc:title>Слайд 1</dc:title>
</cp:coreProperties>
</file>