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B336-8A5B-4E44-B9FB-8876C736D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C5E2-8C85-4BD2-A229-8816FC8D6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C096-DEE5-405E-B39C-746CB4DB3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647F-1F10-4266-9EC9-1CE818ED1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11E4D-4FFA-41A2-9110-4766EDA30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58CFD-24A5-412C-97F0-0E43048B8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57B98-F831-4858-86B3-76EE15F70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B3617-E60F-4519-BB13-BAE8901B8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129F4-0392-43E7-BC1E-393DDA340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E8628-7093-4435-BE1C-834BE85F6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7C9A8-700D-48DB-9468-93EC31D3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A137-2770-40CD-B10E-F68A3D1E2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5898E-464D-4952-BC91-3FA16E18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085CD-D50D-4B96-9F9D-D80760DF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CD59F-D3FF-4EDB-8B45-CA38D527D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B73C0-EE74-4152-93D5-20D6580F9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BCCDE-12C4-4502-80C1-E4F525228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98B7-2834-4F3A-999F-24C5FC47E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991F-2245-4E4A-805C-1BB3C1768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84FF-04F8-4C28-A530-8B38B6954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3621-9DC4-4A75-BB9B-9E3E23E41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5058-DEA7-468D-A643-AA7B2887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CB3F-295C-45EA-9651-21D1EB1D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C750-62D8-411D-9607-B4537823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bbc6d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26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26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7606d"/>
                </a:gs>
                <a:gs pos="100000">
                  <a:srgbClr val="80ac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80acc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02E47-D578-427C-A522-7DFA971513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bbc6d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26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26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7606d"/>
                </a:gs>
                <a:gs pos="100000">
                  <a:srgbClr val="80ac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80acc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C07D9-DD0D-4D18-BA24-B635583C76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Скругленный прямоугольник 5"/>
          <p:cNvGrpSpPr/>
          <p:nvPr/>
        </p:nvGrpSpPr>
        <p:grpSpPr>
          <a:xfrm>
            <a:off x="360360" y="438120"/>
            <a:ext cx="8655120" cy="2633760"/>
            <a:chOff x="360360" y="438120"/>
            <a:chExt cx="8655120" cy="2633760"/>
          </a:xfrm>
        </p:grpSpPr>
        <p:pic>
          <p:nvPicPr>
            <p:cNvPr id="121" name="Скругленный 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360360" y="438120"/>
              <a:ext cx="8655120" cy="26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714240" y="790560"/>
              <a:ext cx="7944120" cy="192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Счастлив тот, кто </a:t>
            </a:r>
            <a:br>
              <a:rPr sz="4800"/>
            </a:b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частлив у себя  дома».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                                </a:t>
            </a:r>
            <a:r>
              <a:rPr b="0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Л.Н.Толстой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2" descr="F:\мультяшки\photo50.gif"/>
          <p:cNvPicPr/>
          <p:nvPr/>
        </p:nvPicPr>
        <p:blipFill>
          <a:blip r:embed="rId2"/>
          <a:stretch/>
        </p:blipFill>
        <p:spPr>
          <a:xfrm>
            <a:off x="324000" y="2492280"/>
            <a:ext cx="2842920" cy="3436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7" descr="PICNIC"/>
          <p:cNvPicPr/>
          <p:nvPr/>
        </p:nvPicPr>
        <p:blipFill>
          <a:blip r:embed="rId3"/>
          <a:stretch/>
        </p:blipFill>
        <p:spPr>
          <a:xfrm>
            <a:off x="2700360" y="3933720"/>
            <a:ext cx="3600360" cy="27669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336600"/>
                </a:solidFill>
                <a:uFillTx/>
                <a:latin typeface="Times New Roman"/>
              </a:rPr>
              <a:t>«ДЕРЕВО   МОЕЙ   СЕМЬИ»</a:t>
            </a: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Уважаемые родители, нарисуйте, пожалуйста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Times New Roman"/>
              </a:rPr>
              <a:t>«ДЕРЕВО ВАШЕЙ СЕМЬИ»,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 образно укажите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На что оно опирается, что является корнями Вашей семьи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На чем оно держится в своем основании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Кто или что является  ветвями Вашей семьи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Какие плоды радуют Вас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Какие плоды Вас огорчают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К чему стремится Ваше дерево?</a:t>
            </a: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6" descr="Дуб &quot;Ангел&quot; (4 фото)"/>
          <p:cNvPicPr/>
          <p:nvPr/>
        </p:nvPicPr>
        <p:blipFill>
          <a:blip r:embed="rId1"/>
          <a:stretch/>
        </p:blipFill>
        <p:spPr>
          <a:xfrm>
            <a:off x="4643280" y="3141720"/>
            <a:ext cx="450072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Тест «Стили семейного воспитания».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66"/>
                </a:solidFill>
                <a:uFillTx/>
                <a:latin typeface="Times New Roman"/>
              </a:rPr>
              <a:t>1.Чем, по вашему мнению, в большей мере определяется характер человека – наследственностью или воспитанием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А. Преимущественно воспитание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Б. Сочетанием врожденных задатков и условий среды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В. Главным образом врожденными задаткам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Г. Ни тем, ни другим, а жизненным опыто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66"/>
                </a:solidFill>
                <a:uFillTx/>
                <a:latin typeface="Times New Roman"/>
              </a:rPr>
              <a:t>2.Как вы относитесь к мысли о том, что дети воспитывают своих родителей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А. Это игра слов, имеющий мало отношения к действительност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Б. Абсолютно с этим согласен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В. Готов с этим согласиться при условии, что нельзя забывать и о традиционной роли родителей как воспитателей своих дете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Г. Затрудняюсь ответить, не задумывался об это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66"/>
                </a:solidFill>
                <a:uFillTx/>
                <a:latin typeface="Times New Roman"/>
              </a:rPr>
              <a:t>3.Какое из суждений о воспитании вы находите наиболее удачным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А. Если вам больше нечего сказать ребенку, скажите ему, чтобы он пошел умытьс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Б. Цель воспитания - научить детей обходиться без нас-(Эрнст Легуве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В. Детям нужны не поучения, а примеры (Жозеф Жубер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Г. Научи сына послушанию, тогда сможешь научить и всему остальному (Томас Фуллер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Times New Roman"/>
              </a:rPr>
              <a:t>4. Считаете ли вы, что родители должны просвещать детей в вопросах пола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А. Меня никто этому не учил, и их сама жизнь научи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Б. Считаю, что родителям следует в доступной форме удовлетворять возникающий у детей интерес к этим вопроса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В. Когда дети достаточно повзрослеют, необходимо будет завести разговор и об этом. А в школьном возрасте главное - позаботиться о том, чтобы оградить их от проявлений безнравственност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Г. Конечно, в первую очередь это должны сделать родител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Times New Roman"/>
              </a:rPr>
              <a:t>5.Следует ли родителям давать ребенку деньги на карманные расходы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А. Если попросит, можно и да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Б. Лучше всего регулярно выдавать определенную сумму на конкретные цели и контролировать расход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В. Целесообразно выдавать некоторую сумму на определенный срок (на неделю, на месяц), чтобы ребенок сам учился планировать свои расход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Г. Когда есть возможность, можно иной раз дать ему какую-то сумму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Times New Roman"/>
              </a:rPr>
              <a:t>6.Как вы поступите, если узнаете, что вашего ребенка обидел одноклассник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А. Огорчусь, постараюсь утешить ребен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Б. Отправлюсь выяснить отношения с родителями обидчи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В. Дети сами лучше разберутся в своих отношениях, тем более что их обиды недолг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Г. Посоветую ребенку, как ему лучше себя вести в таких ситуация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66"/>
                </a:solidFill>
                <a:uFillTx/>
                <a:latin typeface="Times New Roman"/>
              </a:rPr>
              <a:t>7.Как вы отнесетесь к сквернословию ребенка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А. Постараюсь довести до его понимания, что в нашей семье, да и вообще среди порядочных людей, это не принято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Б. Сквернословие надо пресекать в зародыше! Наказание тут необходимо, а от общения с невоспитанными сверстниками ребенка впредь надо оградить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В.Подумаешь! Все мы знаем эти слова. Не надо придавать этому значения, пока это не выходит за разумные пределы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Г. Ребенок вправе выражать свои чувства, даже тем способом, который нам не по душе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66"/>
                </a:solidFill>
                <a:uFillTx/>
                <a:latin typeface="Times New Roman"/>
              </a:rPr>
              <a:t>8. Ребёнок-подросток хочет провести выходные на даче у друзей, где соберется компания сверстников в отсутствие родителей. Отпустили бы вы его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А.Ни в коем случае. Такие сборища до добра не доводят. Если дети хотят отдохнуть и повеселиться, пускай делают это под надзором старших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Б. Возможно, если знаю его товарищей как порядочных и надежных ребя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В.Он вполне разумный человек, чтобы самому принять решение. Хотя, конечно, в его отсутствие буду немного беспокоиться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Г. Не вижу причины запрещать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66"/>
                </a:solidFill>
                <a:uFillTx/>
                <a:latin typeface="Times New Roman"/>
              </a:rPr>
              <a:t>9.Как вы отреагируете, если узнаете, что ребенок вам солгал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А. Постараюсь вывести его на чистую воду и пристыдить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Б. Если повод не слишком серьезный, не стану придавать значения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В. Расстроюсь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Г. Попробую разобраться, что его побудило солгать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66"/>
                </a:solidFill>
                <a:uFillTx/>
                <a:latin typeface="Times New Roman"/>
              </a:rPr>
              <a:t>10. Считаете ли вы, что подаете ребенку достойный пример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А. Безусловно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Б. Стараюсь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В. Надеюсь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Г. Не знаю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3628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ff0000"/>
                </a:solidFill>
                <a:uFillTx/>
                <a:latin typeface="Times New Roman"/>
              </a:rPr>
              <a:t>Авторитетный стиль</a:t>
            </a:r>
            <a:r>
              <a:rPr b="0" i="1" lang="en-US" sz="1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(тёплые отношения, высокий уровень контроля)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•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Вы осознаёте свою важность в становлении личности ребёнка, но и за ним признаёте право на саморазвити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•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Трезво понимаете, какие требования необходимо диктовать, какие обсуждать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•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Допускаете изменения своих требований в разумных пределах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6600"/>
                </a:solidFill>
                <a:latin typeface="Times New Roman"/>
              </a:rPr>
              <a:t>Дети превосходно адаптированы, уверены в себе, развит самоконтроль и социальные навыки. Они хорошо учатся в школе и обладают высокой самооценко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ff0000"/>
                </a:solidFill>
                <a:uFillTx/>
                <a:latin typeface="Times New Roman"/>
              </a:rPr>
              <a:t>Авторитарный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(холодные отношения, высокий уровень контроля)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•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Хорошо представляете каким должен вырасти ваш ребёнок и прилагаете к этому максимум усили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•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Выдвигаемые требования неуступчивы и категоричны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•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В общении с ребёнком отдаёте приказы и ждёте от ребёнка их точного выполнения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•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Закрыты для постоянного общения с детьм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6600"/>
                </a:solidFill>
                <a:latin typeface="Times New Roman"/>
              </a:rPr>
              <a:t>Дети замкнуты, боязливы, угрюмы и зависимы, раздражимы. Девочки обычно становятся пассивными и зависимыми на протяжении подросткового и юношеского  возраста. Мальчики могут стать неуправляемыми и агрессивным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ff0000"/>
                </a:solidFill>
                <a:uFillTx/>
                <a:latin typeface="Times New Roman"/>
              </a:rPr>
              <a:t>Либеральный стиль</a:t>
            </a:r>
            <a:r>
              <a:rPr b="1" i="1" lang="en-US" sz="1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(тёплые отношения, низкий уровень контроля)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•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Слишком высоко цените своего ребёнка, считаете простительными его слабост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•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Легко общаетесь с ним, доверяете ему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•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Не склонны к запретам и ограничениям; однако стоит задуматься: по плечу ли ребёнку такая свобода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6600"/>
                </a:solidFill>
                <a:latin typeface="Times New Roman"/>
              </a:rPr>
              <a:t>Ребёнок слабо или совсем не регламентирует поведение. Детям предоставлен избыток свободы. Дети склонны к непослушанию, агрессии, импульсивны; в некоторых случаях дети становятся сильными и решительными, творческими людьм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ff0000"/>
                </a:solidFill>
                <a:uFillTx/>
                <a:latin typeface="Times New Roman"/>
              </a:rPr>
              <a:t>Индифферентный стиль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 (холодные отношения, низкий уровень контроля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•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У родителей совершенно другие проблемы и заботы; свои проблемы ребёнку приходится решать самому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•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Не устанавливают для детей никаких ограничений, безразличны к собственным детям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6600"/>
                </a:solidFill>
                <a:latin typeface="Times New Roman"/>
              </a:rPr>
              <a:t>Если безразличные родители сочетается с враждебностью, ребёнок проявляет склонность к отклонению от нормы поведения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68000" y="259920"/>
            <a:ext cx="8496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1.ребёнка постоянно критикуют, он учится ненавидеть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2. ребёнок живёт во вражде, он учится быть агрессивным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3. ребёнок растёт в упрёках, он учится жить с чувством вины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4. ребёнок растёт в терпимости, он учится понимать других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5. ребёнка хвалят, он учится быть благодарны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6. ребёнок растёт в честности, он учится быть справедливым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7. ребёнок растёт в безопасности, он учится верить в люде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8. ребёнка поддерживают, он учится ценить себ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9. ребёнка высмеивают, он учится быть замкнутым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10. ребёнок живёт в понимании и дружелюбии, он учится находить любовь в этом мире. </a:t>
            </a:r>
            <a:br>
              <a:rPr sz="2000"/>
            </a:br>
            <a:br>
              <a:rPr sz="24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692280"/>
            <a:ext cx="81342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«…Самые лучшие дети бывают у счастливых родителей…»</a:t>
            </a:r>
            <a:endParaRPr b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484360" y="5229360"/>
            <a:ext cx="64008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Monotype Corsiva"/>
              </a:rPr>
              <a:t>А.С. Макаренко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1T10:13:01Z</dcterms:created>
  <dc:creator>Евгения</dc:creator>
  <dc:description/>
  <dc:language>en-US</dc:language>
  <cp:lastModifiedBy>Комп2</cp:lastModifiedBy>
  <dcterms:modified xsi:type="dcterms:W3CDTF">2015-03-03T10:33:49Z</dcterms:modified>
  <cp:revision>17</cp:revision>
  <dc:subject/>
  <dc:title>Счастлив тот,  кто счастлив   у себя дома.</dc:title>
</cp:coreProperties>
</file>