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5EE-0EF6-474D-A0CE-88373951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BCD-5EB4-4BAD-90D7-F4487826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222-C3CE-44E7-9E89-1D160ECB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371-8630-44C7-B5CF-FC125080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85A8-7782-4E89-997D-4008C414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D165-B23D-4C27-B976-43F81859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AEA6-45F8-474E-A676-1EA19A6A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421A-362C-4256-9E66-7CBDB084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E1F4-2EDE-4871-91A3-FDB55DF1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CFA0-0731-4B50-94A4-DC9B770A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45EC-4807-4916-9DDB-0732A3BF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204-E192-4344-BD33-1A5FF168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28DA-3DC1-4965-A73D-8789FE46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71AE-0D5A-46A4-9B36-1CBB7A6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EBA7-7823-4EC3-B230-2D403DD3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2929-AFB7-4150-9319-243CD892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0410-E671-4998-8581-D8CEAD3D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3E6-B896-41CD-A7D3-DE020217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E93-144D-4222-8EB1-42EF85FE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065-E8D6-422E-8972-3BD85A9C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972-CDE5-46CD-A294-DC7E1B1A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946-613D-4DB9-8348-3DE1CC0C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A9B-E931-42AE-9EA5-F43464C4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711-8BA6-4FCB-BA47-3960170D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9742-A74E-43CD-B89C-04158BEF1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D174-49D8-4316-8A7E-BED6B4CA7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Скругленный прямоугольник 5"/>
          <p:cNvGrpSpPr/>
          <p:nvPr/>
        </p:nvGrpSpPr>
        <p:grpSpPr>
          <a:xfrm>
            <a:off x="360360" y="438120"/>
            <a:ext cx="8655120" cy="2633760"/>
            <a:chOff x="360360" y="438120"/>
            <a:chExt cx="8655120" cy="2633760"/>
          </a:xfrm>
        </p:grpSpPr>
        <p:pic>
          <p:nvPicPr>
            <p:cNvPr id="121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60360" y="438120"/>
              <a:ext cx="8655120" cy="26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14240" y="790560"/>
              <a:ext cx="7944120" cy="19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частлив тот, кто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астлив у себя  дома».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.Н.Толсто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F:\мультяшки\photo50.gif"/>
          <p:cNvPicPr/>
          <p:nvPr/>
        </p:nvPicPr>
        <p:blipFill>
          <a:blip r:embed="rId2"/>
          <a:stretch/>
        </p:blipFill>
        <p:spPr>
          <a:xfrm>
            <a:off x="324000" y="2492280"/>
            <a:ext cx="2842920" cy="343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PICNIC"/>
          <p:cNvPicPr/>
          <p:nvPr/>
        </p:nvPicPr>
        <p:blipFill>
          <a:blip r:embed="rId3"/>
          <a:stretch/>
        </p:blipFill>
        <p:spPr>
          <a:xfrm>
            <a:off x="2700360" y="3933720"/>
            <a:ext cx="360036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6600"/>
                </a:solidFill>
                <a:uFillTx/>
                <a:latin typeface="Times New Roman"/>
              </a:rPr>
              <a:t>«ДЕРЕВО   МОЕЙ   СЕМЬИ»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Уважаемые родители, нарисуйте, пожалуйст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Times New Roman"/>
              </a:rPr>
              <a:t>«ДЕРЕВО ВАШЕЙ СЕМЬИ»,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образно укажит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На что оно опирается, что является корнями Вашей семь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На чем оно держится в своем основани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Кто или что является  ветвями Вашей семь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Какие плоды радуют Вас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Какие плоды Вас огорчают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К чему стремится Ваше дерево?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Дуб &quot;Ангел&quot; (4 фото)"/>
          <p:cNvPicPr/>
          <p:nvPr/>
        </p:nvPicPr>
        <p:blipFill>
          <a:blip r:embed="rId1"/>
          <a:stretch/>
        </p:blipFill>
        <p:spPr>
          <a:xfrm>
            <a:off x="4643280" y="3141720"/>
            <a:ext cx="4500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Тест «Стили семейного воспитания»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1.Чем, по вашему мнению, в большей мере определяется характер человека – наследственностью или воспитание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А. Преимущественно воспитани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Б. Сочетанием врожденных задатков и условий сред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. Главным образом врожденными задатк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Г. Ни тем, ни другим, а жизненным опыт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2.Как вы относитесь к мысли о том, что дети воспитывают своих родителе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А. Это игра слов, имеющий мало отношения к действитель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Б. Абсолютно с этим соглас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. Готов с этим согласиться при условии, что нельзя забывать и о традиционной роли родителей как воспитателей своих дет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Г. Затрудняюсь ответить, не задумывался об эт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3.Какое из суждений о воспитании вы находите наиболее удачны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А. Если вам больше нечего сказать ребенку, скажите ему, чтобы он пошел умыть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Б. Цель воспитания - научить детей обходиться без нас-(Эрнст Легуве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. Детям нужны не поучения, а примеры (Жозеф Жубер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Г. Научи сына послушанию, тогда сможешь научить и всему остальному (Томас Фуллер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4. Считаете ли вы, что родители должны просвещать детей в вопросах пол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А. Меня никто этому не учил, и их сама жизнь науч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Б. Считаю, что родителям следует в доступной форме удовлетворять возникающий у детей интерес к этим вопрос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В. Когда дети достаточно повзрослеют, необходимо будет завести разговор и об этом. А в школьном возрасте главное - позаботиться о том, чтобы оградить их от проявлений безнрав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Г. Конечно, в первую очередь это должны сделать 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5.Следует ли родителям давать ребенку деньги на карманные расходы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А. Если попросит, можно и д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Б. Лучше всего регулярно выдавать определенную сумму на конкретные цели и контролировать расх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В. Целесообразно выдавать некоторую сумму на определенный срок (на неделю, на месяц), чтобы ребенок сам учился планировать свои расх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Г. Когда есть возможность, можно иной раз дать ему какую-то сум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6.Как вы поступите, если узнаете, что вашего ребенка обидел одноклассник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А. Огорчусь, постараюсь утешить ребен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Б. Отправлюсь выяснить отношения с родителями обидч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В. Дети сами лучше разберутся в своих отношениях, тем более что их обиды недол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Г. Посоветую ребенку, как ему лучше себя вести в таких ситуаци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7.Как вы отнесетесь к сквернословию ребенка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А. Постараюсь довести до его понимания, что в нашей семье, да и вообще среди порядочных людей, это не принят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Б. Сквернословие надо пресекать в зародыше! Наказание тут необходимо, а от общения с невоспитанными сверстниками ребенка впредь надо оград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В.Подумаешь! Все мы знаем эти слова. Не надо придавать этому значения, пока это не выходит за разумные предел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Г. Ребенок вправе выражать свои чувства, даже тем способом, который нам не по душ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8. Ребёнок-подросток хочет провести выходные на даче у друзей, где соберется компания сверстников в отсутствие родителей. Отпустили бы вы его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А.Ни в коем случае. Такие сборища до добра не доводят. Если дети хотят отдохнуть и повеселиться, пускай делают это под надзором старши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Б. Возможно, если знаю его товарищей как порядочных и надежных ребя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В.Он вполне разумный человек, чтобы самому принять решение. Хотя, конечно, в его отсутствие буду немного беспокоитьс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Г. Не вижу причины запреща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9.Как вы отреагируете, если узнаете, что ребенок вам солгал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А. Постараюсь вывести его на чистую воду и пристыд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Б. Если повод не слишком серьезный, не стану придавать знач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В. Расстроюс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Г. Попробую разобраться, что его побудило солга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10. Считаете ли вы, что подаете ребенку достойный приме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А. Безусловн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Б. Стараюсь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В. Надеюсь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Г. Не зна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Авторитетный стиль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(тёплые отношения, высокий уровень контроля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Вы осознаёте свою важность в становлении личности ребёнка, но и за ним признаёте право на саморазвит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Трезво понимаете, какие требования необходимо диктовать, какие обсужд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Допускаете изменения своих требований в разумных предела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00"/>
                </a:solidFill>
                <a:latin typeface="Times New Roman"/>
              </a:rPr>
              <a:t>Дети превосходно адаптированы, уверены в себе, развит самоконтроль и социальные навыки. Они хорошо учатся в школе и обладают высокой самооценко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Авторитарный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(холодные отношения, высокий уровень контроля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Хорошо представляете каким должен вырасти ваш ребёнок и прилагаете к этому максимум усил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Выдвигаемые требования неуступчивы и категорич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В общении с ребёнком отдаёте приказы и ждёте от ребёнка их точного выполн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Закрыты для постоянного общения с деть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00"/>
                </a:solidFill>
                <a:latin typeface="Times New Roman"/>
              </a:rPr>
              <a:t>Дети замкнуты, боязливы, угрюмы и зависимы, раздражимы. Девочки обычно становятся пассивными и зависимыми на протяжении подросткового и юношеского  возраста. Мальчики могут стать неуправляемыми и агрессивны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Либеральный стиль</a:t>
            </a: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(тёплые отношения, низкий уровень контроля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Слишком высоко цените своего ребёнка, считаете простительными его слаб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Легко общаетесь с ним, доверяете ем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Не склонны к запретам и ограничениям; однако стоит задуматься: по плечу ли ребёнку такая свобода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00"/>
                </a:solidFill>
                <a:latin typeface="Times New Roman"/>
              </a:rPr>
              <a:t>Ребёнок слабо или совсем не регламентирует поведение. Детям предоставлен избыток свободы. Дети склонны к непослушанию, агрессии, импульсивны; в некоторых случаях дети становятся сильными и решительными, творческими людь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Индифферентный стиль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(холодные отношения, низкий уровень контроля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У родителей совершенно другие проблемы и заботы; свои проблемы ребёнку приходится решать самом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Не устанавливают для детей никаких ограничений, безразличны к собственным детям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00"/>
                </a:solidFill>
                <a:latin typeface="Times New Roman"/>
              </a:rPr>
              <a:t>Если безразличные родители сочетается с враждебностью, ребёнок проявляет склонность к отклонению от нормы повед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1.ребёнка постоянно критикуют, он учится ненавиде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2. ребёнок живёт во вражде, он учится быть агрессивны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3. ребёнок растёт в упрёках, он учится жить с чувством вин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4. ребёнок растёт в терпимости, он учится понимать друг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5. ребёнка хвалят, он учится быть благодар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6. ребёнок растёт в честности, он учится быть справедливы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7. ребёнок растёт в безопасности, он учится верить в люд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8. ребёнка поддерживают, он учится ценить себ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9. ребёнка высмеивают, он учится быть замкнуты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10. ребёнок живёт в понимании и дружелюбии, он учится находить любовь в этом мире. 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81342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«…Самые лучшие дети бывают у счастливых родителей…»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484360" y="522936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А.С. Макаренк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13:01Z</dcterms:created>
  <dc:creator>Евгения</dc:creator>
  <dc:description/>
  <dc:language>en-US</dc:language>
  <cp:lastModifiedBy>Комп2</cp:lastModifiedBy>
  <dcterms:modified xsi:type="dcterms:W3CDTF">2015-03-03T10:33:49Z</dcterms:modified>
  <cp:revision>17</cp:revision>
  <dc:subject/>
  <dc:title>Счастлив тот,  кто счастлив   у себя дома.</dc:title>
</cp:coreProperties>
</file>