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.jpeg" ContentType="image/jpeg"/>
  <Override PartName="/ppt/media/image2.jpeg" ContentType="image/jpe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7BA2-41DC-476D-BB13-7DAE70C84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E7B-14E3-4B6A-A902-81F60BDBF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2525-6932-4A5E-87F6-159CD7740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CE84-F1E6-46A8-8538-046468743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FFA3-D19B-40E4-BB45-79407B8C0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B081-047D-4779-9A93-A6E20F19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30B4-FA93-40DC-81EE-8125DE07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0B31-F6A5-461E-A909-2A425E72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E0BD-520C-4206-B983-B34BA285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A491-BE1A-4C14-96D8-F688D003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311C-3F82-49E5-A0C0-36DD57F04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682E-82DD-48F5-957A-FF69FF4E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8b9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олотое рукодел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DB07F-FF03-41AB-9A05-1AAB7EA16B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Рождение цветка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(мастер-класс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9214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 работы: Соболева Ирина Юрьевна учитель начальных классов МБОУ «Строевская СОШ» филиал «Плосская основная школ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иалки изготовлены по такому же принципу, что и ма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фиалкаутро"/>
          <p:cNvPicPr/>
          <p:nvPr/>
        </p:nvPicPr>
        <p:blipFill>
          <a:blip r:embed="rId1"/>
          <a:stretch/>
        </p:blipFill>
        <p:spPr>
          <a:xfrm>
            <a:off x="1692360" y="1125360"/>
            <a:ext cx="5586480" cy="4800600"/>
          </a:xfrm>
          <a:prstGeom prst="rect">
            <a:avLst/>
          </a:prstGeom>
          <a:ln w="0">
            <a:noFill/>
          </a:ln>
        </p:spPr>
      </p:pic>
      <p:sp>
        <p:nvSpPr>
          <p:cNvPr id="82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908000" y="0"/>
          <a:ext cx="5113440" cy="6858000"/>
        </p:xfrm>
        <a:graphic>
          <a:graphicData uri="http://schemas.openxmlformats.org/drawingml/2006/table">
            <a:tbl>
              <a:tblPr/>
              <a:tblGrid>
                <a:gridCol w="5113440"/>
              </a:tblGrid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енда о маке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7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гда Господь создал Землю, животных и растения, все были счастливы, кроме Ночи. Как ни старалась она при помощи звезд и светящихся жучков рассеять свой глубокий мрак, слишком много красот природы она скрывала, чем всех отталкивала от себя. Тогда Господь создал Сон, сновидения и грезы, и вместе с Ночью они стали желанными гостями. Со временем в людях пробудились страсти, один из людей даже задумал убить своего брата. Сон хотел остановить его, но грехи этого человека мешали ему подойти. Тогда Сон в гневе воткнул свой волшебный жезл в землю, а Ночь вдохнула в него жизнь. Жезл пустил корни, зазеленел и, сохраняя свою вызывающую сон силу, превратился в ма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395280" y="571680"/>
            <a:ext cx="8353440" cy="59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пестки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ем прямоугольник крепированной бумаги красного цвета, сгибаем пополам, на одну часть наносим клей-карандаш и накладываем проволоч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Таким образом склеиваем пять заготово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о шаблону обводим и вырезаем будущие лепест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Во влажном состоянии бумагу растягива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5" descr="SDC12281"/>
          <p:cNvPicPr/>
          <p:nvPr/>
        </p:nvPicPr>
        <p:blipFill>
          <a:blip r:embed="rId1"/>
          <a:stretch/>
        </p:blipFill>
        <p:spPr>
          <a:xfrm>
            <a:off x="900000" y="4508640"/>
            <a:ext cx="2914920" cy="21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SDC12282"/>
          <p:cNvPicPr/>
          <p:nvPr/>
        </p:nvPicPr>
        <p:blipFill>
          <a:blip r:embed="rId2"/>
          <a:stretch/>
        </p:blipFill>
        <p:spPr>
          <a:xfrm>
            <a:off x="5292720" y="4508640"/>
            <a:ext cx="3095640" cy="2187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SDC12277"/>
          <p:cNvPicPr/>
          <p:nvPr/>
        </p:nvPicPr>
        <p:blipFill>
          <a:blip r:embed="rId3"/>
          <a:stretch/>
        </p:blipFill>
        <p:spPr>
          <a:xfrm>
            <a:off x="900000" y="22050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52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C:\Documents and Settings\Школа\Мои документы\Мои рисунки\3.png"/>
          <p:cNvPicPr/>
          <p:nvPr/>
        </p:nvPicPr>
        <p:blipFill>
          <a:blip r:embed="rId4"/>
          <a:stretch/>
        </p:blipFill>
        <p:spPr>
          <a:xfrm>
            <a:off x="5151600" y="2003400"/>
            <a:ext cx="320652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стик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У ватной палочки срезаем один конец, а на второй наклеиваем толстый слой ва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езаем кружок крепированной бумаги желтого цве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Наматываем кружок на подготовленную палочк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Красим черной краской основание пе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4" descr="SDC12269"/>
          <p:cNvPicPr/>
          <p:nvPr/>
        </p:nvPicPr>
        <p:blipFill>
          <a:blip r:embed="rId1"/>
          <a:stretch/>
        </p:blipFill>
        <p:spPr>
          <a:xfrm>
            <a:off x="5219640" y="443700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5" descr="SDC12268"/>
          <p:cNvPicPr/>
          <p:nvPr/>
        </p:nvPicPr>
        <p:blipFill>
          <a:blip r:embed="rId2"/>
          <a:stretch/>
        </p:blipFill>
        <p:spPr>
          <a:xfrm>
            <a:off x="971640" y="4437000"/>
            <a:ext cx="2914560" cy="2185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395280" y="436572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ижний колонтитул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C:\Documents and Settings\Школа\Мои документы\Мои рисунки\6.png"/>
          <p:cNvPicPr/>
          <p:nvPr/>
        </p:nvPicPr>
        <p:blipFill>
          <a:blip r:embed="rId3"/>
          <a:stretch/>
        </p:blipFill>
        <p:spPr>
          <a:xfrm>
            <a:off x="928800" y="2003400"/>
            <a:ext cx="2928960" cy="2120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" descr="C:\Documents and Settings\Школа\Мои документы\Мои рисунки\7.png"/>
          <p:cNvPicPr/>
          <p:nvPr/>
        </p:nvPicPr>
        <p:blipFill>
          <a:blip r:embed="rId4"/>
          <a:stretch/>
        </p:blipFill>
        <p:spPr>
          <a:xfrm>
            <a:off x="5156280" y="2014560"/>
            <a:ext cx="2916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чинки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1.Намотаем черные нитки на пальцы и разрежем на кусочки нужной длин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клеим нитки на полоску бумаги шириной 5 м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Склеиваем пестик и тычинк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Собираем лепестки вокруг пести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8" descr="SDC12259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SDC12251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SDC12271"/>
          <p:cNvPicPr/>
          <p:nvPr/>
        </p:nvPicPr>
        <p:blipFill>
          <a:blip r:embed="rId3"/>
          <a:stretch/>
        </p:blipFill>
        <p:spPr>
          <a:xfrm>
            <a:off x="1042920" y="407664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SDC12285"/>
          <p:cNvPicPr/>
          <p:nvPr/>
        </p:nvPicPr>
        <p:blipFill>
          <a:blip r:embed="rId4"/>
          <a:stretch/>
        </p:blipFill>
        <p:spPr>
          <a:xfrm>
            <a:off x="5219640" y="4005360"/>
            <a:ext cx="2916360" cy="2187360"/>
          </a:xfrm>
          <a:prstGeom prst="rect">
            <a:avLst/>
          </a:prstGeom>
          <a:ln w="0">
            <a:noFill/>
          </a:ln>
        </p:spPr>
      </p:pic>
      <p:sp>
        <p:nvSpPr>
          <p:cNvPr id="66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стик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готавливаются аналогично лепесткам. По шаблону на сложенном вдвое и проклеенном прямоугольнике бумаги вырезается лис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SDC12287"/>
          <p:cNvPicPr/>
          <p:nvPr/>
        </p:nvPicPr>
        <p:blipFill>
          <a:blip r:embed="rId1"/>
          <a:stretch/>
        </p:blipFill>
        <p:spPr>
          <a:xfrm>
            <a:off x="2133720" y="203364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бель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увеличения длины стебля в противоположный конец ватной палочки вставляем зубочистку (или шашлычную палочку) и обматываем её полоской бумаги зеленого цвет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ваем лис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SDC12286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SDC12290"/>
          <p:cNvPicPr/>
          <p:nvPr/>
        </p:nvPicPr>
        <p:blipFill>
          <a:blip r:embed="rId2"/>
          <a:stretch/>
        </p:blipFill>
        <p:spPr>
          <a:xfrm>
            <a:off x="1042920" y="414972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"/>
          <p:cNvPicPr/>
          <p:nvPr/>
        </p:nvPicPr>
        <p:blipFill>
          <a:blip r:embed="rId3"/>
          <a:stretch/>
        </p:blipFill>
        <p:spPr>
          <a:xfrm>
            <a:off x="4929120" y="1600200"/>
            <a:ext cx="3475080" cy="2185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"/>
          <p:cNvPicPr/>
          <p:nvPr/>
        </p:nvPicPr>
        <p:blipFill>
          <a:blip r:embed="rId4"/>
          <a:stretch/>
        </p:blipFill>
        <p:spPr>
          <a:xfrm>
            <a:off x="5076720" y="4149720"/>
            <a:ext cx="3311640" cy="218772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емся выращенными ма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3887640" cy="329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SDC12296"/>
          <p:cNvPicPr/>
          <p:nvPr/>
        </p:nvPicPr>
        <p:blipFill>
          <a:blip r:embed="rId2"/>
          <a:stretch/>
        </p:blipFill>
        <p:spPr>
          <a:xfrm>
            <a:off x="4500720" y="208296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79" name="Нижний колонтитул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19:09:40Z</dcterms:created>
  <dc:creator>Сухарева Екатерина Ивановна</dc:creator>
  <dc:description/>
  <dc:language>en-US</dc:language>
  <cp:lastModifiedBy>user</cp:lastModifiedBy>
  <dcterms:modified xsi:type="dcterms:W3CDTF">2019-01-07T10:22:29Z</dcterms:modified>
  <cp:revision>20</cp:revision>
  <dc:subject/>
  <dc:title>Лепестки</dc:title>
</cp:coreProperties>
</file>