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.jpeg" ContentType="image/jpeg"/>
  <Override PartName="/ppt/media/image2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4AB0-75F7-42FE-AD2C-821E8F4B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ACD1-E29D-4236-B4C0-B9F801E1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9200-2784-4C47-9F2F-B7C05B1BC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89DA-0D90-491D-88B5-B4DC9FEC1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23E6-53C9-4EA3-8BD5-2578EDC7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EC4D-64BA-4687-AEBC-0116BD50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11C1-55C8-475E-8EB8-9D8B4E74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BF8E-FEE6-4474-BF4D-543F8148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A07E-4A9F-4CF1-953F-1C2F6867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8025-1C77-473C-933C-889A0DB2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5DDE-AFA7-441B-8463-3FF88B906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7C0B-D642-4F7C-9AA9-764C3BF7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8b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олотое рукодел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DE903-5345-42E6-B926-FFB4269EDB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Рождение цветка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мастер-класс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3886200"/>
            <a:ext cx="792144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 работы: Соболева Ирина Юрьевна учитель начальных классов МБОУ «Строевская СОШ» филиал «Плосская основная шко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алки изготовлены по такому же принципу, что и ма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фиалкаутро"/>
          <p:cNvPicPr/>
          <p:nvPr/>
        </p:nvPicPr>
        <p:blipFill>
          <a:blip r:embed="rId1"/>
          <a:stretch/>
        </p:blipFill>
        <p:spPr>
          <a:xfrm>
            <a:off x="1692360" y="1125360"/>
            <a:ext cx="5586480" cy="4800600"/>
          </a:xfrm>
          <a:prstGeom prst="rect">
            <a:avLst/>
          </a:prstGeom>
          <a:ln w="0">
            <a:noFill/>
          </a:ln>
        </p:spPr>
      </p:pic>
      <p:sp>
        <p:nvSpPr>
          <p:cNvPr id="8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908000" y="0"/>
          <a:ext cx="5113440" cy="6858000"/>
        </p:xfrm>
        <a:graphic>
          <a:graphicData uri="http://schemas.openxmlformats.org/drawingml/2006/table">
            <a:tbl>
              <a:tblPr/>
              <a:tblGrid>
                <a:gridCol w="5113440"/>
              </a:tblGrid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енда о мак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да Господь создал Землю, животных и растения, все были счастливы, кроме Ночи. Как ни старалась она при помощи звезд и светящихся жучков рассеять свой глубокий мрак, слишком много красот природы она скрывала, чем всех отталкивала от себя. Тогда Господь создал Сон, сновидения и грезы, и вместе с Ночью они стали желанными гостями. Со временем в людях пробудились страсти, один из людей даже задумал убить своего брата. Сон хотел остановить его, но грехи этого человека мешали ему подойти. Тогда Сон в гневе воткнул свой волшебный жезл в землю, а Ночь вдохнула в него жизнь. Жезл пустил корни, зазеленел и, сохраняя свою вызывающую сон силу, превратился в ма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395280" y="571680"/>
            <a:ext cx="8353440" cy="59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пестки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Вырезаем прямоугольник крепированной бумаги красного цвета, сгибаем пополам, на одну часть наносим клей-карандаш и накладываем проволочк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Таким образом склеиваем пять заготово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о шаблону обводим и вырезаем будущие лепест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о влажном состоянии бумагу растягив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SDC12281"/>
          <p:cNvPicPr/>
          <p:nvPr/>
        </p:nvPicPr>
        <p:blipFill>
          <a:blip r:embed="rId1"/>
          <a:stretch/>
        </p:blipFill>
        <p:spPr>
          <a:xfrm>
            <a:off x="900000" y="4508640"/>
            <a:ext cx="291492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SDC12282"/>
          <p:cNvPicPr/>
          <p:nvPr/>
        </p:nvPicPr>
        <p:blipFill>
          <a:blip r:embed="rId2"/>
          <a:stretch/>
        </p:blipFill>
        <p:spPr>
          <a:xfrm>
            <a:off x="5292720" y="4508640"/>
            <a:ext cx="3095640" cy="218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SDC12277"/>
          <p:cNvPicPr/>
          <p:nvPr/>
        </p:nvPicPr>
        <p:blipFill>
          <a:blip r:embed="rId3"/>
          <a:stretch/>
        </p:blipFill>
        <p:spPr>
          <a:xfrm>
            <a:off x="900000" y="220500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52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C:\Documents and Settings\Школа\Мои документы\Мои рисунки\3.png"/>
          <p:cNvPicPr/>
          <p:nvPr/>
        </p:nvPicPr>
        <p:blipFill>
          <a:blip r:embed="rId4"/>
          <a:stretch/>
        </p:blipFill>
        <p:spPr>
          <a:xfrm>
            <a:off x="5151600" y="2003400"/>
            <a:ext cx="320652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9152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сти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У ватной палочки срезаем один конец, а на второй наклеиваем толстый слой ват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езаем кружок крепированной бумаги желтого цвет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Наматываем кружок на подготовленную палочк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Красим черной краской основание пест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SDC12269"/>
          <p:cNvPicPr/>
          <p:nvPr/>
        </p:nvPicPr>
        <p:blipFill>
          <a:blip r:embed="rId1"/>
          <a:stretch/>
        </p:blipFill>
        <p:spPr>
          <a:xfrm>
            <a:off x="5219640" y="4437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SDC12268"/>
          <p:cNvPicPr/>
          <p:nvPr/>
        </p:nvPicPr>
        <p:blipFill>
          <a:blip r:embed="rId2"/>
          <a:stretch/>
        </p:blipFill>
        <p:spPr>
          <a:xfrm>
            <a:off x="971640" y="4437000"/>
            <a:ext cx="2914560" cy="2185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95280" y="436572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C:\Documents and Settings\Школа\Мои документы\Мои рисунки\6.png"/>
          <p:cNvPicPr/>
          <p:nvPr/>
        </p:nvPicPr>
        <p:blipFill>
          <a:blip r:embed="rId3"/>
          <a:stretch/>
        </p:blipFill>
        <p:spPr>
          <a:xfrm>
            <a:off x="928800" y="2003400"/>
            <a:ext cx="2928960" cy="2120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C:\Documents and Settings\Школа\Мои документы\Мои рисунки\7.png"/>
          <p:cNvPicPr/>
          <p:nvPr/>
        </p:nvPicPr>
        <p:blipFill>
          <a:blip r:embed="rId4"/>
          <a:stretch/>
        </p:blipFill>
        <p:spPr>
          <a:xfrm>
            <a:off x="5156280" y="2014560"/>
            <a:ext cx="291600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чинк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.Намотаем черные нитки на пальцы и разрежем на кусочки нужной длин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Наклеим нитки на полоску бумаги шириной 5 м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Склеиваем пестик и тычин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Собираем лепестки вокруг пест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SDC12259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SDC12251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SDC12271"/>
          <p:cNvPicPr/>
          <p:nvPr/>
        </p:nvPicPr>
        <p:blipFill>
          <a:blip r:embed="rId3"/>
          <a:stretch/>
        </p:blipFill>
        <p:spPr>
          <a:xfrm>
            <a:off x="1042920" y="407664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SDC12285"/>
          <p:cNvPicPr/>
          <p:nvPr/>
        </p:nvPicPr>
        <p:blipFill>
          <a:blip r:embed="rId4"/>
          <a:stretch/>
        </p:blipFill>
        <p:spPr>
          <a:xfrm>
            <a:off x="5219640" y="40053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66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сти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готавливаются аналогично лепесткам. По шаблону на сложенном вдвое и проклеенном прямоугольнике бумаги вырезается ли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SDC12287"/>
          <p:cNvPicPr/>
          <p:nvPr/>
        </p:nvPicPr>
        <p:blipFill>
          <a:blip r:embed="rId1"/>
          <a:stretch/>
        </p:blipFill>
        <p:spPr>
          <a:xfrm>
            <a:off x="2133720" y="203364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бел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Для увеличения длины стебля в противоположный конец ватной палочки вставляем зубочистку (или шашлычную палочку) и обматываем её полоской бумаги зеленого цвет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риклеиваем лис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SDC12286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SDC12290"/>
          <p:cNvPicPr/>
          <p:nvPr/>
        </p:nvPicPr>
        <p:blipFill>
          <a:blip r:embed="rId2"/>
          <a:stretch/>
        </p:blipFill>
        <p:spPr>
          <a:xfrm>
            <a:off x="1042920" y="414972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"/>
          <p:cNvPicPr/>
          <p:nvPr/>
        </p:nvPicPr>
        <p:blipFill>
          <a:blip r:embed="rId3"/>
          <a:stretch/>
        </p:blipFill>
        <p:spPr>
          <a:xfrm>
            <a:off x="4929120" y="1600200"/>
            <a:ext cx="347508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"/>
          <p:cNvPicPr/>
          <p:nvPr/>
        </p:nvPicPr>
        <p:blipFill>
          <a:blip r:embed="rId4"/>
          <a:stretch/>
        </p:blipFill>
        <p:spPr>
          <a:xfrm>
            <a:off x="5076720" y="4149720"/>
            <a:ext cx="3311640" cy="2187720"/>
          </a:xfrm>
          <a:prstGeom prst="rect">
            <a:avLst/>
          </a:prstGeom>
          <a:ln w="0">
            <a:noFill/>
          </a:ln>
        </p:spPr>
      </p:pic>
      <p:sp>
        <p:nvSpPr>
          <p:cNvPr id="75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уемся выращенными ма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3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3887640" cy="3298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SDC12296"/>
          <p:cNvPicPr/>
          <p:nvPr/>
        </p:nvPicPr>
        <p:blipFill>
          <a:blip r:embed="rId2"/>
          <a:stretch/>
        </p:blipFill>
        <p:spPr>
          <a:xfrm>
            <a:off x="4500720" y="2082960"/>
            <a:ext cx="4464000" cy="3348000"/>
          </a:xfrm>
          <a:prstGeom prst="rect">
            <a:avLst/>
          </a:prstGeom>
          <a:ln w="0">
            <a:noFill/>
          </a:ln>
        </p:spPr>
      </p:pic>
      <p:sp>
        <p:nvSpPr>
          <p:cNvPr id="7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9:09:40Z</dcterms:created>
  <dc:creator>Сухарева Екатерина Ивановна</dc:creator>
  <dc:description/>
  <dc:language>en-US</dc:language>
  <cp:lastModifiedBy>user</cp:lastModifiedBy>
  <dcterms:modified xsi:type="dcterms:W3CDTF">2019-01-07T10:22:29Z</dcterms:modified>
  <cp:revision>20</cp:revision>
  <dc:subject/>
  <dc:title>Лепестки</dc:title>
</cp:coreProperties>
</file>