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300-480E-41ED-9B28-45655DB1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B6B-4EA9-4BC4-9883-BB922F27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317-4DC9-4CD5-8FDB-7ACFD684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0D0-E711-42A9-B859-CFFDC1CD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0CF-86CB-40BF-82B0-9E48055A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FEE-A07F-4D5A-A727-A6C31BBA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673-FAC5-4429-B3F3-A68E5E69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79F-FD40-4AC2-8A71-3A027D4C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B03-2708-4219-8A5E-61817D08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C1F-F89E-4607-8884-FF98F1B3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B10-9616-4526-BF40-E1E2ECB0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A02-B44D-4001-9A00-26E6CE80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518A-A63F-4983-A937-1E68C0BAB7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user\Desktop\dT45E85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https://img-fotki.yandex.ru/get/195518/27156178.223/0_1ab8e3_ca77ad2b_X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Прямоугольник 2" descr=""/>
          <p:cNvPicPr/>
          <p:nvPr/>
        </p:nvPicPr>
        <p:blipFill>
          <a:blip r:embed="rId1"/>
          <a:stretch/>
        </p:blipFill>
        <p:spPr>
          <a:xfrm>
            <a:off x="-219240" y="-6480"/>
            <a:ext cx="9369720" cy="6845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2" descr=""/>
          <p:cNvPicPr/>
          <p:nvPr/>
        </p:nvPicPr>
        <p:blipFill>
          <a:blip r:embed="rId1"/>
          <a:stretch/>
        </p:blipFill>
        <p:spPr>
          <a:xfrm>
            <a:off x="-189000" y="-6480"/>
            <a:ext cx="9698040" cy="6443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342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Учебник: стр. 45, упр.5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4.bp.blogspot.com/-aWE5lEWbjoE/VDbRHk0dbdI/AAAAAAAAEBo/xps4KAWesfc/s1600/%D0%B4%D0%BE%D0%BC%2B%D0%B7%D0%B0%D0%B4%D0%B0%D0%BD%D0%B8%D0%B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0" y="0"/>
            <a:ext cx="9144000" cy="578628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0"/>
            <a:ext cx="6929280" cy="15717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2" descr=""/>
          <p:cNvPicPr/>
          <p:nvPr/>
        </p:nvPicPr>
        <p:blipFill>
          <a:blip r:embed="rId1"/>
          <a:stretch/>
        </p:blipFill>
        <p:spPr>
          <a:xfrm>
            <a:off x="-1006560" y="1852560"/>
            <a:ext cx="8444160" cy="1579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4"/>
          <p:cNvSpPr/>
          <p:nvPr/>
        </p:nvSpPr>
        <p:spPr>
          <a:xfrm>
            <a:off x="0" y="0"/>
            <a:ext cx="9144000" cy="578628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0" y="0"/>
            <a:ext cx="6929280" cy="15717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2" descr=""/>
          <p:cNvPicPr/>
          <p:nvPr/>
        </p:nvPicPr>
        <p:blipFill>
          <a:blip r:embed="rId1"/>
          <a:stretch/>
        </p:blipFill>
        <p:spPr>
          <a:xfrm>
            <a:off x="-158760" y="1639800"/>
            <a:ext cx="9588600" cy="2687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4"/>
          <p:cNvSpPr/>
          <p:nvPr/>
        </p:nvSpPr>
        <p:spPr>
          <a:xfrm>
            <a:off x="0" y="0"/>
            <a:ext cx="9144000" cy="578628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0" y="0"/>
            <a:ext cx="6929280" cy="15717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2" descr=""/>
          <p:cNvPicPr/>
          <p:nvPr/>
        </p:nvPicPr>
        <p:blipFill>
          <a:blip r:embed="rId1"/>
          <a:stretch/>
        </p:blipFill>
        <p:spPr>
          <a:xfrm>
            <a:off x="30240" y="1566720"/>
            <a:ext cx="8692920" cy="431028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user\Desktop\dT45E85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s://ds04.infourok.ru/uploads/ex/082c/00021783-f9d61e80/img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user\Desktop\IMG_515911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user\Desktop\IMG_5159111122222222.jpg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"/>
          <p:cNvSpPr/>
          <p:nvPr/>
        </p:nvSpPr>
        <p:spPr>
          <a:xfrm>
            <a:off x="0" y="0"/>
            <a:ext cx="9144000" cy="578628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0" y="0"/>
            <a:ext cx="6929280" cy="15717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2" descr=""/>
          <p:cNvPicPr/>
          <p:nvPr/>
        </p:nvPicPr>
        <p:blipFill>
          <a:blip r:embed="rId1"/>
          <a:stretch/>
        </p:blipFill>
        <p:spPr>
          <a:xfrm>
            <a:off x="-1006560" y="1852560"/>
            <a:ext cx="8444160" cy="1579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4"/>
          <p:cNvSpPr/>
          <p:nvPr/>
        </p:nvSpPr>
        <p:spPr>
          <a:xfrm>
            <a:off x="0" y="0"/>
            <a:ext cx="9144000" cy="578628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0" y="0"/>
            <a:ext cx="6929280" cy="15717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2" descr=""/>
          <p:cNvPicPr/>
          <p:nvPr/>
        </p:nvPicPr>
        <p:blipFill>
          <a:blip r:embed="rId1"/>
          <a:stretch/>
        </p:blipFill>
        <p:spPr>
          <a:xfrm>
            <a:off x="-285840" y="1639800"/>
            <a:ext cx="9863280" cy="2687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0" y="0"/>
            <a:ext cx="9144000" cy="578628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6929280" cy="15717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2" descr=""/>
          <p:cNvPicPr/>
          <p:nvPr/>
        </p:nvPicPr>
        <p:blipFill>
          <a:blip r:embed="rId1"/>
          <a:stretch/>
        </p:blipFill>
        <p:spPr>
          <a:xfrm>
            <a:off x="-865080" y="-6480"/>
            <a:ext cx="8442360" cy="1487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91440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. составить алгоритм пропуска орфограмм слабых позиций;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. научиться работать по алгоритм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2" descr=""/>
          <p:cNvPicPr/>
          <p:nvPr/>
        </p:nvPicPr>
        <p:blipFill>
          <a:blip r:embed="rId1"/>
          <a:stretch/>
        </p:blipFill>
        <p:spPr>
          <a:xfrm>
            <a:off x="-219240" y="-6480"/>
            <a:ext cx="9728280" cy="3151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2" descr=""/>
          <p:cNvPicPr/>
          <p:nvPr/>
        </p:nvPicPr>
        <p:blipFill>
          <a:blip r:embed="rId1"/>
          <a:stretch/>
        </p:blipFill>
        <p:spPr>
          <a:xfrm>
            <a:off x="-219240" y="-6480"/>
            <a:ext cx="9728280" cy="4071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2" descr=""/>
          <p:cNvPicPr/>
          <p:nvPr/>
        </p:nvPicPr>
        <p:blipFill>
          <a:blip r:embed="rId1"/>
          <a:stretch/>
        </p:blipFill>
        <p:spPr>
          <a:xfrm>
            <a:off x="-219240" y="-6480"/>
            <a:ext cx="9728280" cy="5059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5:03:59Z</dcterms:created>
  <dc:creator>Admin</dc:creator>
  <dc:description/>
  <dc:language>en-US</dc:language>
  <cp:lastModifiedBy>user</cp:lastModifiedBy>
  <dcterms:modified xsi:type="dcterms:W3CDTF">2018-10-15T08:49:50Z</dcterms:modified>
  <cp:revision>70</cp:revision>
  <dc:subject/>
  <dc:title>Слайд 1</dc:title>
</cp:coreProperties>
</file>