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D56-3198-4531-BCCB-1FA8AC70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626-1578-4AEC-BA59-300E977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DC7-BF42-4101-8513-307390FC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1BA-4889-4411-A1EA-A6A65F72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1D8-F241-473D-A489-E7CB130C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AA7-9D00-42A1-A59A-43FE820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C80-30CA-4EA0-92F1-FB848E8A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055-6740-484D-882F-574D2FCF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32F-841B-4753-B9E3-B5EA9BE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745-6408-4EC8-9085-1134642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6EE-5AF6-42A4-82EF-52700A4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663-AC10-40D3-B9B2-804B3DB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0E8-A778-43E7-8A8F-3B89FC58E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user\Desktop\dT45E85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s://img-fotki.yandex.ru/get/195518/27156178.223/0_1ab8e3_ca77ad2b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369720" cy="6845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1"/>
          <a:stretch/>
        </p:blipFill>
        <p:spPr>
          <a:xfrm>
            <a:off x="-189000" y="-6480"/>
            <a:ext cx="9698040" cy="6443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42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Учебник: стр. 45, упр.5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4.bp.blogspot.com/-aWE5lEWbjoE/VDbRHk0dbdI/AAAAAAAAEBo/xps4KAWesfc/s1600/%D0%B4%D0%BE%D0%BC%2B%D0%B7%D0%B0%D0%B4%D0%B0%D0%BD%D0%B8%D0%B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-1006560" y="1852560"/>
            <a:ext cx="8444160" cy="1579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-158760" y="1639800"/>
            <a:ext cx="9588600" cy="268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1"/>
          <a:stretch/>
        </p:blipFill>
        <p:spPr>
          <a:xfrm>
            <a:off x="30240" y="1566720"/>
            <a:ext cx="8692920" cy="4310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user\Desktop\dT45E85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ds04.infourok.ru/uploads/ex/082c/00021783-f9d61e80/img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user\Desktop\IMG_515911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IMG_5159111122222222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-1006560" y="1852560"/>
            <a:ext cx="8444160" cy="1579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-285840" y="1639800"/>
            <a:ext cx="9863280" cy="2687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0" y="0"/>
            <a:ext cx="9144000" cy="57862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6929280" cy="15717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-865080" y="-6480"/>
            <a:ext cx="8442360" cy="1487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91440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. составить алгоритм пропуска орфограмм слабых позиций;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. научиться работать по алгорит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728280" cy="3151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728280" cy="4071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728280" cy="5059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857840" y="457200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03:59Z</dcterms:created>
  <dc:creator>Admin</dc:creator>
  <dc:description/>
  <dc:language>en-US</dc:language>
  <cp:lastModifiedBy>user</cp:lastModifiedBy>
  <dcterms:modified xsi:type="dcterms:W3CDTF">2018-10-15T08:49:50Z</dcterms:modified>
  <cp:revision>70</cp:revision>
  <dc:subject/>
  <dc:title>Слайд 1</dc:title>
</cp:coreProperties>
</file>