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780-6FA1-457E-8343-D8585A48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02B-28C9-4BA1-8239-79927867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76D-8BA9-4A8E-ABF7-E4702CF8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4442-3257-412A-AD30-3B640328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7D1D-16A7-4EE0-89B1-2BDADC69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3B78-CF7F-4DCF-83DE-A9739035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8BED-1BB0-4A69-A115-09D16367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6AB8-63B6-4B58-9835-D115A141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DB01-F4B7-4D9B-9D3C-F855E603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6F62-96B9-43AC-9596-D004B38B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ADD3-68FF-4A84-B014-372A96B9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020-3AEE-4E0F-BFFC-8B73D6D8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12E0-00E6-42FE-891C-235AA15D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714D-10B7-4723-9DF5-061A6FF5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C2C7-C943-4463-9B09-72791DD2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6087-2D92-4F03-9C45-BBC3BD25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3CF5-E0F8-451F-9BFF-55ABF88C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023-FF52-456A-8167-351649C0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45C-8EBB-4485-89DF-BDC0D993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D4A7-3545-4118-995B-5A7378B1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8B08-7297-4F15-A856-0AA70BB3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7278-0F5C-45D6-9853-4E61305D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113-B970-4133-8157-314B20EF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0E51-6B4F-4D62-954D-3B5826BD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1FA1-C90A-4836-99EE-4EB513FD5B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EB11-4D04-48FE-B6C1-069142E5396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резентация на тему: Алексей Рязанцев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лексей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2" name="Picture 4" descr="ryazancev_ryzan_af_s"/>
          <p:cNvPicPr/>
          <p:nvPr/>
        </p:nvPicPr>
        <p:blipFill>
          <a:blip r:embed="rId1"/>
          <a:stretch/>
        </p:blipFill>
        <p:spPr>
          <a:xfrm>
            <a:off x="179280" y="1268280"/>
            <a:ext cx="4464000" cy="4969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867280" y="213372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7" descr="images"/>
          <p:cNvPicPr/>
          <p:nvPr/>
        </p:nvPicPr>
        <p:blipFill>
          <a:blip r:embed="rId2"/>
          <a:stretch/>
        </p:blipFill>
        <p:spPr>
          <a:xfrm>
            <a:off x="5219640" y="1268280"/>
            <a:ext cx="34434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ликая Отечественная война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Picture 4" descr="3"/>
          <p:cNvPicPr/>
          <p:nvPr/>
        </p:nvPicPr>
        <p:blipFill>
          <a:blip r:embed="rId1"/>
          <a:stretch/>
        </p:blipFill>
        <p:spPr>
          <a:xfrm>
            <a:off x="324000" y="2060640"/>
            <a:ext cx="2462040" cy="3887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5003640" y="371628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1"/>
          <p:cNvPicPr/>
          <p:nvPr/>
        </p:nvPicPr>
        <p:blipFill>
          <a:blip r:embed="rId2"/>
          <a:stretch/>
        </p:blipFill>
        <p:spPr>
          <a:xfrm>
            <a:off x="4356000" y="1989000"/>
            <a:ext cx="41054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оздушные бо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4" descr="12"/>
          <p:cNvPicPr/>
          <p:nvPr/>
        </p:nvPicPr>
        <p:blipFill>
          <a:blip r:embed="rId1"/>
          <a:stretch/>
        </p:blipFill>
        <p:spPr>
          <a:xfrm>
            <a:off x="611280" y="907920"/>
            <a:ext cx="2197080" cy="309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2"/>
          <p:cNvPicPr/>
          <p:nvPr/>
        </p:nvPicPr>
        <p:blipFill>
          <a:blip r:embed="rId2"/>
          <a:stretch/>
        </p:blipFill>
        <p:spPr>
          <a:xfrm>
            <a:off x="324000" y="4352760"/>
            <a:ext cx="2935080" cy="2505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5292720" y="234936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4067280" y="198900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10" descr="lagg-03"/>
          <p:cNvPicPr/>
          <p:nvPr/>
        </p:nvPicPr>
        <p:blipFill>
          <a:blip r:embed="rId3"/>
          <a:stretch/>
        </p:blipFill>
        <p:spPr>
          <a:xfrm>
            <a:off x="3492360" y="1844640"/>
            <a:ext cx="5403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грады Алексе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4" descr="7"/>
          <p:cNvPicPr/>
          <p:nvPr/>
        </p:nvPicPr>
        <p:blipFill>
          <a:blip r:embed="rId1"/>
          <a:stretch/>
        </p:blipFill>
        <p:spPr>
          <a:xfrm>
            <a:off x="250920" y="1628640"/>
            <a:ext cx="1160280" cy="2303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0"/>
          <p:cNvPicPr/>
          <p:nvPr/>
        </p:nvPicPr>
        <p:blipFill>
          <a:blip r:embed="rId2"/>
          <a:stretch/>
        </p:blipFill>
        <p:spPr>
          <a:xfrm>
            <a:off x="7093080" y="1484280"/>
            <a:ext cx="1703160" cy="266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9"/>
          <p:cNvPicPr/>
          <p:nvPr/>
        </p:nvPicPr>
        <p:blipFill>
          <a:blip r:embed="rId3"/>
          <a:stretch/>
        </p:blipFill>
        <p:spPr>
          <a:xfrm>
            <a:off x="2627280" y="4437000"/>
            <a:ext cx="1166760" cy="20620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2916360" y="191628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1332000" y="602136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3203640" y="508464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13" descr="8"/>
          <p:cNvPicPr/>
          <p:nvPr/>
        </p:nvPicPr>
        <p:blipFill>
          <a:blip r:embed="rId4"/>
          <a:stretch/>
        </p:blipFill>
        <p:spPr>
          <a:xfrm>
            <a:off x="4572000" y="4508640"/>
            <a:ext cx="1411200" cy="1944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5"/>
          <p:cNvSpPr/>
          <p:nvPr/>
        </p:nvSpPr>
        <p:spPr>
          <a:xfrm>
            <a:off x="4788000" y="350028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6" descr="cf1a6289f2b276318f1a5e8a4af_prev"/>
          <p:cNvPicPr/>
          <p:nvPr/>
        </p:nvPicPr>
        <p:blipFill>
          <a:blip r:embed="rId5"/>
          <a:stretch/>
        </p:blipFill>
        <p:spPr>
          <a:xfrm>
            <a:off x="1979640" y="1197000"/>
            <a:ext cx="44654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3-16T04:26:49Z</dcterms:modified>
  <cp:revision>4</cp:revision>
  <dc:subject/>
  <dc:title>PowerPoint Presentation</dc:title>
</cp:coreProperties>
</file>