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E82-478A-4D3F-BFFA-28252B51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1E8-E33F-4059-9D87-7BBF3795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8B1-678A-43E9-A542-670469B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3A9-4DA6-40A5-AE4A-D1A85F51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FBC-EEF3-4BBE-9E92-5E9A2D8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D088-AEA4-4577-8709-FB169F8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870-663E-4FB2-8CE1-A8CCF25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CE49-B936-46EC-8DB9-72F06EDA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691-0F11-4FBE-8BA8-4C2C7FC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545F-4C5B-471C-996C-D765151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14B-7DBD-4504-9CA6-B72A501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403-14FC-4DAC-9231-68B46C73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BA8-3F00-4F64-BA3E-692C18A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378A-EEAF-44F8-BF75-917C70A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D44-B8EA-40A7-BB33-CF91FD6A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A9A-3007-4502-B94F-2DDEB86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E862-41CA-4B9A-88E8-6F203AC7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4DB-0148-41AF-B3BF-D896A74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D53-263A-4967-800C-37D1D42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8ED-5893-4BD4-B0CE-4CAB6EE6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F9D-19E2-4F0D-A996-B09942CD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677-E557-4AB1-8744-6C5D951A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BC1-7365-4AF8-BEE1-FED62C8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746-3196-4944-9E61-6AC9BC8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70F-2FC5-4A9C-90D7-CD92839319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8F8-1B19-412B-B57A-F1667ABCF9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езентация на тему: Алексей Рязанцев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ексе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4" descr="ryazancev_ryzan_af_s"/>
          <p:cNvPicPr/>
          <p:nvPr/>
        </p:nvPicPr>
        <p:blipFill>
          <a:blip r:embed="rId1"/>
          <a:stretch/>
        </p:blipFill>
        <p:spPr>
          <a:xfrm>
            <a:off x="179280" y="1268280"/>
            <a:ext cx="446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867280" y="2133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2"/>
          <a:stretch/>
        </p:blipFill>
        <p:spPr>
          <a:xfrm>
            <a:off x="5219640" y="1268280"/>
            <a:ext cx="344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ликая Отечественная войн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3"/>
          <p:cNvPicPr/>
          <p:nvPr/>
        </p:nvPicPr>
        <p:blipFill>
          <a:blip r:embed="rId1"/>
          <a:stretch/>
        </p:blipFill>
        <p:spPr>
          <a:xfrm>
            <a:off x="324000" y="2060640"/>
            <a:ext cx="246204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003640" y="3716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1"/>
          <p:cNvPicPr/>
          <p:nvPr/>
        </p:nvPicPr>
        <p:blipFill>
          <a:blip r:embed="rId2"/>
          <a:stretch/>
        </p:blipFill>
        <p:spPr>
          <a:xfrm>
            <a:off x="4356000" y="1989000"/>
            <a:ext cx="4105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душные бо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12"/>
          <p:cNvPicPr/>
          <p:nvPr/>
        </p:nvPicPr>
        <p:blipFill>
          <a:blip r:embed="rId1"/>
          <a:stretch/>
        </p:blipFill>
        <p:spPr>
          <a:xfrm>
            <a:off x="611280" y="907920"/>
            <a:ext cx="21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"/>
          <p:cNvPicPr/>
          <p:nvPr/>
        </p:nvPicPr>
        <p:blipFill>
          <a:blip r:embed="rId2"/>
          <a:stretch/>
        </p:blipFill>
        <p:spPr>
          <a:xfrm>
            <a:off x="324000" y="4352760"/>
            <a:ext cx="2935080" cy="2505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292720" y="2349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67280" y="198900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0" descr="lagg-03"/>
          <p:cNvPicPr/>
          <p:nvPr/>
        </p:nvPicPr>
        <p:blipFill>
          <a:blip r:embed="rId3"/>
          <a:stretch/>
        </p:blipFill>
        <p:spPr>
          <a:xfrm>
            <a:off x="3492360" y="1844640"/>
            <a:ext cx="540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грады Алексе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250920" y="1628640"/>
            <a:ext cx="1160280" cy="230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"/>
          <p:cNvPicPr/>
          <p:nvPr/>
        </p:nvPicPr>
        <p:blipFill>
          <a:blip r:embed="rId2"/>
          <a:stretch/>
        </p:blipFill>
        <p:spPr>
          <a:xfrm>
            <a:off x="7093080" y="1484280"/>
            <a:ext cx="1703160" cy="266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9"/>
          <p:cNvPicPr/>
          <p:nvPr/>
        </p:nvPicPr>
        <p:blipFill>
          <a:blip r:embed="rId3"/>
          <a:stretch/>
        </p:blipFill>
        <p:spPr>
          <a:xfrm>
            <a:off x="2627280" y="4437000"/>
            <a:ext cx="1166760" cy="2062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16360" y="1916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32000" y="602136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203640" y="5084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3" descr="8"/>
          <p:cNvPicPr/>
          <p:nvPr/>
        </p:nvPicPr>
        <p:blipFill>
          <a:blip r:embed="rId4"/>
          <a:stretch/>
        </p:blipFill>
        <p:spPr>
          <a:xfrm>
            <a:off x="4572000" y="4508640"/>
            <a:ext cx="1411200" cy="1944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4788000" y="3500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cf1a6289f2b276318f1a5e8a4af_prev"/>
          <p:cNvPicPr/>
          <p:nvPr/>
        </p:nvPicPr>
        <p:blipFill>
          <a:blip r:embed="rId5"/>
          <a:stretch/>
        </p:blipFill>
        <p:spPr>
          <a:xfrm>
            <a:off x="1979640" y="1197000"/>
            <a:ext cx="4465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16T04:26:49Z</dcterms:modified>
  <cp:revision>4</cp:revision>
  <dc:subject/>
  <dc:title>PowerPoint Presentation</dc:title>
</cp:coreProperties>
</file>