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BAF-AC0F-4163-8CB2-AB5E0180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D3A-4A00-4834-AA45-5CA22C9F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6A1-591A-408B-B906-CC541FD5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0A5-3D6E-49C2-A147-CF996CFC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781C-42E1-4FB9-A4DD-5ED4D40D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AF08-16B4-413C-9DE0-E1E70D6C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AC21-02F8-449F-994C-6498B118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99C9-5008-4DA1-BE43-FDC3F67D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DADC-AA13-4661-8F67-C0E4370B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4D86-9DCC-44A1-83E3-DB1AEE6F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6B2D-91FD-414B-8F08-A3343D33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10C-588A-43D1-9F7C-F2CADCFB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448A-55AB-4104-84F2-F55BEC4D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46F1-B8F8-448E-AB53-448DC98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0D73-6524-497A-9B60-004C074E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31BC-5839-49A8-9A68-88F47CAD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844C-9E96-461C-ABE2-F1803CFE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608-1CEC-42AB-9E2A-A2D19A98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35F-8B8E-4846-97F0-38B70C5E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604-938C-4CA2-992E-98A320A7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C92-E661-4CAC-8200-CC50998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D24-88F5-41B4-802A-984403AE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BDA-004B-4E28-8E54-2CEC8AD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4FB-4729-4A3D-A267-D9DFDC7B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5802-F38A-4C41-A4A1-8EAA7DC0C0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80E5-A07C-4848-B3B4-727D5517F4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езентация на тему: Алексей Рязанцев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ексей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ryazancev_ryzan_af_s"/>
          <p:cNvPicPr/>
          <p:nvPr/>
        </p:nvPicPr>
        <p:blipFill>
          <a:blip r:embed="rId1"/>
          <a:stretch/>
        </p:blipFill>
        <p:spPr>
          <a:xfrm>
            <a:off x="179280" y="1268280"/>
            <a:ext cx="4464000" cy="496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867280" y="21337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images"/>
          <p:cNvPicPr/>
          <p:nvPr/>
        </p:nvPicPr>
        <p:blipFill>
          <a:blip r:embed="rId2"/>
          <a:stretch/>
        </p:blipFill>
        <p:spPr>
          <a:xfrm>
            <a:off x="5219640" y="1268280"/>
            <a:ext cx="3443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ликая Отечественная войн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3"/>
          <p:cNvPicPr/>
          <p:nvPr/>
        </p:nvPicPr>
        <p:blipFill>
          <a:blip r:embed="rId1"/>
          <a:stretch/>
        </p:blipFill>
        <p:spPr>
          <a:xfrm>
            <a:off x="324000" y="2060640"/>
            <a:ext cx="2462040" cy="388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003640" y="3716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1"/>
          <p:cNvPicPr/>
          <p:nvPr/>
        </p:nvPicPr>
        <p:blipFill>
          <a:blip r:embed="rId2"/>
          <a:stretch/>
        </p:blipFill>
        <p:spPr>
          <a:xfrm>
            <a:off x="4356000" y="1989000"/>
            <a:ext cx="4105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здушные бо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12"/>
          <p:cNvPicPr/>
          <p:nvPr/>
        </p:nvPicPr>
        <p:blipFill>
          <a:blip r:embed="rId1"/>
          <a:stretch/>
        </p:blipFill>
        <p:spPr>
          <a:xfrm>
            <a:off x="611280" y="907920"/>
            <a:ext cx="219708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"/>
          <p:cNvPicPr/>
          <p:nvPr/>
        </p:nvPicPr>
        <p:blipFill>
          <a:blip r:embed="rId2"/>
          <a:stretch/>
        </p:blipFill>
        <p:spPr>
          <a:xfrm>
            <a:off x="324000" y="4352760"/>
            <a:ext cx="2935080" cy="2505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292720" y="234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067280" y="198900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0" descr="lagg-03"/>
          <p:cNvPicPr/>
          <p:nvPr/>
        </p:nvPicPr>
        <p:blipFill>
          <a:blip r:embed="rId3"/>
          <a:stretch/>
        </p:blipFill>
        <p:spPr>
          <a:xfrm>
            <a:off x="3492360" y="1844640"/>
            <a:ext cx="540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грады Алексе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7"/>
          <p:cNvPicPr/>
          <p:nvPr/>
        </p:nvPicPr>
        <p:blipFill>
          <a:blip r:embed="rId1"/>
          <a:stretch/>
        </p:blipFill>
        <p:spPr>
          <a:xfrm>
            <a:off x="250920" y="1628640"/>
            <a:ext cx="1160280" cy="230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"/>
          <p:cNvPicPr/>
          <p:nvPr/>
        </p:nvPicPr>
        <p:blipFill>
          <a:blip r:embed="rId2"/>
          <a:stretch/>
        </p:blipFill>
        <p:spPr>
          <a:xfrm>
            <a:off x="7093080" y="1484280"/>
            <a:ext cx="1703160" cy="266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9"/>
          <p:cNvPicPr/>
          <p:nvPr/>
        </p:nvPicPr>
        <p:blipFill>
          <a:blip r:embed="rId3"/>
          <a:stretch/>
        </p:blipFill>
        <p:spPr>
          <a:xfrm>
            <a:off x="2627280" y="4437000"/>
            <a:ext cx="1166760" cy="2062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916360" y="1916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332000" y="602136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203640" y="5084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3" descr="8"/>
          <p:cNvPicPr/>
          <p:nvPr/>
        </p:nvPicPr>
        <p:blipFill>
          <a:blip r:embed="rId4"/>
          <a:stretch/>
        </p:blipFill>
        <p:spPr>
          <a:xfrm>
            <a:off x="4572000" y="4508640"/>
            <a:ext cx="1411200" cy="1944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4788000" y="3500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cf1a6289f2b276318f1a5e8a4af_prev"/>
          <p:cNvPicPr/>
          <p:nvPr/>
        </p:nvPicPr>
        <p:blipFill>
          <a:blip r:embed="rId5"/>
          <a:stretch/>
        </p:blipFill>
        <p:spPr>
          <a:xfrm>
            <a:off x="1979640" y="1197000"/>
            <a:ext cx="4465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16T04:26:49Z</dcterms:modified>
  <cp:revision>4</cp:revision>
  <dc:subject/>
  <dc:title>PowerPoint Presentation</dc:title>
</cp:coreProperties>
</file>