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7701-6260-4395-A57D-CED4343E3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9923-67A4-4389-8EE2-6A0579DC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55D2-9DF2-4162-995B-18C71D35B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813B-0015-41BB-99C9-C6DCD5EFE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6D63F-73F1-4A96-A83B-B6C42EEDC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2F8C-ACAD-4D3B-9A19-4BB83388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AD11-3574-4355-B925-61117853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599C-62CC-4883-BE77-C7FE7D9E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E4D66-C969-4F7E-A4C5-734AA23F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A5E4-95BE-43B3-992D-E40F0171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E4C16-7CAF-4A82-85A7-486DBB0A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AD7A-4389-441C-AE7C-56A554EB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1FBC-8D8D-4B1B-8FBD-46B44BA1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F7E2-D7B5-4A07-A3F1-42BEFEDA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9F98-86CC-4DFC-8009-E88399BB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07B1C-7915-492E-9E99-79BA835FD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F434-7162-4A25-AB90-441680F8E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B708-A6C2-43C4-A6F5-80877A9E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F3AC-826F-4ABA-90DD-CD1F0A54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6EB4-92A8-4665-B043-58B8EE29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D474-D0BC-4D9E-A31E-D820197F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3ED6-62DC-4F94-97DF-D2183C42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84E0-2556-4861-9700-A0421428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8761-4E5C-4955-89A9-8C307208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9A52-71B4-4884-A881-79A28EBE6D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141C-B2D6-4BD1-A1D5-F7E11F389ED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Презентация на тему: Алексей Рязанцев.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Алексей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2" name="Picture 4" descr="ryazancev_ryzan_af_s"/>
          <p:cNvPicPr/>
          <p:nvPr/>
        </p:nvPicPr>
        <p:blipFill>
          <a:blip r:embed="rId1"/>
          <a:stretch/>
        </p:blipFill>
        <p:spPr>
          <a:xfrm>
            <a:off x="179280" y="1268280"/>
            <a:ext cx="4464000" cy="49690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5867280" y="213372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7" descr="images"/>
          <p:cNvPicPr/>
          <p:nvPr/>
        </p:nvPicPr>
        <p:blipFill>
          <a:blip r:embed="rId2"/>
          <a:stretch/>
        </p:blipFill>
        <p:spPr>
          <a:xfrm>
            <a:off x="5219640" y="1268280"/>
            <a:ext cx="34434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еликая Отечественная война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6" name="Picture 4" descr="3"/>
          <p:cNvPicPr/>
          <p:nvPr/>
        </p:nvPicPr>
        <p:blipFill>
          <a:blip r:embed="rId1"/>
          <a:stretch/>
        </p:blipFill>
        <p:spPr>
          <a:xfrm>
            <a:off x="324000" y="2060640"/>
            <a:ext cx="2462040" cy="38876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5003640" y="3716280"/>
            <a:ext cx="7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8" descr="1"/>
          <p:cNvPicPr/>
          <p:nvPr/>
        </p:nvPicPr>
        <p:blipFill>
          <a:blip r:embed="rId2"/>
          <a:stretch/>
        </p:blipFill>
        <p:spPr>
          <a:xfrm>
            <a:off x="4356000" y="1989000"/>
            <a:ext cx="410544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500"/>
                            </p:stCondLst>
                            <p:childTnLst>
                              <p:par>
                                <p:cTn id="5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оздушные бои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Picture 4" descr="12"/>
          <p:cNvPicPr/>
          <p:nvPr/>
        </p:nvPicPr>
        <p:blipFill>
          <a:blip r:embed="rId1"/>
          <a:stretch/>
        </p:blipFill>
        <p:spPr>
          <a:xfrm>
            <a:off x="611280" y="907920"/>
            <a:ext cx="2197080" cy="3095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2"/>
          <p:cNvPicPr/>
          <p:nvPr/>
        </p:nvPicPr>
        <p:blipFill>
          <a:blip r:embed="rId2"/>
          <a:stretch/>
        </p:blipFill>
        <p:spPr>
          <a:xfrm>
            <a:off x="324000" y="4352760"/>
            <a:ext cx="2935080" cy="25052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5292720" y="234936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4067280" y="1989000"/>
            <a:ext cx="122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10" descr="lagg-03"/>
          <p:cNvPicPr/>
          <p:nvPr/>
        </p:nvPicPr>
        <p:blipFill>
          <a:blip r:embed="rId3"/>
          <a:stretch/>
        </p:blipFill>
        <p:spPr>
          <a:xfrm>
            <a:off x="3492360" y="1844640"/>
            <a:ext cx="54039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77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770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500"/>
                            </p:stCondLst>
                            <p:childTnLst>
                              <p:par>
                                <p:cTn id="8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Награды Алексея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6" name="Picture 4" descr="7"/>
          <p:cNvPicPr/>
          <p:nvPr/>
        </p:nvPicPr>
        <p:blipFill>
          <a:blip r:embed="rId1"/>
          <a:stretch/>
        </p:blipFill>
        <p:spPr>
          <a:xfrm>
            <a:off x="250920" y="1628640"/>
            <a:ext cx="1160280" cy="2303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0"/>
          <p:cNvPicPr/>
          <p:nvPr/>
        </p:nvPicPr>
        <p:blipFill>
          <a:blip r:embed="rId2"/>
          <a:stretch/>
        </p:blipFill>
        <p:spPr>
          <a:xfrm>
            <a:off x="7093080" y="1484280"/>
            <a:ext cx="1703160" cy="2664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9"/>
          <p:cNvPicPr/>
          <p:nvPr/>
        </p:nvPicPr>
        <p:blipFill>
          <a:blip r:embed="rId3"/>
          <a:stretch/>
        </p:blipFill>
        <p:spPr>
          <a:xfrm>
            <a:off x="2627280" y="4437000"/>
            <a:ext cx="1166760" cy="20620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2916360" y="1916280"/>
            <a:ext cx="151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1332000" y="6021360"/>
            <a:ext cx="17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3203640" y="508464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13" descr="8"/>
          <p:cNvPicPr/>
          <p:nvPr/>
        </p:nvPicPr>
        <p:blipFill>
          <a:blip r:embed="rId4"/>
          <a:stretch/>
        </p:blipFill>
        <p:spPr>
          <a:xfrm>
            <a:off x="4572000" y="4508640"/>
            <a:ext cx="1411200" cy="19447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5"/>
          <p:cNvSpPr/>
          <p:nvPr/>
        </p:nvSpPr>
        <p:spPr>
          <a:xfrm>
            <a:off x="4788000" y="350028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16" descr="cf1a6289f2b276318f1a5e8a4af_prev"/>
          <p:cNvPicPr/>
          <p:nvPr/>
        </p:nvPicPr>
        <p:blipFill>
          <a:blip r:embed="rId5"/>
          <a:stretch/>
        </p:blipFill>
        <p:spPr>
          <a:xfrm>
            <a:off x="1979640" y="1197000"/>
            <a:ext cx="446544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7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70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77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770" fill="hold"/>
                                        <p:tgtEl>
                                          <p:spTgt spid="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8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0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пасибо за внимание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5-03-16T04:26:49Z</dcterms:modified>
  <cp:revision>4</cp:revision>
  <dc:subject/>
  <dc:title>PowerPoint Presentation</dc:title>
</cp:coreProperties>
</file>