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31B-F6AD-4A9F-AC21-E4C2ECFB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886-DC43-491B-BA68-0B865EAE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EA2-757A-4680-828E-860D74E4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210-2648-4310-B2D4-32C2D9A2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D821-EB51-4EAD-B41B-3CA4C549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5615-28DC-4719-B275-6BD3BA71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11F0-9302-4015-956D-7E69CF0A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A92D-B3FD-453E-9D6D-64B5B702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AAA2-98F2-48C8-AA54-BC1AF953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41EE-EB1F-4ADB-96F4-B7D64003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DE91-352D-46F5-BC24-E25909B3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552-E8AF-4E70-AE12-EFABEAC0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1956-DD9B-404F-9FF4-E9707527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B3DA-6604-4EC7-9B8F-D2C21784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5760-8340-4A5B-B549-F321DA8A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1ED7-EB12-415D-8037-241169B2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273C-B1D0-49B0-BDFB-1872B62B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65D-F372-4D7C-AEDF-401D67EE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594-7F57-4211-899B-BA567CFD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DAD-1141-41DA-A01B-CBB5B644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ADA2-0AE6-4669-8D43-C852F3C2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A17-D88B-4258-BF02-F87258E3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4695-B76F-4C21-8810-18C68ADD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65E-425F-49CC-A18E-4196E8EE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12FE1F-CAD1-4863-8863-6D9287C8691F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09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3C2B79-64BD-4976-BF63-7B7B28B6382D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935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ынок труда. </a:t>
            </a: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амые востребованные профессии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80720" y="159984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Прогнозы специалис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7. Логисти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Логистика - теория и практика управления материальными и информационными потоками в процессе товародвижения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фессия логиста подходит тем, кто тяготится в работе жесткими рамками, не любит шаблонов и заданных ограничений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исту понадобятся аналитический ум и системное мышление, интуиция, умение быстро находить выход из сложных ситуаций, навыки общения с людьми, коммуникабель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52320" y="277920"/>
            <a:ext cx="2514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8. Эколог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вредных выбросов в атмосферу ставят проблемы экологии на одно из первых мест в будущем глобальном ми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ость эколога будет требовать знания физики, химии и биологии, навыков компьютерного моделирования, проходящих в природе проце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фессия эколога станет одной из важнейших и самых востребованных профессий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52360"/>
            <a:ext cx="86104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9. Медицинские специальности, связанные с поиском средств продления жизни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также понятно и то, что и через десятилетие это будут еще очень дорогие технолог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ицина успешно использует достижения в области электроники, биотехнологий, которые сегодня только еще создаются, исследуются, а через 10 лет, наверняка, войдут в практику, станут привычным в медицине д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62520" y="3728880"/>
            <a:ext cx="5181480" cy="31291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76720" y="380520"/>
            <a:ext cx="259056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10. Хим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исты в области химии будут особенно востребованы в сфере энерге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2016 г. разработки и исследования в области альтернативных, экологически чистых источников энергии достигнут своего пика и без химиков здесь будет совсем не обойтис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86200" y="3571920"/>
            <a:ext cx="525780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15192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ознакомится с мнениями  и  прогнозами ведущих социологов , прогнозирующих  востребованность тех или иных профессий  в ближайшие 50 л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- систематизировать знания , полученные с различных сайтов, описывающих значение тех или  професс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- определить причину и направление в силу которого будет популярна та или иная професс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овременный бизнес предъявляет высокие требования и поэтому для успешного развития карьеры вам почти наверняка потребуется знание иностранного языка и уверенное владение компьютером на уровне пользователя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277560"/>
            <a:ext cx="624852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1. Инженерные специальности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прогнозам специалистов на лидирующие позиции выйдут инженерные специальности, связанные с промышленным производств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 будет цениться сочетание техничес- кого и экономического или юридического образования, знание английского или любого другого европейского язы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15000" y="4381560"/>
            <a:ext cx="300996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1960" y="277560"/>
            <a:ext cx="47242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IT-специалист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ист - это специалист, создающий и отлаживающий программное обеспечение и поддерживающий его работоспособ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б-дизайнер - одна из самых высокооплачиваемых «компьютерных» професс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ие компании готовы заплатить немалые деньги, лишь бы на них обратили внимание пользователи Интерн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657600" cy="3276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2320" y="277920"/>
            <a:ext cx="457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3. Нанотехнолог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нотехнологии - это технологии, основанные на работе с молекулами и атомами, это технологии, использующие наиболее скрытые и ценные свойства вещ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нотехнологии - это огромная сфера, которую можно разделить на три части: производство микросхем, роботов в наноразмерах, а также инженерия на атомном уров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нотехнологии охватят все сферы: машиностроение, космические технологии, пищевую промышленность, медицину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609588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137880"/>
            <a:ext cx="647676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4. Специальности на стыке электроники и биотехнологий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технологии - технологии, использующие биологические системы и их элемен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технологии довольно широко применяются в сельском хозяйстве, где с помощью генной инженерии и методов микробиологии получают генно-модифицированные продукт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технологии используются в молекулярной медицине, в биофармацевтических производствах и в других отрасл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24280" y="4114800"/>
            <a:ext cx="441972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4067280"/>
            <a:ext cx="4762440" cy="2790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5. Маркетинг и продаж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етолог - это, прежде всего, стратег компани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о маркетолога - руководить системой, ориентированной на производство разнообразных благ и удовлетворение интересов производителей и потребител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проводит исследование рынка, планирует ассортимент и объемы продукции, определяет цены, стимулирует сбы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19520" y="3772080"/>
            <a:ext cx="594360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66760"/>
            <a:ext cx="79250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6. Специальности, связанные с сервисом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ос на профессии сферы обслуживания будет ежегодно возрастать, при этом темпы роста потребности в профессиях сферы обслуживания будут опережать темпы роста потребностей в других востребованных профессиях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67080" y="3657600"/>
            <a:ext cx="4876920" cy="3200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</cp:lastModifiedBy>
  <dcterms:modified xsi:type="dcterms:W3CDTF">2012-04-05T06:10:0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