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8D5F-F389-4606-8C1A-F66E8252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8BC7-D8B3-4CBF-A164-8C442904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6CB-692C-49EC-86E8-B90BF312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C32F-18C7-4AAA-A7FD-31A361AB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DA42-2AED-4AE8-8EB7-E8A363B3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B7E4-1F30-4A08-83F2-ED1BAD67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21E6-2D4C-4F85-9F3C-570D84AA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53F6-CCA7-48B4-8D19-40F4B656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BF39-DCC5-42C8-8E48-71B424EC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0CD7-DCFB-443A-A5D8-A988EB30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149B-3603-4DCB-8707-5BF4C39E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B678-C33C-4EA5-8571-A0F5B054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D2DE-5CA2-4615-AD35-969754E6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BB05-CAEA-454A-A306-D4B4A36E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C604-2D9A-4476-9118-4D8A7BAF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1D54-C667-49AB-A499-77F28FFF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BC17-5613-4399-8E7D-D7F22938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33B-7607-48DB-A6FD-3706BD52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856-22D7-451A-BBA4-FE9FDFBB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A15-26AF-4652-8182-4E9415D9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D917-0E8B-4D17-BA71-E54FEF1D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5536-E5BC-4F88-BE3D-25F06167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D18E-746C-4C8A-B348-F113A80B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B649-4E8A-44D8-84D6-4253FFB5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A0180B-B225-45BA-856E-422D68ACD9D6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09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DEA2CB7-F348-497E-96BD-B7E635226711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935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ынок труда. </a:t>
            </a: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амые востребованные профессии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80720" y="1599840"/>
            <a:ext cx="5257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Прогнозы специалис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34340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Times New Roman"/>
              </a:rPr>
              <a:t>7. Логисти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Логистика - теория и практика управления материальными и информационными потоками в процессе товародвижения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фессия логиста подходит тем, кто тяготится в работе жесткими рамками, не любит шаблонов и заданных ограничений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гисту понадобятся аналитический ум и системное мышление, интуиция, умение быстро находить выход из сложных ситуаций, навыки общения с людьми, коммуникабель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52320" y="277920"/>
            <a:ext cx="2514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Times New Roman"/>
              </a:rPr>
              <a:t>8. Экология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т вредных выбросов в атмосферу ставят проблемы экологии на одно из первых мест в будущем глобальном мир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ость эколога будет требовать знания физики, химии и биологии, навыков компьютерного моделирования, проходящих в природе процес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фессия эколога станет одной из важнейших и самых востребованных профессий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252360"/>
            <a:ext cx="86104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Times New Roman"/>
              </a:rPr>
              <a:t>9. Медицинские специальности, связанные с поиском средств продления жизни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также понятно и то, что и через десятилетие это будут еще очень дорогие технолог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ицина успешно использует достижения в области электроники, биотехнологий, которые сегодня только еще создаются, исследуются, а через 10 лет, наверняка, войдут в практику, станут привычным в медицине д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62520" y="3728880"/>
            <a:ext cx="5181480" cy="31291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76720" y="380520"/>
            <a:ext cx="259056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Times New Roman"/>
              </a:rPr>
              <a:t>10. Химия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исты в области химии будут особенно востребованы в сфере энергет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2016 г. разработки и исследования в области альтернативных, экологически чистых источников энергии достигнут своего пика и без химиков здесь будет совсем не обойтис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86200" y="3571920"/>
            <a:ext cx="525780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360" y="151920"/>
            <a:ext cx="8915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ознакомится с мнениями  и  прогнозами ведущих социологов , прогнозирующих  востребованность тех или иных профессий  в ближайшие 50 л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- систематизировать знания , полученные с различных сайтов, описывающих значение тех или  професс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- определить причину и направление в силу которого будет популярна та или иная професс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овременный бизнес предъявляет высокие требования и поэтому для успешного развития карьеры вам почти наверняка потребуется знание иностранного языка и уверенное владение компьютером на уровне пользователя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520" y="277560"/>
            <a:ext cx="624852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Times New Roman"/>
              </a:rPr>
              <a:t>1. Инженерные специальности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прогнозам специалистов на лидирующие позиции выйдут инженерные специальности, связанные с промышленным производств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енно будет цениться сочетание техничес- кого и экономического или юридического образования, знание английского или любого другого европейского язы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15000" y="4381560"/>
            <a:ext cx="300996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61960" y="277560"/>
            <a:ext cx="472428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IT-специалисты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ист - это специалист, создающий и отлаживающий программное обеспечение и поддерживающий его работоспособ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б-дизайнер - одна из самых высокооплачиваемых «компьютерных» професс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ие компании готовы заплатить немалые деньги, лишь бы на них обратили внимание пользователи Интерн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3657600" cy="3276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2320" y="277920"/>
            <a:ext cx="457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Times New Roman"/>
              </a:rPr>
              <a:t>3. Нанотехнолог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нотехнологии - это технологии, основанные на работе с молекулами и атомами, это технологии, использующие наиболее скрытые и ценные свойства веще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нотехнологии - это огромная сфера, которую можно разделить на три части: производство микросхем, роботов в наноразмерах, а также инженерия на атомном уровн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нотехнологии охватят все сферы: машиностроение, космические технологии, пищевую промышленность, медицину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8120" y="3962520"/>
            <a:ext cx="609588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137880"/>
            <a:ext cx="647676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Times New Roman"/>
              </a:rPr>
              <a:t>4. Специальности на стыке электроники и биотехнологий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отехнологии - технологии, использующие биологические системы и их элемен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отехнологии довольно широко применяются в сельском хозяйстве, где с помощью генной инженерии и методов микробиологии получают генно-модифицированные продукт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отехнологии используются в молекулярной медицине, в биофармацевтических производствах и в других отрасля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24280" y="4114800"/>
            <a:ext cx="441972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4067280"/>
            <a:ext cx="4762440" cy="27907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4724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Times New Roman"/>
              </a:rPr>
              <a:t>5. Маркетинг и продаж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кетолог - это, прежде всего, стратег компани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о маркетолога - руководить системой, ориентированной на производство разнообразных благ и удовлетворение интересов производителей и потребител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проводит исследование рынка, планирует ассортимент и объемы продукции, определяет цены, стимулирует сбы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19520" y="3772080"/>
            <a:ext cx="5943600" cy="30859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66760"/>
            <a:ext cx="79250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Times New Roman"/>
              </a:rPr>
              <a:t>6. Специальности, связанные с сервисом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ос на профессии сферы обслуживания будет ежегодно возрастать, при этом темпы роста потребности в профессиях сферы обслуживания будут опережать темпы роста потребностей в других востребованных профессиях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67080" y="3657600"/>
            <a:ext cx="4876920" cy="3200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36576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</cp:lastModifiedBy>
  <dcterms:modified xsi:type="dcterms:W3CDTF">2012-04-05T06:10:0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