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8F4-A4D4-4D8A-8D11-7BBEB09C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099-03CE-4E99-B791-48F9FCC5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76A-22C1-4CA0-9FA8-E5F983DD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CD1-03FB-4FA1-BF13-06BA2371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681-874C-41FF-BC78-A4023507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67A5-E53E-4974-94BE-325768EF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BB9-F7C3-422E-B6BC-B9E47F6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AC3-F38F-4D9D-8765-196AF6A6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B9FB-A76D-4565-AE70-798C63B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BC2C-EE47-4895-8A19-2C3DBE59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5FB-23D1-41B2-986F-9DD8504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003-81D1-4F5C-9B99-40AF9CE3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27A-A574-4EE8-8FA0-A1BB0E9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66C-B1C4-47FA-BF6B-7B66894B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4006-0CF1-4C27-9665-5072429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F4E5-F2C5-4461-BE9F-687D3C9D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823-EA3F-4EF1-94DF-70856FC5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285-7B03-4B09-81F4-DA53C83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000-D804-4705-AF41-8073AEA7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E0E-13E4-4E49-B0D4-C62BE2C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3E7-094F-4A5A-AA3E-04816087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E21-67C2-4F0D-BF7C-4AC378E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6DB-F230-428A-98E2-916F0CDA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BE4-E9B5-474F-A9D5-5676BBD9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a1d1d">
                  <a:alpha val="45098"/>
                </a:srgbClr>
              </a:gs>
              <a:gs pos="100000">
                <a:srgbClr val="ff080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1616">
                  <a:alpha val="45098"/>
                </a:srgbClr>
              </a:gs>
              <a:gs pos="100000">
                <a:srgbClr val="ff141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d8d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3f3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7ED-3B2D-4EDC-B67E-DC27E772A9B4}" type="slidenum"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05964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05964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a1d1d">
                  <a:alpha val="45098"/>
                </a:srgbClr>
              </a:gs>
              <a:gs pos="100000">
                <a:srgbClr val="ff080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1616">
                  <a:alpha val="45098"/>
                </a:srgbClr>
              </a:gs>
              <a:gs pos="100000">
                <a:srgbClr val="ff141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d8d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3f3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D392-D156-4882-A747-EC0E88BCC627}" type="slidenum"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884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c434b"/>
                </a:solidFill>
                <a:latin typeface="Arial Black"/>
              </a:rPr>
              <a:t>Программа военно-патриотического воспитания «СЛУЖУ РОССИИ»</a:t>
            </a: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f3f"/>
                </a:solidFill>
                <a:latin typeface="Arial Black"/>
              </a:rPr>
              <a:t>Программу разработал: преподаватель ОБЖ МБОУ СОШ №39 В. В. Петраков</a:t>
            </a: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Times New Roman"/>
                <a:ea typeface="Times New Roman"/>
              </a:rPr>
              <a:t>ОЖИДАЕМЫЕ КОНЕЧНЫЕ РЕЗУЛЬТАТЫ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4" name="Объект 9" descr=""/>
          <p:cNvPicPr/>
          <p:nvPr/>
        </p:nvPicPr>
        <p:blipFill>
          <a:blip r:embed="rId1"/>
          <a:stretch/>
        </p:blipFill>
        <p:spPr>
          <a:xfrm>
            <a:off x="311040" y="1328760"/>
            <a:ext cx="873612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solidFill>
            <a:srgbClr val="ec000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105964"/>
                </a:solidFill>
                <a:latin typeface="Calibri"/>
              </a:rPr>
              <a:t>НАЧАЛЬНАЯ ВОЕННАЯ ПОДГОТОВКА</a:t>
            </a:r>
            <a:endParaRPr b="0" lang="en-US" sz="36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406680" cy="5111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17" name="Picture 4" descr="https://pp.userapi.com/c841521/v841521811/24947/Bq9GXNczzsE.jpg"/>
          <p:cNvPicPr/>
          <p:nvPr/>
        </p:nvPicPr>
        <p:blipFill>
          <a:blip r:embed="rId2"/>
          <a:stretch/>
        </p:blipFill>
        <p:spPr>
          <a:xfrm>
            <a:off x="468360" y="1557360"/>
            <a:ext cx="3970440" cy="28702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18" name="Скругленный прямоугольник 3"/>
          <p:cNvSpPr/>
          <p:nvPr/>
        </p:nvSpPr>
        <p:spPr>
          <a:xfrm>
            <a:off x="468360" y="4653000"/>
            <a:ext cx="3970440" cy="1871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5964"/>
                </a:solidFill>
                <a:latin typeface="Arial Black"/>
              </a:rPr>
              <a:t>Огневая подготовка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s://pp.userapi.com/c841323/v841323811/27eda/OXJOVU7__Ow.jpg"/>
          <p:cNvPicPr/>
          <p:nvPr/>
        </p:nvPicPr>
        <p:blipFill>
          <a:blip r:embed="rId2"/>
          <a:stretch/>
        </p:blipFill>
        <p:spPr>
          <a:xfrm>
            <a:off x="5086440" y="1628640"/>
            <a:ext cx="3682800" cy="49104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21" name="Picture 6" descr="https://pp.userapi.com/c837230/v837230597/59372/18-fk3NUXdo.jpg"/>
          <p:cNvPicPr/>
          <p:nvPr/>
        </p:nvPicPr>
        <p:blipFill>
          <a:blip r:embed="rId3"/>
          <a:stretch/>
        </p:blipFill>
        <p:spPr>
          <a:xfrm>
            <a:off x="539640" y="1628640"/>
            <a:ext cx="4318200" cy="28800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2" name="Скругленный прямоугольник 3"/>
          <p:cNvSpPr/>
          <p:nvPr/>
        </p:nvSpPr>
        <p:spPr>
          <a:xfrm>
            <a:off x="539640" y="4653000"/>
            <a:ext cx="4318200" cy="18860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5964"/>
                </a:solidFill>
                <a:latin typeface="Arial Black"/>
              </a:rPr>
              <a:t>Строевая подготовка</a:t>
            </a:r>
            <a:endParaRPr b="0" lang="en-US" sz="36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pp.userapi.com/c836434/v836434813/56934/fNGCsmp9cpA.jpg"/>
          <p:cNvPicPr/>
          <p:nvPr/>
        </p:nvPicPr>
        <p:blipFill>
          <a:blip r:embed="rId2"/>
          <a:stretch/>
        </p:blipFill>
        <p:spPr>
          <a:xfrm>
            <a:off x="3151080" y="1878120"/>
            <a:ext cx="5643720" cy="42321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5" name="Скругленный прямоугольник 2"/>
          <p:cNvSpPr/>
          <p:nvPr/>
        </p:nvSpPr>
        <p:spPr>
          <a:xfrm>
            <a:off x="539640" y="1878120"/>
            <a:ext cx="2519640" cy="423216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4232160"/>
              <a:gd name="textAreaBottom" fmla="*/ 4109400 h 4232160"/>
            </a:gdLst>
            <a:ahLst/>
            <a:rect l="textAreaLeft" t="textAreaTop" r="textAreaRight" b="textAreaBottom"/>
            <a:pathLst>
              <a:path w="21600" h="36279">
                <a:moveTo>
                  <a:pt x="3600" y="0"/>
                </a:moveTo>
                <a:arcTo wR="3600" hR="3600" stAng="16200000" swAng="-5400000"/>
                <a:lnTo>
                  <a:pt x="0" y="32679"/>
                </a:lnTo>
                <a:arcTo wR="3600" hR="3600" stAng="10800000" swAng="-5400000"/>
                <a:lnTo>
                  <a:pt x="18000" y="36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964"/>
                </a:solidFill>
                <a:latin typeface="Arial Black"/>
              </a:rPr>
              <a:t>Оказание первой помощи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5997600" cy="2979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611280" y="3924360"/>
            <a:ext cx="4392360" cy="2197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9" name="Скругленный прямоугольник 2"/>
          <p:cNvSpPr/>
          <p:nvPr/>
        </p:nvSpPr>
        <p:spPr>
          <a:xfrm>
            <a:off x="5148360" y="5022720"/>
            <a:ext cx="3620880" cy="109872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5964"/>
                </a:solidFill>
                <a:latin typeface="Arial Black"/>
              </a:rPr>
              <a:t>РХБЗ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4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1" name="Picture 3" descr="C:\Users\Петраки\Desktop\CHjTnht6GFE.jpg"/>
          <p:cNvPicPr/>
          <p:nvPr/>
        </p:nvPicPr>
        <p:blipFill>
          <a:blip r:embed="rId1"/>
          <a:stretch/>
        </p:blipFill>
        <p:spPr>
          <a:xfrm>
            <a:off x="3421080" y="1936800"/>
            <a:ext cx="5183280" cy="39402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32" name="Скругленный прямоугольник 6"/>
          <p:cNvSpPr/>
          <p:nvPr/>
        </p:nvSpPr>
        <p:spPr>
          <a:xfrm>
            <a:off x="771480" y="1908000"/>
            <a:ext cx="2376360" cy="394020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3940200"/>
              <a:gd name="textAreaBottom" fmla="*/ 3824280 h 3940200"/>
            </a:gdLst>
            <a:ahLst/>
            <a:rect l="textAreaLeft" t="textAreaTop" r="textAreaRight" b="textAreaBottom"/>
            <a:pathLst>
              <a:path w="21600" h="35812">
                <a:moveTo>
                  <a:pt x="3600" y="0"/>
                </a:moveTo>
                <a:arcTo wR="3600" hR="3600" stAng="16200000" swAng="-5400000"/>
                <a:lnTo>
                  <a:pt x="0" y="32212"/>
                </a:lnTo>
                <a:arcTo wR="3600" hR="3600" stAng="10800000" swAng="-5400000"/>
                <a:lnTo>
                  <a:pt x="18000" y="35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Русский силомер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4" name="Picture 4" descr="C:\Users\Петраки\Desktop\фото фильм\_7UOAWImFb8.jpg"/>
          <p:cNvPicPr/>
          <p:nvPr/>
        </p:nvPicPr>
        <p:blipFill>
          <a:blip r:embed="rId1"/>
          <a:stretch/>
        </p:blipFill>
        <p:spPr>
          <a:xfrm>
            <a:off x="4859280" y="1832040"/>
            <a:ext cx="3745080" cy="316872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35" name="Picture 2" descr="https://pp.userapi.com/c638425/v638425597/4855e/aWnwpUAJQX0.jpg"/>
          <p:cNvPicPr/>
          <p:nvPr/>
        </p:nvPicPr>
        <p:blipFill>
          <a:blip r:embed="rId2"/>
          <a:stretch/>
        </p:blipFill>
        <p:spPr>
          <a:xfrm>
            <a:off x="755640" y="1832040"/>
            <a:ext cx="3517920" cy="46911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36" name="Скругленный прямоугольник 3"/>
          <p:cNvSpPr/>
          <p:nvPr/>
        </p:nvSpPr>
        <p:spPr>
          <a:xfrm>
            <a:off x="4859280" y="5229360"/>
            <a:ext cx="3816360" cy="12938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c434b"/>
                </a:solidFill>
                <a:latin typeface="Arial Black"/>
              </a:rPr>
              <a:t>ГТО</a:t>
            </a:r>
            <a:endParaRPr b="0" lang="en-US" sz="4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8" name="Picture 5" descr="C:\Users\Петраки\Desktop\фото фильм\P1010888.JPG"/>
          <p:cNvPicPr/>
          <p:nvPr/>
        </p:nvPicPr>
        <p:blipFill>
          <a:blip r:embed="rId1"/>
          <a:stretch/>
        </p:blipFill>
        <p:spPr>
          <a:xfrm>
            <a:off x="4356000" y="1720800"/>
            <a:ext cx="4248360" cy="32590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4105440" cy="3078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0" name="Скругленный прямоугольник 3"/>
          <p:cNvSpPr/>
          <p:nvPr/>
        </p:nvSpPr>
        <p:spPr>
          <a:xfrm>
            <a:off x="5219640" y="5229360"/>
            <a:ext cx="3456000" cy="142236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c434b"/>
                </a:solidFill>
                <a:latin typeface="Arial Black"/>
              </a:rPr>
              <a:t>Кроссфит</a:t>
            </a:r>
            <a:endParaRPr b="0" lang="en-US" sz="4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42" name="Picture 2" descr="https://pp.userapi.com/c639420/v639420689/5238a/9DNTyssVq-Y.jpg"/>
          <p:cNvPicPr/>
          <p:nvPr/>
        </p:nvPicPr>
        <p:blipFill>
          <a:blip r:embed="rId1"/>
          <a:stretch/>
        </p:blipFill>
        <p:spPr>
          <a:xfrm>
            <a:off x="4813200" y="1916280"/>
            <a:ext cx="3791160" cy="284472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43" name="Picture 4" descr="https://pp.userapi.com/c841038/v841038940/4ecfd/CgVGB49FyRI.jpg"/>
          <p:cNvPicPr/>
          <p:nvPr/>
        </p:nvPicPr>
        <p:blipFill>
          <a:blip r:embed="rId2"/>
          <a:stretch/>
        </p:blipFill>
        <p:spPr>
          <a:xfrm>
            <a:off x="755640" y="2960640"/>
            <a:ext cx="3975120" cy="29829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4" name="Скругленный прямоугольник 2"/>
          <p:cNvSpPr/>
          <p:nvPr/>
        </p:nvSpPr>
        <p:spPr>
          <a:xfrm>
            <a:off x="5003640" y="4941720"/>
            <a:ext cx="3600720" cy="1079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c434b"/>
                </a:solidFill>
                <a:latin typeface="Arial Black"/>
              </a:rPr>
              <a:t>Спортивные игры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211640" y="1785960"/>
            <a:ext cx="4392720" cy="35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pp.userapi.com/c639717/v639717760/34c70/duzi4lhxtuo.jpg"/>
          <p:cNvPicPr/>
          <p:nvPr/>
        </p:nvPicPr>
        <p:blipFill>
          <a:blip r:embed="rId2"/>
          <a:stretch/>
        </p:blipFill>
        <p:spPr>
          <a:xfrm>
            <a:off x="755640" y="1738440"/>
            <a:ext cx="3103560" cy="46544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8" name="Скругленный прямоугольник 3"/>
          <p:cNvSpPr/>
          <p:nvPr/>
        </p:nvSpPr>
        <p:spPr>
          <a:xfrm>
            <a:off x="3995640" y="5445000"/>
            <a:ext cx="4608720" cy="94788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Спортивный туризм и альпинизм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5964"/>
                </a:solidFill>
                <a:latin typeface="Calibri"/>
              </a:rPr>
              <a:t>ЦЕЛЬ:</a:t>
            </a:r>
            <a:endParaRPr b="0" lang="en-US" sz="6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1a00"/>
                </a:solidFill>
                <a:latin typeface="Constantia"/>
              </a:rPr>
              <a:t>Разностороннее военно-патриотическое, гражданское и нравственное воспитание, поддержка в молодёжной среде государственных и общественных инициатив. Совершенствование личности детей и молодежи, формирование сплоченного и дружного коллектива, подготовка к службе в Вооруженных силах Российской Федерации.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оисков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0" name="Picture 2" descr="https://pp.userapi.com/c638525/v638525874/38e16/LdqAah104kc.jpg"/>
          <p:cNvPicPr/>
          <p:nvPr/>
        </p:nvPicPr>
        <p:blipFill>
          <a:blip r:embed="rId1"/>
          <a:stretch/>
        </p:blipFill>
        <p:spPr>
          <a:xfrm>
            <a:off x="3968640" y="1773360"/>
            <a:ext cx="4646880" cy="3095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51" name="Picture 4" descr="https://pp.userapi.com/c834104/v834104496/b9060/VXXBiFVrA_U.jpg"/>
          <p:cNvPicPr/>
          <p:nvPr/>
        </p:nvPicPr>
        <p:blipFill>
          <a:blip r:embed="rId2"/>
          <a:stretch/>
        </p:blipFill>
        <p:spPr>
          <a:xfrm>
            <a:off x="755640" y="2997360"/>
            <a:ext cx="4033800" cy="30240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52" name="Скругленный прямоугольник 2"/>
          <p:cNvSpPr/>
          <p:nvPr/>
        </p:nvSpPr>
        <p:spPr>
          <a:xfrm>
            <a:off x="5003640" y="5013360"/>
            <a:ext cx="3611880" cy="1079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«Вахты памяти»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оисков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4" name="Picture 2" descr="https://pp.userapi.com/c834401/v834401250/44074/pTYgOU4aZzg.jpg"/>
          <p:cNvPicPr/>
          <p:nvPr/>
        </p:nvPicPr>
        <p:blipFill>
          <a:blip r:embed="rId1"/>
          <a:stretch/>
        </p:blipFill>
        <p:spPr>
          <a:xfrm>
            <a:off x="1176480" y="1795320"/>
            <a:ext cx="7007040" cy="4670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Историко-краеведческ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6" name="Picture 2" descr="https://pp.userapi.com/c841524/v841524866/674a7/vGnOQMEFTz8.jpg"/>
          <p:cNvPicPr/>
          <p:nvPr/>
        </p:nvPicPr>
        <p:blipFill>
          <a:blip r:embed="rId1"/>
          <a:stretch/>
        </p:blipFill>
        <p:spPr>
          <a:xfrm>
            <a:off x="3868560" y="1916280"/>
            <a:ext cx="4735800" cy="31572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57" name="Picture 4" descr="https://pp.userapi.com/c824601/v824601894/4f598/6kz6b5Wi-oY.jpg"/>
          <p:cNvPicPr/>
          <p:nvPr/>
        </p:nvPicPr>
        <p:blipFill>
          <a:blip r:embed="rId2"/>
          <a:stretch/>
        </p:blipFill>
        <p:spPr>
          <a:xfrm>
            <a:off x="755640" y="3249720"/>
            <a:ext cx="3529080" cy="26463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Волонтерск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9" name="Picture 2" descr="https://pp.userapi.com/c840426/v840426606/168f7/h9fPtkkMNkc.jpg"/>
          <p:cNvPicPr/>
          <p:nvPr/>
        </p:nvPicPr>
        <p:blipFill>
          <a:blip r:embed="rId1"/>
          <a:stretch/>
        </p:blipFill>
        <p:spPr>
          <a:xfrm>
            <a:off x="755640" y="1738440"/>
            <a:ext cx="4838760" cy="36003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60" name="Picture 4" descr="https://pp.userapi.com/c639718/v639718501/3a4c6/J1RH25GCjsU.jpg"/>
          <p:cNvPicPr/>
          <p:nvPr/>
        </p:nvPicPr>
        <p:blipFill>
          <a:blip r:embed="rId2"/>
          <a:stretch/>
        </p:blipFill>
        <p:spPr>
          <a:xfrm>
            <a:off x="4427640" y="3429000"/>
            <a:ext cx="4176720" cy="27828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Военно-тактические игры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62" name="Picture 2" descr="https://pp.userapi.com/c841536/v841536668/3bc79/sm4BdjvOoa4.jpg"/>
          <p:cNvPicPr/>
          <p:nvPr/>
        </p:nvPicPr>
        <p:blipFill>
          <a:blip r:embed="rId1"/>
          <a:stretch/>
        </p:blipFill>
        <p:spPr>
          <a:xfrm>
            <a:off x="4356000" y="1989000"/>
            <a:ext cx="4248360" cy="2987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63" name="Picture 4" descr="https://pp.userapi.com/c307804/v307804293/4d37/RacZ5hbkMqc.jpg"/>
          <p:cNvPicPr/>
          <p:nvPr/>
        </p:nvPicPr>
        <p:blipFill>
          <a:blip r:embed="rId2"/>
          <a:stretch/>
        </p:blipFill>
        <p:spPr>
          <a:xfrm>
            <a:off x="755640" y="2924280"/>
            <a:ext cx="4289400" cy="32176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роектн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65" name="Объект 6" descr=""/>
          <p:cNvPicPr/>
          <p:nvPr/>
        </p:nvPicPr>
        <p:blipFill>
          <a:blip r:embed="rId1"/>
          <a:stretch/>
        </p:blipFill>
        <p:spPr>
          <a:xfrm>
            <a:off x="396720" y="1743120"/>
            <a:ext cx="8436240" cy="484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5964"/>
                </a:solidFill>
                <a:latin typeface="Calibri"/>
              </a:rPr>
              <a:t>ОСНОВНЫЕ ЗАДАЧИ</a:t>
            </a:r>
            <a:endParaRPr b="0" lang="en-US" sz="54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cca62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гражданско-патриотическое нравственное воспитание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изучение истории и географии страны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изучение ее военно-патриотического наследия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повышение теоретических и практических навыков в сфере обороны и безопасности государства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повышение уровня физической подготовленности, развитие творческих способностей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Calibri"/>
              </a:rPr>
              <a:t>ОСНОВНЫЕ НАПРАВЛЕНИЯ ДЕЯТЕЛЬНОСТИ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02" name="Объект 6" descr=""/>
          <p:cNvPicPr/>
          <p:nvPr/>
        </p:nvPicPr>
        <p:blipFill>
          <a:blip r:embed="rId1"/>
          <a:stretch/>
        </p:blipFill>
        <p:spPr>
          <a:xfrm>
            <a:off x="396720" y="1311120"/>
            <a:ext cx="843624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0240" y="762120"/>
            <a:ext cx="8381880" cy="1749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0280" y="2133360"/>
            <a:ext cx="7772400" cy="3816360"/>
          </a:xfrm>
          <a:prstGeom prst="rect">
            <a:avLst/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txBody>
          <a:bodyPr lIns="45720" rIns="4572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2c32"/>
                </a:solidFill>
                <a:latin typeface="Times New Roman"/>
                <a:ea typeface="Times New Roman"/>
              </a:rPr>
              <a:t>Граждане (физические лица),  8-17 лет. Учет участников осуществляется местным и региональным штабом. Для организации учета участнику движения присваивается личный учетный номер, формируется личное дело юнармейца с внесением туда заслуг и достижений, выдается удостоверение юнармейца образца установленного региональным штабом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05964"/>
                </a:solidFill>
                <a:latin typeface="Calibri"/>
              </a:rPr>
              <a:t>АКТУАЛЬНОСТЬ И НОВИЗНА</a:t>
            </a:r>
            <a:endParaRPr b="0" lang="en-US" sz="49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cca62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В связи, со сложившийся международной  обстановкой программа «</a:t>
            </a:r>
            <a:r>
              <a:rPr b="1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Служу России</a:t>
            </a: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» имеет военно-патриотическую направленность и призвана решать проблему патриотического воспитания, способствовать формированию у обучающихся общественно значимых ориентаций, готовности к военной службе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Предлагается дифференцированный подход и углубленное изучение каждого направления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5964"/>
                </a:solidFill>
                <a:latin typeface="Calibri"/>
              </a:rPr>
              <a:t>СТРУКТУРА УПРАВЛЕНИЯ ОТРЯДОМ </a:t>
            </a:r>
            <a:endParaRPr b="0" lang="en-US" sz="36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103320" y="993600"/>
            <a:ext cx="8937360" cy="562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05964"/>
                </a:solidFill>
                <a:latin typeface="Calibri"/>
              </a:rPr>
              <a:t>НАПРАВЛЕНИЯ РАБОТЫ</a:t>
            </a:r>
            <a:endParaRPr b="0" lang="en-US" sz="45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176040" y="1305000"/>
            <a:ext cx="8791920" cy="53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Calibri"/>
              </a:rPr>
              <a:t>РЕСУРСНОЕ ОБЕСПЕЧЕНИЕ ПРОГРАММЫ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109440" y="1158840"/>
            <a:ext cx="8925120" cy="565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0:25:22Z</dcterms:created>
  <dc:creator>Петраки</dc:creator>
  <dc:description/>
  <dc:language>en-US</dc:language>
  <cp:lastModifiedBy>Петраки</cp:lastModifiedBy>
  <dcterms:modified xsi:type="dcterms:W3CDTF">2019-01-08T16:24:28Z</dcterms:modified>
  <cp:revision>48</cp:revision>
  <dc:subject/>
  <dc:title>ВВПОД «ЮНАРМИЯ» МБОУ СОШ №39</dc:title>
</cp:coreProperties>
</file>