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D9F-A643-49AE-9068-1A0E88ED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042-49F1-44C9-A1C8-F0E9F4E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B21-DCCE-4640-AE79-D6CC8301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F65-1662-4D3D-B125-081CC639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49A2-AAFF-40B2-B88D-F934F3FB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207D-47CB-4B30-AF38-EC2B734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3107-16B4-4BA2-BC1F-9CD1031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D3E-8D5B-43E4-B1EE-97D8127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CC3-26E6-4A50-B517-BCE888D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973-7117-448C-8634-5E804CDE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60DC-ACB1-4B0F-8E0E-0C3B721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3A6-B3C9-48C6-BFD8-74EF71F5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380-536B-4C43-BB22-4766BE9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7DE-015B-4391-8D14-EA93D70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C16D-EF1B-4F2D-9B53-E20F3748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8B41-65F0-404F-9E72-A65C8BF9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3896-CCC1-481C-ABD4-235B729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CC7-7CAC-4497-96F3-E3A2791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5AC-FA7C-4AD2-A87D-D038122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C38-0BAD-41F6-8CA7-1BF0977B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463-2AB2-4C42-B424-A6902287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2CD-6279-4A92-B74C-04EBCC4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7A5-1AF1-4AE3-8E85-4A6C958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8A6-C804-4922-B652-9828B7F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9B6-39B1-4BA3-BA74-96912D837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1D4-50DC-4428-8B82-87DDABA53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205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 rot="21387600">
            <a:off x="250920" y="620280"/>
            <a:ext cx="7886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собенности общения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 rot="21251400">
            <a:off x="-38160" y="2997360"/>
            <a:ext cx="918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 детьми разного возраст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Главным </a:t>
            </a: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ем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 ранней юности являетс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товность (способность) к личностному и жизненному самоопреде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Функции общения в юности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ный «канал информац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деятельности, которая оказывает значительное влияние на развитие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эмоционального контакта, который способствует развитию эмоциональной сферы и формированию самоуважения, которое так важно в эт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107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сновным принципом общения и психической жизни в целом в юношеском возрасте является выраженный поиск путей к миру через нахождение пути к самому себе.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6021360"/>
            <a:ext cx="8540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250920" y="260280"/>
            <a:ext cx="84200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Спасибо за внимание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0" y="2781360"/>
            <a:ext cx="9048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Успехов в общении с детьми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редний школьный возраст (подросток 11-14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5516280"/>
            <a:ext cx="8540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Переходный возраст включает в себя два ряда процессов: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ур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биологического созревания организма, включая половое созрева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общения, воспитания, социализации в широком смысле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19680"/>
            <a:ext cx="8510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избежным, естественным и нормальным является появление у подростков полового влечения и соответствующих мыслей, чувств, переживаний, специального интереса к противоположному полу. Это одно из важ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сихических новообразований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трочество -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ломки старых, отживших форм, разрушение специфически детских образований, которые могут тормозить полноценное развитие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являемое в этот период противопоставление себя взрослым, активное завоевание новой позиции являются продуктивными для формирования сам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ч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723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ь в общении со сверстниками становится одной из центральных потребностей подрос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очество является сензитивным периодом для развития средств общ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я этого период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ое личностное новообразование– становление нового уровня самосознания, Я – концеп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амосознание как процесс познания себя, Я – концепция или «образ Я» как результат, продукт этого позн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школьников этого возраста возникает критичность сознания, они видят    недостатки в поведении, в деятельности взрослых, особенно пристрастно относятся  к родным и учител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356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ическое новообразование- интерес к противоположному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роизвольности всех психически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тарший школьный возраст - ранняя юность (15-17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5950080"/>
            <a:ext cx="8540640" cy="1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04:54Z</dcterms:created>
  <dc:creator>Admin</dc:creator>
  <dc:description/>
  <dc:language>en-US</dc:language>
  <cp:lastModifiedBy>Админ</cp:lastModifiedBy>
  <dcterms:modified xsi:type="dcterms:W3CDTF">2018-12-11T16:10:59Z</dcterms:modified>
  <cp:revision>6</cp:revision>
  <dc:subject/>
  <dc:title>Младший школьник</dc:title>
</cp:coreProperties>
</file>