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C50-5BB8-4353-8B0F-1D4178D3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CA8-70A1-4F04-968F-E5E10C57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998-57A8-4834-BED3-3D606D9D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078-E91A-4315-8FE7-2FF018B5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2D3E-53F5-4345-8EF8-C375FD9D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6D8-67A1-4FF9-90C4-958F226C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F41-1A5F-478D-B276-9587BDE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A89F-5746-491B-BA4E-B3CF22C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2DD-3722-45E4-85C6-A88C0615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464B-2E45-48E5-AC6F-826CD8D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B2C0-AC4E-4A43-9059-F1BE85B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2C8-73FF-46C0-8802-293CE98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7E4E-D27D-4327-994C-34A196E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595-0155-48D0-A78A-DF8D433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354F-1E73-4AF1-86A2-CF5D3E4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ECE-F6F4-4F14-97BA-02AC8749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15CB-F2FD-46DA-B61F-ACD42C59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C11-7807-4899-8CE6-3DBBCD5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F50-0A5C-4E9C-9E9A-03263A42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41B-4B35-4318-89D0-5E1DD188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3CF-83E5-4D10-A5C0-C59D6CB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5A3-6D4D-473D-96E9-A3C9B9E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EFC-D514-4F36-9D82-D2961EA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5AA-0392-4C80-B7A4-2AE6ABA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6AE8-81F8-4C76-ABD4-9A5A5BD3A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AAB-457E-4D0E-BBDA-AF2546B1C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205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 rot="21387600">
            <a:off x="250920" y="620280"/>
            <a:ext cx="78865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собенности общения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 rot="21251400">
            <a:off x="-38160" y="2997360"/>
            <a:ext cx="918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 детьми разного возраст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Главным </a:t>
            </a: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ем</a:t>
            </a:r>
            <a:r>
              <a:rPr b="1" i="1" lang="ru-RU" sz="4400" spc="-1" strike="noStrike">
                <a:solidFill>
                  <a:srgbClr val="cc6600"/>
                </a:solidFill>
                <a:latin typeface="Arial"/>
              </a:rPr>
              <a:t> ранней юности является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товность (способность) к личностному и жизненному самоопреде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Функции общения в юности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ный «канал информаци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деятельности, которая оказывает значительное влияние на развитие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эмоционального контакта, который способствует развитию эмоциональной сферы и формированию самоуважения, которое так важно в эт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107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сновным принципом общения и психической жизни в целом в юношеском возрасте является выраженный поиск путей к миру через нахождение пути к самому себе.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6021360"/>
            <a:ext cx="8540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250920" y="260280"/>
            <a:ext cx="84200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Спасибо за внимание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0" y="2781360"/>
            <a:ext cx="9048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Успехов в общении с детьми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редний школьный возраст (подросток 11-14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5516280"/>
            <a:ext cx="8540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Переходный возраст включает в себя два ряда процессов: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ур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биологического созревания организма, включая половое созрева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оцессы общения, воспитания, социализации в широком смысле сл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19680"/>
            <a:ext cx="8510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избежным, естественным и нормальным является появление у подростков полового влечения и соответствующих мыслей, чувств, переживаний, специального интереса к противоположному полу. Это одно из важ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сихических новообразований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Отрочество -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ломки старых, отживших форм, разрушение специфически детских образований, которые могут тормозить полноценное развитие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являемое в этот период противопоставление себя взрослым, активное завоевание новой позиции являются продуктивными для формирования сам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ч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723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ь в общении со сверстниками становится одной из центральных потребностей подрос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очество является сензитивным периодом для развития средств общ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вообразования этого периода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ое личностное новообразование– становление нового уровня самосознания, Я – концеп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амосознание как процесс познания себя, Я – концепция или «образ Я» как результат, продукт этого позн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школьников этого возраста возникает критичность сознания, они видят    недостатки в поведении, в деятельности взрослых, особенно пристрастно относятся  к родным и учител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356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ическое новообразование- интерес к противоположному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роизвольности всех психически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Старший школьный возраст - ранняя юность (15-17 лет)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5950080"/>
            <a:ext cx="8540640" cy="1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04:54Z</dcterms:created>
  <dc:creator>Admin</dc:creator>
  <dc:description/>
  <dc:language>en-US</dc:language>
  <cp:lastModifiedBy>Админ</cp:lastModifiedBy>
  <dcterms:modified xsi:type="dcterms:W3CDTF">2018-12-11T16:10:59Z</dcterms:modified>
  <cp:revision>6</cp:revision>
  <dc:subject/>
  <dc:title>Младший школьник</dc:title>
</cp:coreProperties>
</file>