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9EA-9688-41A7-95B8-E8F1A5A2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0EB-642D-41E1-9F27-CCE0A840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FB3-4B6E-4509-9D33-8B4474E3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DBB-5040-469A-BEC5-4DB6B423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24A4-2BCF-412F-8346-BCDC4F5B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4EDA-A0FA-4411-BBD4-44EBD019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4F0D-5FBF-4FD8-90BF-5B22953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0554-9202-4087-A838-9D6FC6F1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3B4F-713B-4E60-92EC-178C844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F8BA-9595-46D3-8FA0-CAD6088A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2D95-9102-41C8-AF78-5D6F7E5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D09-AEB6-4FC5-A7B6-17CD6066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CEBF-288A-450C-A767-0EB64DE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7BE-20F9-4B39-844A-915E766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0C42-3117-443C-9275-A0FA817A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94DE-EF67-469A-A67C-AF0A0AA2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4D1-CBA3-4598-BA37-91536777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4F0-77FB-431A-83CD-C1A4D65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899-E32D-4445-AAE1-41CD9CB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27B-D464-4DF5-A8DA-0BE6BE55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4F7-58BD-4F35-9ADF-66D1883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FB1-FFA7-4CEE-9C5B-C7AA437D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F90-1121-4687-8815-D541DA7F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712-B44F-496B-9D5A-D029007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42D5-9B38-4B87-8B1A-F63CDF387F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FAD-3C3B-4C83-BF6F-BF33BBB69E52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естка дня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зменения в ЕГЭ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езультаты контрольной работы по математике  за 1 полугодие и итогового сочинения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рганизация питания в гимназии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(итоги родительского рейда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к пережить ЕГЭ? (круглый стол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нструктаж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родумайте тайм-менеджмент ЕГЭ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9" name="Picture 2" descr="https://www.miloserdie.ru/wp-content/uploads/2018/05/ege_03.jpg?x41640"/>
          <p:cNvPicPr/>
          <p:nvPr/>
        </p:nvPicPr>
        <p:blipFill>
          <a:blip r:embed="rId1"/>
          <a:stretch/>
        </p:blipFill>
        <p:spPr>
          <a:xfrm>
            <a:off x="4191120" y="3805200"/>
            <a:ext cx="4952880" cy="331956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2"/>
          <p:cNvSpPr/>
          <p:nvPr/>
        </p:nvSpPr>
        <p:spPr>
          <a:xfrm>
            <a:off x="608040" y="1752480"/>
            <a:ext cx="807732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Распределите время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ажно настроить на максимальную проверку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 увеличивайте нагрузку перед экзаменом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Не доставайте аптечку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спокоительные снимают тревогу, но тормозят мозговую активность, могут вызвать сонливость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ужно использовать те способы успокоиться, которые уже помогали: смена видов деятельности, массаж, ванны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амое главное –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это снизить напряжение и тревожность ребенка и обеспечить подходящие условия для занятий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rcRect l="0" t="18702" r="0" b="633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Результаты контрольной работы по математике  за 1 полугодие и итогового сочинения.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ачество по математике 60% (11А и 11Б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     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«5»-7 «4»-11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Итоги сочинения: 100% зачёт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Организация питания. 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Результаты  рейда.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Как пережить ЕГЭ?</a:t>
            </a:r>
            <a:br>
              <a:rPr sz="4200"/>
            </a:b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советы родителям выпускников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от психологов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7" name="Picture 2" descr="https://www.miloserdie.ru/wp-content/uploads/2018/05/ege_01.jpg?x41640"/>
          <p:cNvPicPr/>
          <p:nvPr/>
        </p:nvPicPr>
        <p:blipFill>
          <a:blip r:embed="rId1"/>
          <a:stretch/>
        </p:blipFill>
        <p:spPr>
          <a:xfrm>
            <a:off x="3352680" y="3124080"/>
            <a:ext cx="5565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66"/>
                </a:solidFill>
                <a:latin typeface="Garamond"/>
              </a:rPr>
              <a:t>СОН</a:t>
            </a:r>
            <a:endParaRPr b="0" lang="en-US" sz="7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омогает переработать информацию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d"/>
                </a:solidFill>
                <a:latin typeface="Arial"/>
              </a:rPr>
              <a:t>Восстанавливает и улучшает долговременную память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 дефиците сна «заученное» не появляется в памя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Готовьте ребенку его </a:t>
            </a:r>
            <a:r>
              <a:rPr b="1" lang="ru-RU" sz="8000" spc="-1" strike="noStrike">
                <a:solidFill>
                  <a:srgbClr val="ffff66"/>
                </a:solidFill>
                <a:latin typeface="Garamond"/>
              </a:rPr>
              <a:t>любимые блюда</a:t>
            </a:r>
            <a:br>
              <a:rPr sz="8000"/>
            </a:br>
            <a:endParaRPr b="0" lang="en-US" sz="8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2209680"/>
            <a:ext cx="80773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Если ребёнок истощён –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шоколадка на ЕГЭ его не спасёт!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рогулки + Удовольствия 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3" name="Picture 4" descr="https://www.miloserdie.ru/wp-content/uploads/2018/05/ege_02.jpg?x41640"/>
          <p:cNvPicPr/>
          <p:nvPr/>
        </p:nvPicPr>
        <p:blipFill>
          <a:blip r:embed="rId1"/>
          <a:stretch/>
        </p:blipFill>
        <p:spPr>
          <a:xfrm>
            <a:off x="2946240" y="2971800"/>
            <a:ext cx="6220080" cy="416880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2"/>
          <p:cNvSpPr/>
          <p:nvPr/>
        </p:nvSpPr>
        <p:spPr>
          <a:xfrm>
            <a:off x="457200" y="679320"/>
            <a:ext cx="807732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порт, любая физическая нагрузка на воздухе – снижает нервозн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Не повышайте планку, фокусируйте достижения</a:t>
            </a:r>
            <a:br>
              <a:rPr sz="4200"/>
            </a:b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pic>
        <p:nvPicPr>
          <p:cNvPr id="106" name="Picture 4" descr="https://www.miloserdie.ru/wp-content/uploads/2018/05/ege_04.jpg?x41640"/>
          <p:cNvPicPr/>
          <p:nvPr/>
        </p:nvPicPr>
        <p:blipFill>
          <a:blip r:embed="rId1"/>
          <a:stretch/>
        </p:blipFill>
        <p:spPr>
          <a:xfrm>
            <a:off x="228600" y="3624120"/>
            <a:ext cx="5410080" cy="3625920"/>
          </a:xfrm>
          <a:prstGeom prst="rect">
            <a:avLst/>
          </a:prstGeom>
          <a:ln w="0">
            <a:noFill/>
          </a:ln>
        </p:spPr>
      </p:pic>
      <p:sp>
        <p:nvSpPr>
          <p:cNvPr id="107" name="Объект 2"/>
          <p:cNvSpPr/>
          <p:nvPr/>
        </p:nvSpPr>
        <p:spPr>
          <a:xfrm>
            <a:off x="762120" y="1571760"/>
            <a:ext cx="807696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ельзя ставить слишком высокую планку, рассуждать о том, как важны высокие балл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Шатилова Нина Никола</cp:lastModifiedBy>
  <dcterms:modified xsi:type="dcterms:W3CDTF">2018-12-21T15:24:0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