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7EE-4670-45EA-96DB-FA8DBF50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A76-2407-491A-870F-8E2186EA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088-CFFE-483A-B6A6-F7B19A23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E81-375E-470F-BBD3-6BA86870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E933-9642-4690-A721-382BF996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D686-7855-4FBD-8DE3-DA8F8E69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AA55-19C4-4624-AF60-36505BB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CB32-2AB8-4D84-8FC2-9917709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4399-B468-4DE6-BD83-1815994A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AE47-172F-44D3-9C89-832352C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E09-822C-4F21-A3BF-CE22B8B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208-2A43-47E7-9D4E-A4F6CE6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FA77-2B92-4279-9344-916116C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F62-2D49-40F2-8A1F-C9AD6E6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556F-733A-4B80-9750-5F90EA52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9659-29BF-46D2-BD57-75C34223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4010-145D-4329-AE96-36272EBA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C31-01E0-4350-BBCF-C272041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07C-57C2-4AC6-A1E2-C9AB774A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E45-59C8-40B9-B8E4-B6D45D39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5AF-47E8-43B4-8BA8-A90F3F2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A5E-5013-42DC-8C5D-31B07D9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637-7970-485F-AAA7-1AC7A24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E7B-E1FA-4BFA-85BC-A1F1B38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842-697B-45EA-AEFC-3CAF62725C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DD5-574F-4042-A44F-562A6C121E51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естка дня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зменения в ЕГЭ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езультаты контрольной работы по математике  за 1 полугодие и итогового сочинения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рганизация питания в гимназии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(итоги родительского рейда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к пережить ЕГЭ? (круглый стол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нструктаж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родумайте тайм-менеджмент ЕГЭ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9" name="Picture 2" descr="https://www.miloserdie.ru/wp-content/uploads/2018/05/ege_03.jpg?x41640"/>
          <p:cNvPicPr/>
          <p:nvPr/>
        </p:nvPicPr>
        <p:blipFill>
          <a:blip r:embed="rId1"/>
          <a:stretch/>
        </p:blipFill>
        <p:spPr>
          <a:xfrm>
            <a:off x="4191120" y="3805200"/>
            <a:ext cx="4952880" cy="331956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2"/>
          <p:cNvSpPr/>
          <p:nvPr/>
        </p:nvSpPr>
        <p:spPr>
          <a:xfrm>
            <a:off x="608040" y="1752480"/>
            <a:ext cx="807732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аспределите время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ажно настроить на максимальную проверку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 увеличивайте нагрузку перед экзаменом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Не доставайте аптечку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спокоительные снимают тревогу, но тормозят мозговую активность, могут вызвать сонливость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ужно использовать те способы успокоиться, которые уже помогали: смена видов деятельности, массаж, ванны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амое главное –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это снизить напряжение и тревожность ребенка и обеспечить подходящие условия для занятий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rcRect l="0" t="18702" r="0" b="633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Результаты контрольной работы по математике  за 1 полугодие и итогового сочинения.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чество по математике 60% (11А и 11Б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     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«5»-7 «4»-11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тоги сочинения: 100% зачёт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Организация питания. 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Результаты  рейда.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Как пережить ЕГЭ?</a:t>
            </a:r>
            <a:br>
              <a:rPr sz="4200"/>
            </a:b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советы родителям выпускников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т психологов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7" name="Picture 2" descr="https://www.miloserdie.ru/wp-content/uploads/2018/05/ege_01.jpg?x41640"/>
          <p:cNvPicPr/>
          <p:nvPr/>
        </p:nvPicPr>
        <p:blipFill>
          <a:blip r:embed="rId1"/>
          <a:stretch/>
        </p:blipFill>
        <p:spPr>
          <a:xfrm>
            <a:off x="3352680" y="3124080"/>
            <a:ext cx="5565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66"/>
                </a:solidFill>
                <a:latin typeface="Garamond"/>
              </a:rPr>
              <a:t>СОН</a:t>
            </a:r>
            <a:endParaRPr b="0" lang="en-US" sz="7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могает переработать информацию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d"/>
                </a:solidFill>
                <a:latin typeface="Arial"/>
              </a:rPr>
              <a:t>Восстанавливает и улучшает долговременную память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 дефиците сна «заученное» не появляется в памя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Готовьте ребенку его </a:t>
            </a:r>
            <a:r>
              <a:rPr b="1" lang="ru-RU" sz="8000" spc="-1" strike="noStrike">
                <a:solidFill>
                  <a:srgbClr val="ffff66"/>
                </a:solidFill>
                <a:latin typeface="Garamond"/>
              </a:rPr>
              <a:t>любимые блюда</a:t>
            </a:r>
            <a:br>
              <a:rPr sz="8000"/>
            </a:br>
            <a:endParaRPr b="0" lang="en-US" sz="8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2209680"/>
            <a:ext cx="80773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Если ребёнок истощён –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шоколадка на ЕГЭ его не спасёт!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рогулки + Удовольствия 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3" name="Picture 4" descr="https://www.miloserdie.ru/wp-content/uploads/2018/05/ege_02.jpg?x41640"/>
          <p:cNvPicPr/>
          <p:nvPr/>
        </p:nvPicPr>
        <p:blipFill>
          <a:blip r:embed="rId1"/>
          <a:stretch/>
        </p:blipFill>
        <p:spPr>
          <a:xfrm>
            <a:off x="2946240" y="2971800"/>
            <a:ext cx="6220080" cy="416880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2"/>
          <p:cNvSpPr/>
          <p:nvPr/>
        </p:nvSpPr>
        <p:spPr>
          <a:xfrm>
            <a:off x="457200" y="679320"/>
            <a:ext cx="807732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порт, любая физическая нагрузка на воздухе – снижает нервозн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Не повышайте планку, фокусируйте достижения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6" name="Picture 4" descr="https://www.miloserdie.ru/wp-content/uploads/2018/05/ege_04.jpg?x41640"/>
          <p:cNvPicPr/>
          <p:nvPr/>
        </p:nvPicPr>
        <p:blipFill>
          <a:blip r:embed="rId1"/>
          <a:stretch/>
        </p:blipFill>
        <p:spPr>
          <a:xfrm>
            <a:off x="228600" y="3624120"/>
            <a:ext cx="5410080" cy="3625920"/>
          </a:xfrm>
          <a:prstGeom prst="rect">
            <a:avLst/>
          </a:prstGeom>
          <a:ln w="0">
            <a:noFill/>
          </a:ln>
        </p:spPr>
      </p:pic>
      <p:sp>
        <p:nvSpPr>
          <p:cNvPr id="107" name="Объект 2"/>
          <p:cNvSpPr/>
          <p:nvPr/>
        </p:nvSpPr>
        <p:spPr>
          <a:xfrm>
            <a:off x="762120" y="1571760"/>
            <a:ext cx="807696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льзя ставить слишком высокую планку, рассуждать о том, как важны высокие балл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Шатилова Нина Никола</cp:lastModifiedBy>
  <dcterms:modified xsi:type="dcterms:W3CDTF">2018-12-21T15:24:0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