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7A7-4D9A-4A71-A5A9-50F01F223E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и – и – два –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B53-C8A3-436F-9FC3-97BD6DA2847D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1A8-F4D4-4214-A61A-6E40745F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85B-933A-41F4-905A-757DBAF1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173-41F3-4A58-ACAC-BABE643D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8B7-AFA5-4F4C-8AE2-592E7F5F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328-1D1A-4897-AA0F-889F8EC0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A667-140F-4554-96F0-3C89E7A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121-3198-4FFB-99EE-954C0888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C78C-3FEF-4CAC-B764-C045E508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C225-4FAF-4159-B2D5-4CC72B5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BBE8-E543-485A-98B1-ECA4AE6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083-D8E2-40E1-BBD8-2F167C0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504-6DAE-4C99-B466-B068864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20A7-68E6-491B-B30A-6F79C4B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400-F7CC-4ABC-8B21-AFF7F25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D39-8BE2-4ED4-8F23-E16779E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104C-2B02-4CA3-9BCA-4954F17A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279B-37B4-4F36-80CF-90C9046F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611B-2330-40D5-9598-6CD2A475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42BA-DFAB-41A0-AA57-B67E248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D107-F40D-4F05-817C-C4D4DA1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95F1-2DDA-492A-B221-1F5D93E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8735-4D32-4BEF-8F46-B0B59F5E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12A-3610-41AD-A475-8E4A8D9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436A-B7F2-4BB7-B3D5-C10684B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1261-440F-4821-AC8C-58C3B71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F4BF-2A95-456A-A4BF-5CECB6B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D7FB-363A-4EFB-B103-3F463AA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3A0C-19E9-4FD4-BF95-AE27D8A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5E42-15CC-4CD4-84BC-7364F1FB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AACC-AC70-4D31-AEC7-EC82171E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9597-A9F7-4751-8F1E-645B04A6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2EF3-EC6C-48E5-9B26-248A4C5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2315-1301-4866-BB54-80C43BF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270-29CB-47A8-AD75-078C822D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8770-C948-4044-925F-425AC38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3E72-C336-442A-8D3B-D56DD43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3397-1CE0-40DA-8100-A6BDE86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B1D4-482A-465D-AF21-D809CFA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4320-A557-4865-827E-D88B25C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C59F-40E2-49FA-A16D-42ADEDC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B8D5-4004-4E6E-9E29-A2095B4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4848-921F-4B4C-8C2B-73CDFDD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9C33-F344-484D-9AA7-1DD797EF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97C-24AC-4E8A-93D0-B48B57E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7E2-638E-4053-8EA3-9FFF40B6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A0F-A90F-494D-B595-C93FF99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10A-89C2-4898-A407-5B670CB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243-E407-4029-B32B-F5E4956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3BB-93F7-4B1B-A80A-821F1357C5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C1D-6FDF-48ED-BD91-3FAFE5DEC59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0AA3-0238-418A-9149-5891282E48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F817-58AA-4247-8D7C-FE341C4357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ÐÐ°ÑÑÐ¸Ð½ÐºÐ¸ Ð¿Ð¾ Ð·Ð°Ð¿ÑÐ¾ÑÑ ÐºÐ°ÑÑÐ¸Ð½ÐºÐ° Ð´Ð¾Ð±ÑÐ¾Ðµ ÑÑÑÐ¾"/>
          <p:cNvPicPr/>
          <p:nvPr/>
        </p:nvPicPr>
        <p:blipFill>
          <a:blip r:embed="rId1"/>
          <a:stretch/>
        </p:blipFill>
        <p:spPr>
          <a:xfrm>
            <a:off x="826920" y="5270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Андрей\Desktop\к.jpg"/>
          <p:cNvPicPr/>
          <p:nvPr/>
        </p:nvPicPr>
        <p:blipFill>
          <a:blip r:embed="rId1"/>
          <a:stretch/>
        </p:blipFill>
        <p:spPr>
          <a:xfrm>
            <a:off x="611280" y="549360"/>
            <a:ext cx="2133360" cy="217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Андрей\Desktop\к1.jpg"/>
          <p:cNvPicPr/>
          <p:nvPr/>
        </p:nvPicPr>
        <p:blipFill>
          <a:blip r:embed="rId2"/>
          <a:stretch/>
        </p:blipFill>
        <p:spPr>
          <a:xfrm>
            <a:off x="5796000" y="2884320"/>
            <a:ext cx="2617920" cy="314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ÐÐ°ÑÑÐ¸Ð½ÐºÐ¸ Ð¿Ð¾ Ð·Ð°Ð¿ÑÐ¾ÑÑ Ð½Ð° ÑÑÐ¾ Ð¿Ð¾ÑÐ¾Ð¶Ð° Ð±ÑÐºÐ²Ð° Ðº"/>
          <p:cNvPicPr/>
          <p:nvPr/>
        </p:nvPicPr>
        <p:blipFill>
          <a:blip r:embed="rId3"/>
          <a:stretch/>
        </p:blipFill>
        <p:spPr>
          <a:xfrm>
            <a:off x="4356000" y="2080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ÐÐ°ÑÑÐ¸Ð½ÐºÐ¸ Ð¿Ð¾ Ð·Ð°Ð¿ÑÐ¾ÑÑ Ð½Ð° ÑÑÐ¾ Ð¿Ð¾ÑÐ¾Ð¶Ð° Ð±ÑÐºÐ²Ð° Ðº"/>
          <p:cNvPicPr/>
          <p:nvPr/>
        </p:nvPicPr>
        <p:blipFill>
          <a:blip r:embed="rId4"/>
          <a:stretch/>
        </p:blipFill>
        <p:spPr>
          <a:xfrm>
            <a:off x="2050920" y="3218040"/>
            <a:ext cx="21034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Trebuchet MS"/>
              </a:rPr>
              <a:t>каска, киска, кекс, кеды, кедр, кисть, к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87280" y="134100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Тема урока: «Строчная бука к, звуки [к], [к’]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Цель урока: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научиться писать букву к;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писать слова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слоги с буквой к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26920"/>
                <a:gridCol w="7490160"/>
                <a:gridCol w="826920"/>
              </a:tblGrid>
              <a:tr h="171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93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9360">
                      <a:solidFill>
                        <a:srgbClr val="5968b0"/>
                      </a:solidFill>
                    </a:lnL>
                    <a:lnR w="93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17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93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95a4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95a4de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</a:tr>
            </a:tbl>
          </a:graphicData>
        </a:graphic>
      </p:graphicFrame>
      <p:pic>
        <p:nvPicPr>
          <p:cNvPr id="234" name="Рисунок 2" descr="IMG_2077.JPG"/>
          <p:cNvPicPr/>
          <p:nvPr/>
        </p:nvPicPr>
        <p:blipFill>
          <a:blip r:embed="rId1"/>
          <a:stretch/>
        </p:blipFill>
        <p:spPr>
          <a:xfrm>
            <a:off x="2592360" y="3127320"/>
            <a:ext cx="2484360" cy="2246400"/>
          </a:xfrm>
          <a:prstGeom prst="rect">
            <a:avLst/>
          </a:prstGeom>
          <a:ln w="0">
            <a:noFill/>
          </a:ln>
        </p:spPr>
      </p:pic>
      <p:sp>
        <p:nvSpPr>
          <p:cNvPr id="235" name="Овал 3"/>
          <p:cNvSpPr/>
          <p:nvPr/>
        </p:nvSpPr>
        <p:spPr>
          <a:xfrm>
            <a:off x="3419640" y="3357720"/>
            <a:ext cx="215640" cy="21564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5541480" y="41450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237" name="Овал 7"/>
          <p:cNvSpPr/>
          <p:nvPr/>
        </p:nvSpPr>
        <p:spPr>
          <a:xfrm>
            <a:off x="3132000" y="4221000"/>
            <a:ext cx="144720" cy="15264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8" descr="1624118-2ee4fc57886f1592[1] - копия.png"/>
          <p:cNvPicPr/>
          <p:nvPr/>
        </p:nvPicPr>
        <p:blipFill>
          <a:blip r:embed="rId3"/>
          <a:stretch/>
        </p:blipFill>
        <p:spPr>
          <a:xfrm>
            <a:off x="179280" y="4280040"/>
            <a:ext cx="15130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23386 -0.19375 E">
                                      <p:cBhvr>
                                        <p:cTn id="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86 -0.19375 C -0.27049 -0.07986 -0.30712 0.03403 -0.31441 0.05671 C -0.3217 0.0794 -0.30018 -0.01875 -0.27778 -0.05695 C -0.25538 -0.09514 -0.20087 -0.15371 -0.18021 -0.17246 C -0.15955 -0.19121 -0.15868 -0.17616 -0.15347 -0.16921 C -0.14827 -0.16227 -0.14948 -0.13681 -0.14861 -0.13033 E">
                                      <p:cBhvr>
                                        <p:cTn id="10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309 -0.06481 C -0.24184 -0.07685 -0.21042 -0.08889 -0.19757 -0.08287 C -0.18473 -0.07685 -0.1941 -0.04606 -0.19636 -0.02916 C -0.19861 -0.01227 -0.21198 0.00533 -0.21094 0.01806 C -0.2099 0.03079 -0.204 0.05209 -0.19011 0.04722 C -0.17622 0.04236 -0.13837 -0.00162 -0.12795 -0.01134 E">
                                      <p:cBhvr>
                                        <p:cTn id="13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ÐÐ°ÑÑÐ¸Ð½ÐºÐ¸ Ð¿Ð¾ Ð·Ð°Ð¿ÑÐ¾ÑÑ Ð²Ð¸Ð´Ñ ÐºÐ°ÑÐ¾Ðº"/>
          <p:cNvPicPr/>
          <p:nvPr/>
        </p:nvPicPr>
        <p:blipFill>
          <a:blip r:embed="rId1"/>
          <a:stretch/>
        </p:blipFill>
        <p:spPr>
          <a:xfrm>
            <a:off x="468360" y="26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ÐÐ°ÑÑÐ¸Ð½ÐºÐ¸ Ð¿Ð¾ Ð·Ð°Ð¿ÑÐ¾ÑÑ Ð²Ð¸Ð´Ñ ÐºÐ°ÑÐ¾Ðº"/>
          <p:cNvPicPr/>
          <p:nvPr/>
        </p:nvPicPr>
        <p:blipFill>
          <a:blip r:embed="rId2"/>
          <a:stretch/>
        </p:blipFill>
        <p:spPr>
          <a:xfrm>
            <a:off x="5508720" y="333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ÐÐ°ÑÑÐ¸Ð½ÐºÐ¸ Ð¿Ð¾ Ð·Ð°Ð¿ÑÐ¾ÑÑ Ð²Ð¸Ð´Ñ ÐºÐ°ÑÐ¾Ðº"/>
          <p:cNvPicPr/>
          <p:nvPr/>
        </p:nvPicPr>
        <p:blipFill>
          <a:blip r:embed="rId3"/>
          <a:stretch/>
        </p:blipFill>
        <p:spPr>
          <a:xfrm>
            <a:off x="900000" y="3213000"/>
            <a:ext cx="3049560" cy="268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4932360" y="3429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411280" y="134100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04040"/>
                </a:solidFill>
                <a:latin typeface="Trebuchet MS"/>
              </a:rPr>
              <a:t>кисть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979640" y="227664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04040"/>
                </a:solidFill>
                <a:latin typeface="Trebuchet MS"/>
              </a:rPr>
              <a:t>кость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3:46:58Z</dcterms:created>
  <dc:creator>Андрей</dc:creator>
  <dc:description/>
  <dc:language>en-US</dc:language>
  <cp:lastModifiedBy>Андрей</cp:lastModifiedBy>
  <dcterms:modified xsi:type="dcterms:W3CDTF">2018-11-26T16:31:24Z</dcterms:modified>
  <cp:revision>3</cp:revision>
  <dc:subject/>
  <dc:title>Презентация PowerPoint</dc:title>
</cp:coreProperties>
</file>