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8F3B-570C-4A89-BBDA-C5A19674DC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– и – и – два –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2299-FE2D-489E-9DCC-A44284427270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45C-CEA5-414A-B483-4555D1AC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ACF-529C-48B8-A8AA-B6726600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01E5-44E6-4425-B0D7-38359BCE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1FB-0583-4F9D-860A-C66DBE03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AB47-E5F0-4EA1-8EF3-A3A80F43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30E2-496D-4E6E-9C71-32307242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E5AF-13F9-4F07-B53D-45D6B106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C7C1-3877-4656-AF4D-5BB3F395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2E04-1B6A-450F-B88C-D54D4A2C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DD87-8C5F-46E4-BF39-E8F88E6A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A5F3-2158-4A06-9ABF-84C18470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AFAC-5E1E-41F4-8A72-D921CA80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8FCD-AD96-4C2C-AC37-373447FB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6E99-5AD5-4375-9358-FFDA3E57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29CB-A281-4DEA-86C8-77CF5CC4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539D-9256-4DFD-B013-77D6A748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FCA3-2A22-42BC-A60B-21E87A9B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C59EE-73A2-412D-9350-4880DC86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D6155-08C9-470F-A75E-18371F8A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5FE4F-65B4-4304-8AAE-872C2211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7F5F1-71C8-48AC-8D76-594F6DF0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99453-2B4B-44E9-BC63-368844D8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3C4-30F5-4F3B-A89E-FA7734D8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02C60-F925-421A-B373-B6B8022A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0007D-391C-4810-87D2-E4263374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2D850-62FB-4928-8717-0BAACF9F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CA9A6-E302-492D-96A6-E2DAF7EF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0E059-EA2D-40A3-9638-4A5C2176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210AF-ED14-4068-A413-A5C5D38A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CD5F3-A85A-489E-812F-3F1970AB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BB254-8987-4643-B491-EABA397F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5E582-AE9C-4989-BEC7-A9FAB9BD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1CDE5-3197-4FF6-B7DF-AEDF6B1E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06C3-C5EA-4FA7-A7B6-484D4816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6D2B2-EB7E-4160-986F-E6A00EB9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064EC-2488-4359-8D50-5E2DABC0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BEAE8-0EA5-4E40-B6FC-E9F33190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3F1EE-F090-4C24-893E-9174C292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8D214-76E7-4FC9-9CAA-089CB04C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3F46E-E9CC-4403-9361-B04C0495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9F0DF-96E3-47F6-9229-7815A95A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2FE06-8946-46D0-B57F-09707828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D5BF8-E6F0-4E1D-B83D-5174346A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282D-4C96-44CB-B42D-712D86C0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1283-386F-4FCD-91A7-4C053FE5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36AF-0466-4008-A266-3CD10A60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2128-2DC6-413F-B4F1-F2E538DF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0E84-97D8-40F0-BDDF-2DE8B2EC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AD5B-AD01-4B07-9855-83E51DA9D71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3C3A-0303-41B1-8362-D95B983B4F7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B4E4-1C25-41EB-AE65-EBA30171C66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9898-E640-41DF-B248-45FA218ABE4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817560" y="3131640"/>
            <a:ext cx="717552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Picture 2" descr="ÐÐ°ÑÑÐ¸Ð½ÐºÐ¸ Ð¿Ð¾ Ð·Ð°Ð¿ÑÐ¾ÑÑ ÐºÐ°ÑÑÐ¸Ð½ÐºÐ° Ð´Ð¾Ð±ÑÐ¾Ðµ ÑÑÑÐ¾"/>
          <p:cNvPicPr/>
          <p:nvPr/>
        </p:nvPicPr>
        <p:blipFill>
          <a:blip r:embed="rId1"/>
          <a:stretch/>
        </p:blipFill>
        <p:spPr>
          <a:xfrm>
            <a:off x="826920" y="5270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Picture 2" descr="C:\Users\Андрей\Desktop\к.jpg"/>
          <p:cNvPicPr/>
          <p:nvPr/>
        </p:nvPicPr>
        <p:blipFill>
          <a:blip r:embed="rId1"/>
          <a:stretch/>
        </p:blipFill>
        <p:spPr>
          <a:xfrm>
            <a:off x="611280" y="549360"/>
            <a:ext cx="2133360" cy="2176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C:\Users\Андрей\Desktop\к1.jpg"/>
          <p:cNvPicPr/>
          <p:nvPr/>
        </p:nvPicPr>
        <p:blipFill>
          <a:blip r:embed="rId2"/>
          <a:stretch/>
        </p:blipFill>
        <p:spPr>
          <a:xfrm>
            <a:off x="5796000" y="2884320"/>
            <a:ext cx="2617920" cy="3141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ÐÐ°ÑÑÐ¸Ð½ÐºÐ¸ Ð¿Ð¾ Ð·Ð°Ð¿ÑÐ¾ÑÑ Ð½Ð° ÑÑÐ¾ Ð¿Ð¾ÑÐ¾Ð¶Ð° Ð±ÑÐºÐ²Ð° Ðº"/>
          <p:cNvPicPr/>
          <p:nvPr/>
        </p:nvPicPr>
        <p:blipFill>
          <a:blip r:embed="rId3"/>
          <a:stretch/>
        </p:blipFill>
        <p:spPr>
          <a:xfrm>
            <a:off x="4356000" y="208080"/>
            <a:ext cx="2428920" cy="2857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ÐÐ°ÑÑÐ¸Ð½ÐºÐ¸ Ð¿Ð¾ Ð·Ð°Ð¿ÑÐ¾ÑÑ Ð½Ð° ÑÑÐ¾ Ð¿Ð¾ÑÐ¾Ð¶Ð° Ð±ÑÐºÐ²Ð° Ðº"/>
          <p:cNvPicPr/>
          <p:nvPr/>
        </p:nvPicPr>
        <p:blipFill>
          <a:blip r:embed="rId4"/>
          <a:stretch/>
        </p:blipFill>
        <p:spPr>
          <a:xfrm>
            <a:off x="2050920" y="3218040"/>
            <a:ext cx="21034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04040"/>
                </a:solidFill>
                <a:latin typeface="Trebuchet MS"/>
              </a:rPr>
              <a:t>каска, киска, кекс, кеды, кедр, кисть, кость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187280" y="1341000"/>
            <a:ext cx="640080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rebuchet MS"/>
              </a:rPr>
              <a:t>Тема урока: «Строчная бука к, звуки [к], [к’]»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Цель урока: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-научиться писать букву к;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-писать слова;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-слоги с буквой к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826920"/>
                <a:gridCol w="7490160"/>
                <a:gridCol w="826920"/>
              </a:tblGrid>
              <a:tr h="1714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968b0"/>
                      </a:solidFill>
                    </a:lnL>
                    <a:lnR w="9360">
                      <a:solidFill>
                        <a:srgbClr val="5968b0"/>
                      </a:solidFill>
                    </a:lnR>
                    <a:lnT w="5760">
                      <a:solidFill>
                        <a:srgbClr val="5968b0"/>
                      </a:solidFill>
                    </a:lnT>
                    <a:lnB w="9360">
                      <a:solidFill>
                        <a:srgbClr val="5968b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9360">
                      <a:solidFill>
                        <a:srgbClr val="5968b0"/>
                      </a:solidFill>
                    </a:lnL>
                    <a:lnR w="9360">
                      <a:solidFill>
                        <a:srgbClr val="5968b0"/>
                      </a:solidFill>
                    </a:lnR>
                    <a:lnT w="5760">
                      <a:solidFill>
                        <a:srgbClr val="5968b0"/>
                      </a:solidFill>
                    </a:lnT>
                    <a:lnB w="9360">
                      <a:solidFill>
                        <a:srgbClr val="5968b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968b0"/>
                      </a:solidFill>
                    </a:lnL>
                    <a:lnR w="5760">
                      <a:solidFill>
                        <a:srgbClr val="5968b0"/>
                      </a:solidFill>
                    </a:lnR>
                    <a:lnT w="5760">
                      <a:solidFill>
                        <a:srgbClr val="5968b0"/>
                      </a:solidFill>
                    </a:lnT>
                    <a:lnB w="9360">
                      <a:solidFill>
                        <a:srgbClr val="5968b0"/>
                      </a:solidFill>
                    </a:lnB>
                    <a:solidFill>
                      <a:srgbClr val="dce1f4"/>
                    </a:solidFill>
                  </a:tcPr>
                </a:tc>
              </a:tr>
              <a:tr h="171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9360">
                      <a:solidFill>
                        <a:srgbClr val="5968b0"/>
                      </a:solidFill>
                    </a:lnL>
                    <a:lnR w="5760">
                      <a:solidFill>
                        <a:srgbClr val="5968b0"/>
                      </a:solidFill>
                    </a:lnR>
                    <a:lnT w="9360">
                      <a:solidFill>
                        <a:srgbClr val="5968b0"/>
                      </a:solidFill>
                    </a:lnT>
                    <a:lnB w="9360">
                      <a:solidFill>
                        <a:srgbClr val="5968b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968b0"/>
                      </a:solidFill>
                    </a:lnL>
                    <a:lnR w="5760">
                      <a:solidFill>
                        <a:srgbClr val="5968b0"/>
                      </a:solidFill>
                    </a:lnR>
                    <a:lnT w="9360">
                      <a:solidFill>
                        <a:srgbClr val="5968b0"/>
                      </a:solidFill>
                    </a:lnT>
                    <a:lnB w="9360">
                      <a:solidFill>
                        <a:srgbClr val="5968b0"/>
                      </a:solidFill>
                    </a:lnB>
                    <a:solidFill>
                      <a:srgbClr val="95a4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968b0"/>
                      </a:solidFill>
                    </a:lnL>
                    <a:lnR w="5760">
                      <a:solidFill>
                        <a:srgbClr val="5968b0"/>
                      </a:solidFill>
                    </a:lnR>
                    <a:lnT w="9360">
                      <a:solidFill>
                        <a:srgbClr val="5968b0"/>
                      </a:solidFill>
                    </a:lnT>
                    <a:lnB w="9360">
                      <a:solidFill>
                        <a:srgbClr val="5968b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968b0"/>
                      </a:solidFill>
                    </a:lnL>
                    <a:lnR w="5760">
                      <a:solidFill>
                        <a:srgbClr val="5968b0"/>
                      </a:solidFill>
                    </a:lnR>
                    <a:lnT w="9360">
                      <a:solidFill>
                        <a:srgbClr val="5968b0"/>
                      </a:solidFill>
                    </a:lnT>
                    <a:lnB w="9360">
                      <a:solidFill>
                        <a:srgbClr val="5968b0"/>
                      </a:solidFill>
                    </a:lnB>
                    <a:solidFill>
                      <a:srgbClr val="95a4de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968b0"/>
                      </a:solidFill>
                    </a:lnL>
                    <a:lnR w="5760">
                      <a:solidFill>
                        <a:srgbClr val="5968b0"/>
                      </a:solidFill>
                    </a:lnR>
                    <a:lnT w="9360">
                      <a:solidFill>
                        <a:srgbClr val="5968b0"/>
                      </a:solidFill>
                    </a:lnT>
                    <a:lnB w="5760">
                      <a:solidFill>
                        <a:srgbClr val="5968b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968b0"/>
                      </a:solidFill>
                    </a:lnL>
                    <a:lnR w="5760">
                      <a:solidFill>
                        <a:srgbClr val="5968b0"/>
                      </a:solidFill>
                    </a:lnR>
                    <a:lnT w="9360">
                      <a:solidFill>
                        <a:srgbClr val="5968b0"/>
                      </a:solidFill>
                    </a:lnT>
                    <a:lnB w="5760">
                      <a:solidFill>
                        <a:srgbClr val="5968b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968b0"/>
                      </a:solidFill>
                    </a:lnL>
                    <a:lnR w="5760">
                      <a:solidFill>
                        <a:srgbClr val="5968b0"/>
                      </a:solidFill>
                    </a:lnR>
                    <a:lnT w="9360">
                      <a:solidFill>
                        <a:srgbClr val="5968b0"/>
                      </a:solidFill>
                    </a:lnT>
                    <a:lnB w="5760">
                      <a:solidFill>
                        <a:srgbClr val="5968b0"/>
                      </a:solidFill>
                    </a:lnB>
                    <a:solidFill>
                      <a:srgbClr val="dce1f4"/>
                    </a:solidFill>
                  </a:tcPr>
                </a:tc>
              </a:tr>
            </a:tbl>
          </a:graphicData>
        </a:graphic>
      </p:graphicFrame>
      <p:pic>
        <p:nvPicPr>
          <p:cNvPr id="234" name="Рисунок 2" descr="IMG_2077.JPG"/>
          <p:cNvPicPr/>
          <p:nvPr/>
        </p:nvPicPr>
        <p:blipFill>
          <a:blip r:embed="rId1"/>
          <a:stretch/>
        </p:blipFill>
        <p:spPr>
          <a:xfrm>
            <a:off x="2592360" y="3127320"/>
            <a:ext cx="2484360" cy="2246400"/>
          </a:xfrm>
          <a:prstGeom prst="rect">
            <a:avLst/>
          </a:prstGeom>
          <a:ln w="0">
            <a:noFill/>
          </a:ln>
        </p:spPr>
      </p:pic>
      <p:sp>
        <p:nvSpPr>
          <p:cNvPr id="235" name="Овал 3"/>
          <p:cNvSpPr/>
          <p:nvPr/>
        </p:nvSpPr>
        <p:spPr>
          <a:xfrm>
            <a:off x="3419640" y="3357720"/>
            <a:ext cx="215640" cy="21564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9" descr="karanda16"/>
          <p:cNvPicPr/>
          <p:nvPr/>
        </p:nvPicPr>
        <p:blipFill>
          <a:blip r:embed="rId2"/>
          <a:stretch/>
        </p:blipFill>
        <p:spPr>
          <a:xfrm flipH="1" rot="20323800">
            <a:off x="5541480" y="41450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237" name="Овал 7"/>
          <p:cNvSpPr/>
          <p:nvPr/>
        </p:nvSpPr>
        <p:spPr>
          <a:xfrm>
            <a:off x="3132000" y="4221000"/>
            <a:ext cx="144720" cy="15264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Рисунок 8" descr="1624118-2ee4fc57886f1592[1] - копия.png"/>
          <p:cNvPicPr/>
          <p:nvPr/>
        </p:nvPicPr>
        <p:blipFill>
          <a:blip r:embed="rId3"/>
          <a:stretch/>
        </p:blipFill>
        <p:spPr>
          <a:xfrm>
            <a:off x="179280" y="4280040"/>
            <a:ext cx="151308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-0.23386 -0.19375 E">
                                      <p:cBhvr>
                                        <p:cTn id="6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386 -0.19375 C -0.27049 -0.07986 -0.30712 0.03403 -0.31441 0.05671 C -0.3217 0.0794 -0.30018 -0.01875 -0.27778 -0.05695 C -0.25538 -0.09514 -0.20087 -0.15371 -0.18021 -0.17246 C -0.15955 -0.19121 -0.15868 -0.17616 -0.15347 -0.16921 C -0.14827 -0.16227 -0.14948 -0.13681 -0.14861 -0.13033 E">
                                      <p:cBhvr>
                                        <p:cTn id="10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309 -0.06481 C -0.24184 -0.07685 -0.21042 -0.08889 -0.19757 -0.08287 C -0.18473 -0.07685 -0.1941 -0.04606 -0.19636 -0.02916 C -0.19861 -0.01227 -0.21198 0.00533 -0.21094 0.01806 C -0.2099 0.03079 -0.204 0.05209 -0.19011 0.04722 C -0.17622 0.04236 -0.13837 -0.00162 -0.12795 -0.01134 E">
                                      <p:cBhvr>
                                        <p:cTn id="13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Picture 2" descr="ÐÐ°ÑÑÐ¸Ð½ÐºÐ¸ Ð¿Ð¾ Ð·Ð°Ð¿ÑÐ¾ÑÑ Ð²Ð¸Ð´Ñ ÐºÐ°ÑÐ¾Ðº"/>
          <p:cNvPicPr/>
          <p:nvPr/>
        </p:nvPicPr>
        <p:blipFill>
          <a:blip r:embed="rId1"/>
          <a:stretch/>
        </p:blipFill>
        <p:spPr>
          <a:xfrm>
            <a:off x="468360" y="260280"/>
            <a:ext cx="3995640" cy="2664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ÐÐ°ÑÑÐ¸Ð½ÐºÐ¸ Ð¿Ð¾ Ð·Ð°Ð¿ÑÐ¾ÑÑ Ð²Ð¸Ð´Ñ ÐºÐ°ÑÐ¾Ðº"/>
          <p:cNvPicPr/>
          <p:nvPr/>
        </p:nvPicPr>
        <p:blipFill>
          <a:blip r:embed="rId2"/>
          <a:stretch/>
        </p:blipFill>
        <p:spPr>
          <a:xfrm>
            <a:off x="5508720" y="333360"/>
            <a:ext cx="2663640" cy="2664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ÐÐ°ÑÑÐ¸Ð½ÐºÐ¸ Ð¿Ð¾ Ð·Ð°Ð¿ÑÐ¾ÑÑ Ð²Ð¸Ð´Ñ ÐºÐ°ÑÐ¾Ðº"/>
          <p:cNvPicPr/>
          <p:nvPr/>
        </p:nvPicPr>
        <p:blipFill>
          <a:blip r:embed="rId3"/>
          <a:stretch/>
        </p:blipFill>
        <p:spPr>
          <a:xfrm>
            <a:off x="900000" y="3213000"/>
            <a:ext cx="3049560" cy="2687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ÐÐ¾ÑÐ¾Ð¶ÐµÐµ Ð¸Ð·Ð¾Ð±ÑÐ°Ð¶ÐµÐ½Ð¸Ðµ"/>
          <p:cNvPicPr/>
          <p:nvPr/>
        </p:nvPicPr>
        <p:blipFill>
          <a:blip r:embed="rId4"/>
          <a:stretch/>
        </p:blipFill>
        <p:spPr>
          <a:xfrm>
            <a:off x="4932360" y="342900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411280" y="134100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22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04040"/>
                </a:solidFill>
                <a:latin typeface="Trebuchet MS"/>
              </a:rPr>
              <a:t>кисть</a:t>
            </a:r>
            <a:endParaRPr b="0" lang="en-US" sz="8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979640" y="2276640"/>
            <a:ext cx="640080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22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04040"/>
                </a:solidFill>
                <a:latin typeface="Trebuchet MS"/>
              </a:rPr>
              <a:t>кость</a:t>
            </a:r>
            <a:endParaRPr b="0" lang="en-US" sz="8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5T13:46:58Z</dcterms:created>
  <dc:creator>Андрей</dc:creator>
  <dc:description/>
  <dc:language>en-US</dc:language>
  <cp:lastModifiedBy>Андрей</cp:lastModifiedBy>
  <dcterms:modified xsi:type="dcterms:W3CDTF">2018-11-26T16:31:24Z</dcterms:modified>
  <cp:revision>3</cp:revision>
  <dc:subject/>
  <dc:title>Презентация PowerPoint</dc:title>
</cp:coreProperties>
</file>