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move the slide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27EC-645B-4BDB-932D-9A37498A08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5598-E04F-4348-94F4-42DED4AD8252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DCDA-DC22-4BFC-AD2B-B3D88BB28BA6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E6C9-3528-4894-972D-83FD770C1306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57A5-2DFB-4226-A5BB-4BB4F7F27471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779C-7F38-4184-89A7-AEC5851B6565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9288-FDCD-4FFE-A353-8ABBCBDAB57A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5B6-1C7D-4510-A79F-0AF97337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5E0-0FDD-4621-BB61-A7386E1B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98DBC-803B-4683-8314-C6B0710A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DE6D8-AB9D-4393-B334-0A6E23FB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896B0-A5F4-449D-9FCC-515A8C59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E8305-0922-41A9-954F-5B0027F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08344-35C5-47D1-AE7F-0C33FE23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1D8A7-0914-4ED3-96D3-E44988E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ACA0B-9C27-412B-A2F9-62FBA38D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85E7B-01B8-41E4-9629-EEC5AFA1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DF49A-2ADA-4379-9071-3F45AFEA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44045-290D-46A6-8D06-CF0122DF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109-36F7-4D40-85D1-F6889AA2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FDF18-3B47-4CFC-A605-0CE60A15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57879-3665-4B34-B1FA-E880CC17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251CE-CFB7-47C5-A70C-8BFB736A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A7851-79D0-4E68-AA99-10F0FCA8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2D391-A229-4373-AE3E-A8BFBFE1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2148C-73C6-4ADD-8957-9893E16D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DCE43-5043-4F6D-96D2-D6E5CD7C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9B1A5-AE73-430E-89FE-7835B84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1CA59-BDFB-4BB1-92C6-61CA43DF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1CF99-8FFB-4EE7-9E50-2392969E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AFB-7B4B-48EB-9E57-287D9EA1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F6AF6-031D-451C-B4AF-4892F688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FC6E0-B69B-4915-A2D9-DD254765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637E7-C1D4-4099-810F-59F8F96C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F9B17-4CD9-4113-8910-412E73F8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25201-5350-494C-B29C-F7A46CE6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A7923-D345-42BA-BED5-ADA4DF3B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854E0-5C24-4172-8FDE-57277206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4CECB-DA11-4948-933F-0EE8B09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9175C-87BA-42B6-99DF-632F329B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7379E-240C-4CC2-B3E9-E90C83F3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E7192-D2F8-4459-91D6-A633B54D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A8F5B-8DC5-463D-BA56-7F563A7F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15306-96A9-4B87-AC28-9383EF6A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E58ED-46FC-4327-A6EC-6767D56D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46DFC-3FF0-48A7-A5F6-745A8516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582DA-C422-43B2-99E0-04A387C1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0BE55-8FDA-48D9-BDD1-A5368078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901E4-A448-47CF-A3EE-2541792F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F4DF8-584D-4AA2-8AD6-CD082139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E1BAC-4230-42B7-9BD9-E9FF4D15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478F7-CBF9-45E1-B249-F534AB61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A90EA-A637-4B83-81A5-939C5933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0AC8D-A9CF-42B8-A431-A69B3FEE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E29F2-DD02-4C57-990D-667EF001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DA0EF-A0FD-4178-8936-43A51625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4EF03-40A2-4C6B-9AA7-0D04FA43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EEFAB-FA87-4ECB-BC07-E8F51E50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CEF9D-2646-4034-B468-7041A364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A8E7C-17A6-4764-9AF8-44461B3B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EE1D0-E6D4-49EC-BD0D-548D2917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BC2FB-F846-4B05-A826-9D352FCF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25A52-A254-4B6E-99BA-4A577286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DDAB1-7075-4CE3-9E63-AA5BE201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589ED-FD6D-4B10-95F4-F9100861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9A8EA-3BDC-4971-99C7-1542874A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A4A9E-15A1-4066-BB5D-C13CD414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8FFC4-10AA-4E08-AE38-A9303FAF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30E0A-929C-489E-A0E8-116FD0AA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B7471-82E8-4679-B440-3EA8AA0F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3D3E5-CFDE-4EC2-B0AE-7C123C94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D213D-AE67-4A08-91B7-32C4E59B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A5415-3E46-482A-9FF9-44D491E7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344FD-EFBE-4092-9B91-91AF4507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89D7E-926B-498A-82BF-7DD5D85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A7400-2768-4EEF-A9D9-637E7AE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95C4E-A0F7-4195-B690-1203032C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F4863-2EB9-49C4-A33B-13F0A090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A01D4-8350-4E5B-B1A1-8C6EAEA7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E7037-4678-4A35-A5FB-302D900B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988-0A4A-4345-A834-7B116013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C3105-9B58-4213-95DD-E83DA12D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78EEB-3967-4EFF-AE3E-C149DC16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BDE82-D2A6-405C-98D9-AEDDED1D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6FD20-2112-4022-AF3C-BE3167C7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C91CB-2337-4AC8-A751-78495515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10B-FEC5-472E-975D-059058DC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8BCC6-3ACB-41D5-BC43-C71E7669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9199C-EFA1-4C39-9425-31244A28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359DD-B468-4612-8E67-B18A04C4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02B53-10A9-4239-8186-0F1C75D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C3D2E-ACBA-4B69-9550-FE6E4AC3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0B3F1-D1D3-49B9-AB52-2BBA1B92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780A4-DC41-446C-9912-0FE96A80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EE2-6A9F-47A9-AC9E-0E8EF297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5AF-FEA4-4C62-9613-42134D5A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826-B7B8-4B98-889A-FDF0273F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78E1D-3C8A-4671-97D5-5F1900EB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BA6F4-77CF-435B-B7D0-37DD8345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298A-FFD3-4900-BB34-7FE36C6F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6665B-195F-4C55-B58A-6D47A805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BF993-DCF1-4CC9-8D63-2526A5F2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2E1B9-BCB4-4266-9B4B-CFD46144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C94AB-7463-4B0D-B8FB-E717856D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60BA9-6299-4DA4-A560-AE016C18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9DD84-7591-4468-99A7-406BC2A9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3F6-1F5F-4407-9A79-798D227A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9F486-ABC6-49CD-B9CA-1C21CB0B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07868-6423-45CB-B5A6-EAD3D851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8776B-4661-4CBB-A901-996D4303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5769F-83E6-4735-B429-655E4B1F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DF512-AC21-4218-ADA0-FADF6F76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27D15-918B-4E6C-9CA4-08E52FC2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DB21E-FB73-428D-8507-4D8729B4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75113-0235-420D-9372-282D9DA2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2CA15-6495-492A-9DE5-2459B13E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BF911-CD53-4915-A7F7-0FB8836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E77-17BB-42B3-B9E2-B394D046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8B073-E11B-4A8B-88A1-197B9FA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EBE89-2700-4FCF-99A7-E40D165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28D4A-3C90-467C-8A11-95D900F8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CAF27-A2F9-4723-B7C3-78662C11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CCDB-059C-4362-B661-66E4D40F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2970A-ADC5-47AF-8BFA-606CB90F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BBC0-D2D8-40F6-A8D8-C1BB6237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AFE79-1238-4A3D-B30E-21E79989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A69AD-CC4F-44CC-9798-A2D80064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2D8CE-742D-4BAE-8E55-82BC13AC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616-2E7B-4709-A9C0-706337C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3D4B2-8D78-4F89-934C-A76601D8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7FB12-78A7-46EB-AD8D-A88C922D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DEAE7-3A01-4F9A-95B2-6BE631E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3CE9-FE0D-41B3-9763-A9ED4A3E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027F1-901A-41F8-B21A-6C046173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A44DD-7167-4D85-A169-7B001435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86F24-F88E-4111-AB67-BC71E478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24841-D5AC-47F2-99A6-20EE28F4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15D77-E928-4978-88B2-5CB51091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34408-5266-47DC-B974-518A0851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4DD4-194F-4D0C-93DF-503FAC0C4B3E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11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391" name="Snip Diagonal Corner Rectangle 12"/>
            <p:cNvSpPr/>
            <p:nvPr/>
          </p:nvSpPr>
          <p:spPr>
            <a:xfrm flipV="1">
              <a:off x="228600" y="227520"/>
              <a:ext cx="4251240" cy="63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  <p:sp>
          <p:nvSpPr>
            <p:cNvPr id="392" name="Teardrop 13"/>
            <p:cNvSpPr/>
            <p:nvPr/>
          </p:nvSpPr>
          <p:spPr>
            <a:xfrm>
              <a:off x="3886200" y="431640"/>
              <a:ext cx="353880" cy="355320"/>
            </a:xfrm>
            <a:prstGeom prst="pi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</p:grpSp>
      <p:sp>
        <p:nvSpPr>
          <p:cNvPr id="393" name="Snip Diagonal Corner Rectangle 14"/>
          <p:cNvSpPr/>
          <p:nvPr/>
        </p:nvSpPr>
        <p:spPr>
          <a:xfrm flipV="1">
            <a:off x="4648320" y="227520"/>
            <a:ext cx="4251240" cy="6388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762120" y="6297120"/>
            <a:ext cx="1295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2057400" y="6297120"/>
            <a:ext cx="234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304920" y="6297120"/>
            <a:ext cx="444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DBFC-F7A1-406C-BBA6-FE34AFBCA880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10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436" name="Snip Diagonal Corner Rectangle 11"/>
            <p:cNvSpPr/>
            <p:nvPr/>
          </p:nvSpPr>
          <p:spPr>
            <a:xfrm flipV="1">
              <a:off x="228600" y="227520"/>
              <a:ext cx="4251240" cy="63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  <p:sp>
          <p:nvSpPr>
            <p:cNvPr id="437" name="Teardrop 12"/>
            <p:cNvSpPr/>
            <p:nvPr/>
          </p:nvSpPr>
          <p:spPr>
            <a:xfrm>
              <a:off x="3886200" y="431640"/>
              <a:ext cx="353880" cy="355320"/>
            </a:xfrm>
            <a:prstGeom prst="pi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758520" y="6300720"/>
            <a:ext cx="1298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2057400" y="6300720"/>
            <a:ext cx="234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01320" y="6300720"/>
            <a:ext cx="44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E33E-9A22-4605-8985-EE3042EC8BF0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nip Diagonal Corner Rectangle 8"/>
          <p:cNvSpPr/>
          <p:nvPr/>
        </p:nvSpPr>
        <p:spPr>
          <a:xfrm flipV="1">
            <a:off x="228600" y="4647960"/>
            <a:ext cx="8686800" cy="196344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BF52-D98D-49D2-A294-983C3863A660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nip Diagonal Corner Rectangle 8"/>
          <p:cNvSpPr/>
          <p:nvPr/>
        </p:nvSpPr>
        <p:spPr>
          <a:xfrm flipV="1">
            <a:off x="228600" y="1707120"/>
            <a:ext cx="8686800" cy="49086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22" name="Snip Diagonal Corner Rectangle 9"/>
          <p:cNvSpPr/>
          <p:nvPr/>
        </p:nvSpPr>
        <p:spPr>
          <a:xfrm flipV="1">
            <a:off x="228600" y="228240"/>
            <a:ext cx="8686800" cy="12780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84AE-914E-4251-85B3-670B43EBEE60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nip Diagonal Corner Rectangle 7"/>
          <p:cNvSpPr/>
          <p:nvPr/>
        </p:nvSpPr>
        <p:spPr>
          <a:xfrm flipV="1">
            <a:off x="228600" y="227520"/>
            <a:ext cx="8686800" cy="6388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F24-4301-410F-9CDC-0BEDB49B68FA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42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43" name="Snip Single Corner Rectangle 14"/>
              <p:cNvSpPr/>
              <p:nvPr/>
            </p:nvSpPr>
            <p:spPr>
              <a:xfrm flipV="1">
                <a:off x="0" y="3391200"/>
                <a:ext cx="7543800" cy="2590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  <p:sp>
            <p:nvSpPr>
              <p:cNvPr id="44" name="Straight Connector 15"/>
              <p:cNvSpPr/>
              <p:nvPr/>
            </p:nvSpPr>
            <p:spPr>
              <a:xfrm>
                <a:off x="0" y="337968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</p:grpSp>
        <p:sp>
          <p:nvSpPr>
            <p:cNvPr id="45" name="Teardrop 12"/>
            <p:cNvSpPr/>
            <p:nvPr/>
          </p:nvSpPr>
          <p:spPr>
            <a:xfrm>
              <a:off x="6818400" y="3620880"/>
              <a:ext cx="393480" cy="395280"/>
            </a:xfrm>
            <a:prstGeom prst="pi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</a:rPr>
              <a:t>10/1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bfbfbf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nip Diagonal Corner Rectangle 8"/>
          <p:cNvSpPr/>
          <p:nvPr/>
        </p:nvSpPr>
        <p:spPr>
          <a:xfrm flipV="1">
            <a:off x="228600" y="1707120"/>
            <a:ext cx="8686800" cy="49086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87" name="Snip Diagonal Corner Rectangle 9"/>
          <p:cNvSpPr/>
          <p:nvPr/>
        </p:nvSpPr>
        <p:spPr>
          <a:xfrm flipV="1">
            <a:off x="228600" y="228240"/>
            <a:ext cx="8686800" cy="12780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FC8-EDCE-4971-99F1-BD7DE8D39917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4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130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131" name="Snip Single Corner Rectangle 16"/>
              <p:cNvSpPr/>
              <p:nvPr/>
            </p:nvSpPr>
            <p:spPr>
              <a:xfrm flipV="1">
                <a:off x="0" y="3391200"/>
                <a:ext cx="7543800" cy="2590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  <p:sp>
            <p:nvSpPr>
              <p:cNvPr id="132" name="Straight Connector 17"/>
              <p:cNvSpPr/>
              <p:nvPr/>
            </p:nvSpPr>
            <p:spPr>
              <a:xfrm>
                <a:off x="0" y="337968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</p:grpSp>
        <p:sp>
          <p:nvSpPr>
            <p:cNvPr id="133" name="Teardrop 15"/>
            <p:cNvSpPr/>
            <p:nvPr/>
          </p:nvSpPr>
          <p:spPr>
            <a:xfrm>
              <a:off x="6818400" y="3620880"/>
              <a:ext cx="393480" cy="395280"/>
            </a:xfrm>
            <a:prstGeom prst="pi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</a:rPr>
              <a:t>10/1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bfbfbf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6"/>
          <p:cNvGrpSpPr/>
          <p:nvPr/>
        </p:nvGrpSpPr>
        <p:grpSpPr>
          <a:xfrm>
            <a:off x="1599840" y="2127240"/>
            <a:ext cx="7543800" cy="2603160"/>
            <a:chOff x="1599840" y="2127240"/>
            <a:chExt cx="7543800" cy="2603160"/>
          </a:xfrm>
        </p:grpSpPr>
        <p:grpSp>
          <p:nvGrpSpPr>
            <p:cNvPr id="175" name="Group 11"/>
            <p:cNvGrpSpPr/>
            <p:nvPr/>
          </p:nvGrpSpPr>
          <p:grpSpPr>
            <a:xfrm>
              <a:off x="1599840" y="2127240"/>
              <a:ext cx="7543800" cy="2603160"/>
              <a:chOff x="1599840" y="2127240"/>
              <a:chExt cx="7543800" cy="2603160"/>
            </a:xfrm>
          </p:grpSpPr>
          <p:sp>
            <p:nvSpPr>
              <p:cNvPr id="176" name="Snip Single Corner Rectangle 9"/>
              <p:cNvSpPr/>
              <p:nvPr/>
            </p:nvSpPr>
            <p:spPr>
              <a:xfrm flipH="1" flipV="1">
                <a:off x="1599480" y="2139120"/>
                <a:ext cx="7543800" cy="2590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  <p:sp>
            <p:nvSpPr>
              <p:cNvPr id="177" name="Straight Connector 10"/>
              <p:cNvSpPr/>
              <p:nvPr/>
            </p:nvSpPr>
            <p:spPr>
              <a:xfrm flipH="1">
                <a:off x="1599840" y="212724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</p:grpSp>
        <p:sp>
          <p:nvSpPr>
            <p:cNvPr id="178" name="Teardrop 8"/>
            <p:cNvSpPr/>
            <p:nvPr/>
          </p:nvSpPr>
          <p:spPr>
            <a:xfrm>
              <a:off x="8521920" y="2368440"/>
              <a:ext cx="393480" cy="395280"/>
            </a:xfrm>
            <a:prstGeom prst="pi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1"/>
          </p:nvPr>
        </p:nvSpPr>
        <p:spPr>
          <a:xfrm rot="16200000">
            <a:off x="80337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bfbfbf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2"/>
          </p:nvPr>
        </p:nvSpPr>
        <p:spPr>
          <a:xfrm rot="16200000">
            <a:off x="76575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</a:rPr>
              <a:t>10/1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nip Diagonal Corner Rectangle 10"/>
          <p:cNvSpPr/>
          <p:nvPr/>
        </p:nvSpPr>
        <p:spPr>
          <a:xfrm flipV="1">
            <a:off x="228600" y="1707120"/>
            <a:ext cx="8686800" cy="49086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20" name="Snip Diagonal Corner Rectangle 11"/>
          <p:cNvSpPr/>
          <p:nvPr/>
        </p:nvSpPr>
        <p:spPr>
          <a:xfrm flipV="1">
            <a:off x="228600" y="228240"/>
            <a:ext cx="8686800" cy="12780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E721-7FA1-4D6E-8A0B-B9A0195D8AF8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nip Diagonal Corner Rectangle 11"/>
          <p:cNvSpPr/>
          <p:nvPr/>
        </p:nvSpPr>
        <p:spPr>
          <a:xfrm flipV="1">
            <a:off x="228600" y="1707120"/>
            <a:ext cx="8686800" cy="49086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63" name="Snip Diagonal Corner Rectangle 12"/>
          <p:cNvSpPr/>
          <p:nvPr/>
        </p:nvSpPr>
        <p:spPr>
          <a:xfrm flipV="1">
            <a:off x="228600" y="228240"/>
            <a:ext cx="8686800" cy="12780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C9D0-8F49-43E0-AB9A-6E52ABABC724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nip Diagonal Corner Rectangle 8"/>
          <p:cNvSpPr/>
          <p:nvPr/>
        </p:nvSpPr>
        <p:spPr>
          <a:xfrm flipV="1">
            <a:off x="228600" y="1707120"/>
            <a:ext cx="8686800" cy="49086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06" name="Snip Diagonal Corner Rectangle 9"/>
          <p:cNvSpPr/>
          <p:nvPr/>
        </p:nvSpPr>
        <p:spPr>
          <a:xfrm flipV="1">
            <a:off x="228600" y="228240"/>
            <a:ext cx="8686800" cy="12780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E8EE-7D17-4B16-9753-CC330253F81C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nip Diagonal Corner Rectangle 5"/>
          <p:cNvSpPr/>
          <p:nvPr/>
        </p:nvSpPr>
        <p:spPr>
          <a:xfrm flipV="1">
            <a:off x="228600" y="227520"/>
            <a:ext cx="8686800" cy="6388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59A2-DC62-4401-9771-087332C96FC4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8" descr="НИРО"/>
          <p:cNvPicPr/>
          <p:nvPr/>
        </p:nvPicPr>
        <p:blipFill>
          <a:blip r:embed="rId1"/>
          <a:stretch/>
        </p:blipFill>
        <p:spPr>
          <a:xfrm>
            <a:off x="304920" y="285840"/>
            <a:ext cx="1123920" cy="928440"/>
          </a:xfrm>
          <a:prstGeom prst="rect">
            <a:avLst/>
          </a:prstGeom>
          <a:ln w="0">
            <a:noFill/>
          </a:ln>
        </p:spPr>
      </p:pic>
      <p:sp>
        <p:nvSpPr>
          <p:cNvPr id="614" name="Нижний колонтитул 5"/>
          <p:cNvSpPr/>
          <p:nvPr/>
        </p:nvSpPr>
        <p:spPr>
          <a:xfrm>
            <a:off x="5079960" y="141120"/>
            <a:ext cx="4064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9d9d9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15" name="TextBox 7"/>
          <p:cNvSpPr/>
          <p:nvPr/>
        </p:nvSpPr>
        <p:spPr>
          <a:xfrm>
            <a:off x="4427640" y="63752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a6a6"/>
                </a:solidFill>
                <a:latin typeface="Arial"/>
              </a:rPr>
              <a:t>2018</a:t>
            </a:r>
            <a:endParaRPr b="0" lang="en-US" sz="20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16" name="Прямоугольник с одним вырезанным углом 9"/>
          <p:cNvSpPr/>
          <p:nvPr/>
        </p:nvSpPr>
        <p:spPr>
          <a:xfrm flipV="1">
            <a:off x="0" y="2996280"/>
            <a:ext cx="7667640" cy="2979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17" name="Прямоугольник 12"/>
          <p:cNvSpPr/>
          <p:nvPr/>
        </p:nvSpPr>
        <p:spPr>
          <a:xfrm>
            <a:off x="2376360" y="23511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ТОГОВАЯ РАБОТА</a:t>
            </a:r>
            <a:endParaRPr b="0" lang="en-US" sz="3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18" name="Title 1" descr=""/>
          <p:cNvPicPr/>
          <p:nvPr/>
        </p:nvPicPr>
        <p:blipFill>
          <a:blip r:embed="rId2"/>
          <a:stretch/>
        </p:blipFill>
        <p:spPr>
          <a:xfrm>
            <a:off x="-171360" y="2975040"/>
            <a:ext cx="7596000" cy="1657440"/>
          </a:xfrm>
          <a:prstGeom prst="rect">
            <a:avLst/>
          </a:prstGeom>
          <a:ln w="0">
            <a:noFill/>
          </a:ln>
        </p:spPr>
      </p:pic>
      <p:sp>
        <p:nvSpPr>
          <p:cNvPr id="619" name="Прямоугольник 17"/>
          <p:cNvSpPr/>
          <p:nvPr/>
        </p:nvSpPr>
        <p:spPr>
          <a:xfrm>
            <a:off x="214200" y="485784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Смирнова Татьяна Викторовна</a:t>
            </a:r>
            <a:r>
              <a:rPr b="0" i="1" lang="ru-RU" sz="2400" spc="-1" strike="noStrike">
                <a:solidFill>
                  <a:srgbClr val="803f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преподаватель</a:t>
            </a:r>
            <a:r>
              <a:rPr b="0" i="1" lang="ru-RU" sz="2400" spc="-1" strike="noStrike">
                <a:solidFill>
                  <a:srgbClr val="803f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3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ГБПОУ «Навашинский политехнический техникум»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20" name="Picture 16" descr="https://pp.userapi.com/c836532/v836532443/6a99/IZvwJGUMV1A.jpg"/>
          <p:cNvPicPr/>
          <p:nvPr/>
        </p:nvPicPr>
        <p:blipFill>
          <a:blip r:embed="rId3"/>
          <a:stretch/>
        </p:blipFill>
        <p:spPr>
          <a:xfrm>
            <a:off x="6516720" y="2182680"/>
            <a:ext cx="1150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61" name="Прямоугольник 9"/>
          <p:cNvSpPr/>
          <p:nvPr/>
        </p:nvSpPr>
        <p:spPr>
          <a:xfrm>
            <a:off x="285840" y="206064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имеют опыт находить по ПКЗН созвездия и звезды, определять по ней условия видимости светил, оценивать их блеск.</a:t>
            </a:r>
            <a:br>
              <a:rPr sz="2400"/>
            </a:b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знают понятие созвездия, способ их определения на небе, обозначение звезд и звездной величины.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могут записывать обозначение звезд, находить на небе основные созвездия (Большой и Малой Медведицы), 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могут анализировать информацию, полученную из текста научного содержания.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могут планировать, проектировать, моделировать;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могут контролировать, оценивать и т.д.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62" name="Прямоугольник 5"/>
          <p:cNvSpPr/>
          <p:nvPr/>
        </p:nvSpPr>
        <p:spPr>
          <a:xfrm>
            <a:off x="519120" y="509760"/>
            <a:ext cx="6645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Исходное состояние обучающихся: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63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65" name="Прямоугольник 9"/>
          <p:cNvSpPr/>
          <p:nvPr/>
        </p:nvSpPr>
        <p:spPr>
          <a:xfrm>
            <a:off x="571680" y="228600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3154"/>
                </a:solidFill>
                <a:latin typeface="Corbel"/>
              </a:rPr>
              <a:t>технология проблемного обучения с элементами критического мышления, здоровьесберегающие, информационно-коммуникативные технологии 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66" name="Прямоугольник 5"/>
          <p:cNvSpPr/>
          <p:nvPr/>
        </p:nvSpPr>
        <p:spPr>
          <a:xfrm>
            <a:off x="250920" y="509760"/>
            <a:ext cx="691344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Технология организации учебной деятельности: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67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sp>
        <p:nvSpPr>
          <p:cNvPr id="668" name="TextBox 1"/>
          <p:cNvSpPr/>
          <p:nvPr/>
        </p:nvSpPr>
        <p:spPr>
          <a:xfrm>
            <a:off x="785880" y="3929040"/>
            <a:ext cx="72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3154"/>
                </a:solidFill>
                <a:latin typeface="Corbel"/>
              </a:rPr>
              <a:t>Межпредметные связи:  </a:t>
            </a:r>
            <a:r>
              <a:rPr b="0" lang="ru-RU" sz="2000" spc="-1" strike="noStrike">
                <a:solidFill>
                  <a:srgbClr val="103154"/>
                </a:solidFill>
                <a:latin typeface="Corbel"/>
              </a:rPr>
              <a:t>Звезды, созвездия, Полярная звезда , созвездия Большой и Малой Медведицы; горизонт, плоскость и стороны горизонта. Меридианы и параллели, ориентирование с их помощью по карте. Различие в изображении на глобусе и карте. Географические координаты (география, 6 кл).</a:t>
            </a:r>
            <a:endParaRPr b="0" lang="en-US" sz="20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70" name="Прямоугольник 9"/>
          <p:cNvSpPr/>
          <p:nvPr/>
        </p:nvSpPr>
        <p:spPr>
          <a:xfrm>
            <a:off x="571680" y="17859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3154"/>
                </a:solidFill>
                <a:latin typeface="Corbel"/>
              </a:rPr>
              <a:t>Формы оценки планируемых результатов: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71" name="Прямоугольник 5"/>
          <p:cNvSpPr/>
          <p:nvPr/>
        </p:nvSpPr>
        <p:spPr>
          <a:xfrm>
            <a:off x="250920" y="509760"/>
            <a:ext cx="70848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72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714240" y="2286000"/>
          <a:ext cx="7704360" cy="3143160"/>
        </p:xfrm>
        <a:graphic>
          <a:graphicData uri="http://schemas.openxmlformats.org/drawingml/2006/table">
            <a:tbl>
              <a:tblPr/>
              <a:tblGrid>
                <a:gridCol w="2568600"/>
                <a:gridCol w="2567160"/>
                <a:gridCol w="2568600"/>
              </a:tblGrid>
              <a:tr h="93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редметный результат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Метапредметный результат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Личностный результат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221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орма оценива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й опрос по теме «Астрономические наблюдения и телескопы»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тод оценивания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орма контроля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ая работа по теме: Понятие «созвездие» в современной трактовке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тод контрол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  презентация результатов   исследовательской работы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орма контроля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тод контроля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ная оценка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  <p:sp>
        <p:nvSpPr>
          <p:cNvPr id="674" name="Прямоугольник 4"/>
          <p:cNvSpPr/>
          <p:nvPr/>
        </p:nvSpPr>
        <p:spPr>
          <a:xfrm>
            <a:off x="539640" y="509760"/>
            <a:ext cx="63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Диагностика результативности обучения на занятии: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76" name="Прямоугольник 5"/>
          <p:cNvSpPr/>
          <p:nvPr/>
        </p:nvSpPr>
        <p:spPr>
          <a:xfrm>
            <a:off x="250920" y="509760"/>
            <a:ext cx="72007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77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sp>
        <p:nvSpPr>
          <p:cNvPr id="678" name="Прямоугольник 6"/>
          <p:cNvSpPr/>
          <p:nvPr/>
        </p:nvSpPr>
        <p:spPr>
          <a:xfrm>
            <a:off x="250920" y="260280"/>
            <a:ext cx="69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Учебно – информационное обеспечение учебного занятия </a:t>
            </a:r>
            <a:r>
              <a:rPr b="0" i="1" lang="ru-RU" sz="2800" spc="-1" strike="noStrike">
                <a:solidFill>
                  <a:srgbClr val="993300"/>
                </a:solidFill>
                <a:latin typeface="Corbel"/>
              </a:rPr>
              <a:t>(с гиперссылками)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395280" y="1916280"/>
          <a:ext cx="8462880" cy="4584600"/>
        </p:xfrm>
        <a:graphic>
          <a:graphicData uri="http://schemas.openxmlformats.org/drawingml/2006/table">
            <a:tbl>
              <a:tblPr/>
              <a:tblGrid>
                <a:gridCol w="1839960"/>
                <a:gridCol w="2455920"/>
                <a:gridCol w="1879560"/>
                <a:gridCol w="2287440"/>
              </a:tblGrid>
              <a:tr h="1928520"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сновная литература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Дополнительная литература для учащихся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Литература для учителя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Раздаточный материал для самостоятельной деятельности учащихся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560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Б.А.Воронцов-Вельяминов, Е.К. Страут  «Астрономия 11 класс. Базовый уровень»;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endParaRPr b="0" lang="en-US" sz="9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endParaRPr b="0" lang="en-US" sz="9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ечатные пособия  (ученические карты звездного неба, звездные атласы, астрономические календари) 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81" name="Прямоугольник 5"/>
          <p:cNvSpPr/>
          <p:nvPr/>
        </p:nvSpPr>
        <p:spPr>
          <a:xfrm>
            <a:off x="250920" y="509760"/>
            <a:ext cx="72007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82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6"/>
          <p:cNvSpPr/>
          <p:nvPr/>
        </p:nvSpPr>
        <p:spPr>
          <a:xfrm>
            <a:off x="395280" y="260280"/>
            <a:ext cx="694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Учебно – информационное обеспечение учебного занятия (дидактические средства) </a:t>
            </a:r>
            <a:r>
              <a:rPr b="0" i="1" lang="ru-RU" sz="2800" spc="-1" strike="noStrike">
                <a:solidFill>
                  <a:srgbClr val="993300"/>
                </a:solidFill>
                <a:latin typeface="Corbel"/>
              </a:rPr>
              <a:t>(с гиперссылками)</a:t>
            </a: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: 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395280" y="2149560"/>
          <a:ext cx="8367840" cy="4032000"/>
        </p:xfrm>
        <a:graphic>
          <a:graphicData uri="http://schemas.openxmlformats.org/drawingml/2006/table">
            <a:tbl>
              <a:tblPr/>
              <a:tblGrid>
                <a:gridCol w="1569960"/>
                <a:gridCol w="1889280"/>
                <a:gridCol w="1888920"/>
                <a:gridCol w="1509840"/>
                <a:gridCol w="1509840"/>
              </a:tblGrid>
              <a:tr h="3354480"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Модели, макеты и инструменты 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Современное оборудование для проведения  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Аудио и видеоресурсы (С</a:t>
                      </a:r>
                      <a:r>
                        <a:rPr b="1" lang="en-US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D-</a:t>
                      </a: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и </a:t>
                      </a:r>
                      <a:r>
                        <a:rPr b="1" lang="en-US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DVD-</a:t>
                      </a: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ресурсы</a:t>
                      </a:r>
                      <a:r>
                        <a:rPr b="1" lang="en-US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)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Цифровые источники информации (эор и Интернет –ресурсы)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Наглядные средства (таблицы, карты, схемы и пр.) 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038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endParaRPr b="0" lang="en-US" sz="9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endParaRPr b="0" lang="en-US" sz="9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CD - видеофрагмент Экскурсии - Звездные острова - Ориентировка на небе.</a:t>
                      </a:r>
                      <a:endParaRPr b="0" lang="en-US" sz="16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Карта звёздного неба онлайн http://kosmoved.ru/nebo_segodnya_geo.php </a:t>
                      </a:r>
                      <a:endParaRPr b="0" lang="en-US" sz="16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Таблица</a:t>
                      </a:r>
                      <a:endParaRPr b="0" lang="en-US" sz="16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marL="228600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звёздного неба </a:t>
                      </a:r>
                      <a:endParaRPr b="0" lang="en-US" sz="16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Прямоугольник 3"/>
          <p:cNvSpPr/>
          <p:nvPr/>
        </p:nvSpPr>
        <p:spPr>
          <a:xfrm>
            <a:off x="392040" y="404640"/>
            <a:ext cx="576432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Материально-техническое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обеспечение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86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87" name="Прямоугольник 9"/>
          <p:cNvSpPr/>
          <p:nvPr/>
        </p:nvSpPr>
        <p:spPr>
          <a:xfrm>
            <a:off x="539640" y="2060640"/>
            <a:ext cx="8064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Техническое обеспечение: </a:t>
            </a:r>
            <a:r>
              <a:rPr b="0" i="1" lang="ru-RU" sz="2600" spc="-1" strike="noStrike">
                <a:solidFill>
                  <a:srgbClr val="103154"/>
                </a:solidFill>
                <a:latin typeface="Corbel"/>
              </a:rPr>
              <a:t>компьютер с выходом в интернет,  диски, для работы с ЭФУ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Программное обеспечение: </a:t>
            </a:r>
            <a:r>
              <a:rPr b="0" i="1" lang="en-US" sz="2600" spc="-1" strike="noStrike">
                <a:solidFill>
                  <a:srgbClr val="103154"/>
                </a:solidFill>
                <a:latin typeface="Corbel"/>
              </a:rPr>
              <a:t>M.Word, P.Point, Mozilla 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88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78720" y="325440"/>
            <a:ext cx="11844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Прямоугольник 3"/>
          <p:cNvSpPr/>
          <p:nvPr/>
        </p:nvSpPr>
        <p:spPr>
          <a:xfrm>
            <a:off x="250920" y="476280"/>
            <a:ext cx="72007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Специфика разработанного сценария занятия, его дидактическая структура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9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91" name="Прямоугольник 9"/>
          <p:cNvSpPr/>
          <p:nvPr/>
        </p:nvSpPr>
        <p:spPr>
          <a:xfrm>
            <a:off x="539640" y="2060640"/>
            <a:ext cx="7993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Структура (в соответствии с тематическим планированием), включая домашнее задание: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Содержание/проект содержания и оформления записей (или презентация к уроку):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Подготовленные материалы (презентация, конспект занятия, дидактические карточки и т.д.):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92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91320" y="260280"/>
            <a:ext cx="11667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Прямоугольник 3"/>
          <p:cNvSpPr/>
          <p:nvPr/>
        </p:nvSpPr>
        <p:spPr>
          <a:xfrm>
            <a:off x="392040" y="404640"/>
            <a:ext cx="839952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Формы представления учебного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материала 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94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60520" y="1916280"/>
          <a:ext cx="8061120" cy="4394160"/>
        </p:xfrm>
        <a:graphic>
          <a:graphicData uri="http://schemas.openxmlformats.org/drawingml/2006/table">
            <a:tbl>
              <a:tblPr/>
              <a:tblGrid>
                <a:gridCol w="3074760"/>
                <a:gridCol w="4986360"/>
              </a:tblGrid>
              <a:tr h="143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Типы учебных материалов с Гиперссылками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Форма представления материала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Лекция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СЦЕНАРИЙ  УЧЕБНОГО  ЗАНЯТИЯ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Звезды и созвездия. Звездные карты. Небесные координаты.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Справочник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103154"/>
                          </a:solidFill>
                          <a:uFillTx/>
                          <a:latin typeface="Corbel"/>
                        </a:rPr>
                        <a:t>http://www/astronet/ru/db/msg/1175352/node4.htmi - Астронет (системы небесных координат)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Статьи, Цоры, Эоры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103154"/>
                          </a:solidFill>
                          <a:uFillTx/>
                          <a:latin typeface="Corbel"/>
                        </a:rPr>
                        <a:t>http:// schооl-collection.edu.ru / catalog/ rubr / 8b74c9c3-9aad - 4ae4-abf9- e8229c87b786/ 110377/- Единая коллекция цифровых образовательных ресурсов. Анимация «Движение светила по небесной сфере»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Дополнительный материал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Дагаев М.М. Сборник задач по астрономии: Учеб. Пособие для студентов физю- мат. Фак. пед. – М: Просвещение, 1980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  <p:pic>
        <p:nvPicPr>
          <p:cNvPr id="696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64520" y="277920"/>
            <a:ext cx="12571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3"/>
          <p:cNvSpPr/>
          <p:nvPr/>
        </p:nvSpPr>
        <p:spPr>
          <a:xfrm>
            <a:off x="406440" y="476280"/>
            <a:ext cx="6269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Формы организации практикума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98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598320" y="1989000"/>
          <a:ext cx="8061480" cy="3679920"/>
        </p:xfrm>
        <a:graphic>
          <a:graphicData uri="http://schemas.openxmlformats.org/drawingml/2006/table">
            <a:tbl>
              <a:tblPr/>
              <a:tblGrid>
                <a:gridCol w="2605320"/>
                <a:gridCol w="5456160"/>
              </a:tblGrid>
              <a:tr h="1434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Типы учебных материалов с Гиперссылками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Форма представления материала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905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Практическая работа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На карточках задание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1339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Упражнения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alibri"/>
                        </a:rPr>
                        <a:t>§ 4. </a:t>
                      </a: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Упр. 3,стр.27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№ 1,2,3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№ 4, (приложение V), стр. 215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  <p:pic>
        <p:nvPicPr>
          <p:cNvPr id="700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486560" y="260280"/>
            <a:ext cx="117324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Прямоугольник 3"/>
          <p:cNvSpPr/>
          <p:nvPr/>
        </p:nvSpPr>
        <p:spPr>
          <a:xfrm>
            <a:off x="425520" y="458640"/>
            <a:ext cx="38210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Формы контроля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02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214200" y="1643040"/>
          <a:ext cx="8786880" cy="4881600"/>
        </p:xfrm>
        <a:graphic>
          <a:graphicData uri="http://schemas.openxmlformats.org/drawingml/2006/table">
            <a:tbl>
              <a:tblPr/>
              <a:tblGrid>
                <a:gridCol w="1505160"/>
                <a:gridCol w="3639960"/>
                <a:gridCol w="3641760"/>
              </a:tblGrid>
              <a:tr h="100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Тип контрольного задания с Гиперссылками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Форма представления материала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Тест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. Небесной сферой называется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2. Осью мира называется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3. Полюсами мира называется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4. Северный полюс мира в настоящее время находится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5. Плоскостью небесного экватора называется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6. Экватор – это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7. Период вращения небесной сферы равен...</a:t>
                      </a: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8. Угол между осью мира и земной осью равен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9. Угол между плоскостью небесного экватора и осью мира равен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0. Угол между плоскостью небесного экватора и плоскостью земного экватора равен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1. Угол наклона земной оси к плоскости земной орбиты равен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2. Угол между плоскостью земного экватора и плоскостью земной орбиты равен...</a:t>
                      </a: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3. Почему нельзя считать радиус небесной сферы бесконечно большим?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4. Сколько небесных сфер можно себе представить, если у каждого человека по два глаза, а на Земле проживает свыше 6 млрд человек?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5. Что называется прецессией земной оси и в чем причина прецессии?</a:t>
                      </a: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А. ...точка пересечения оси вращения Солнца с небесной сферой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Б. ...в 1°,5 от a Малой Медведицы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В. ...плоскость перпендикулярная к оси мира и проходящая через центр небесной сферы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Г. ...периоду вращения Земли вокруг своей оси, т.е. 1 суткам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Д. ...воображаемая сфера произвольного радиуса, описанная вокруг центра Солнца, на внутренней поверхности которой нанесены светил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Е. ...ось, вокруг которой вращается Земля, двигаясь в мировом пространств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Ж. ...около звезды Вега в созвездии Лиры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З. ...линия пересечения небесной сферы и плоскости небесного экватор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И. ...точки пресечения небесной сферы с осью мира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К. ...воображаемая сфера произвольного радиуса, описанная вокруг наблюдателя на Земле, на внутренней поверхности которой нанесены светила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Л. ...воображаемая ось видимого вращения небесной сферы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М. ...периоду вращения Земли вокруг Солнца.</a:t>
                      </a: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Н. 66°,5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О.  0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П. 90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Р. 23°,5</a:t>
                      </a: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  <p:pic>
        <p:nvPicPr>
          <p:cNvPr id="704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37320" y="260280"/>
            <a:ext cx="1202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рямоугольник 3"/>
          <p:cNvSpPr/>
          <p:nvPr/>
        </p:nvSpPr>
        <p:spPr>
          <a:xfrm>
            <a:off x="395280" y="473040"/>
            <a:ext cx="71294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Аннотация разработанного сценария урока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22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23" name="Прямоугольник 10"/>
          <p:cNvSpPr/>
          <p:nvPr/>
        </p:nvSpPr>
        <p:spPr>
          <a:xfrm>
            <a:off x="285840" y="1989000"/>
            <a:ext cx="857232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Наименование учебной разработки: 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3154"/>
                </a:solidFill>
                <a:latin typeface="Corbel"/>
              </a:rPr>
              <a:t>Проект учебного занятия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Тема учебного занятия: 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Звезды и созвездия. Звездные карты. Небесные координаты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Учебный предмет/дисциплина: «Астрономия»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Нормативная трудоемкость: 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2 часа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Целевая группа/класс/профиль: </a:t>
            </a:r>
            <a:r>
              <a:rPr b="0" lang="ru-RU" sz="2600" spc="-1" strike="noStrike">
                <a:solidFill>
                  <a:srgbClr val="103154"/>
                </a:solidFill>
                <a:latin typeface="Corbel"/>
              </a:rPr>
              <a:t>1 курс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24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24720" y="371520"/>
            <a:ext cx="1150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Прямоугольник 3"/>
          <p:cNvSpPr/>
          <p:nvPr/>
        </p:nvSpPr>
        <p:spPr>
          <a:xfrm>
            <a:off x="392040" y="404640"/>
            <a:ext cx="612468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Формы организации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учебных коммуникаций</a:t>
            </a: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06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60520" y="1916280"/>
          <a:ext cx="8061120" cy="2682720"/>
        </p:xfrm>
        <a:graphic>
          <a:graphicData uri="http://schemas.openxmlformats.org/drawingml/2006/table">
            <a:tbl>
              <a:tblPr/>
              <a:tblGrid>
                <a:gridCol w="2660400"/>
                <a:gridCol w="540072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Тип коммуникации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Коммуникативный сервис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1920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Рефлексия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Подготовить презентацию об истории возникновения звезд и созвездий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В процессе визуального наблюдения легко спутать планету и звезду. Указать ,по каким внешним признакам такой ошибки можно избежать?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  <p:pic>
        <p:nvPicPr>
          <p:cNvPr id="708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24720" y="277920"/>
            <a:ext cx="12445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10" name="Прямоугольник 5"/>
          <p:cNvSpPr/>
          <p:nvPr/>
        </p:nvSpPr>
        <p:spPr>
          <a:xfrm>
            <a:off x="519120" y="509760"/>
            <a:ext cx="504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711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61280" y="260280"/>
            <a:ext cx="1243080" cy="1190520"/>
          </a:xfrm>
          <a:prstGeom prst="rect">
            <a:avLst/>
          </a:prstGeom>
          <a:ln w="0">
            <a:noFill/>
          </a:ln>
        </p:spPr>
      </p:pic>
      <p:sp>
        <p:nvSpPr>
          <p:cNvPr id="712" name="Прямоугольник 1"/>
          <p:cNvSpPr/>
          <p:nvPr/>
        </p:nvSpPr>
        <p:spPr>
          <a:xfrm>
            <a:off x="900000" y="50976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Источники информации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13" name="Прямоугольник 5"/>
          <p:cNvSpPr/>
          <p:nvPr/>
        </p:nvSpPr>
        <p:spPr>
          <a:xfrm>
            <a:off x="857160" y="2214720"/>
            <a:ext cx="6429600" cy="57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Приказ Министерства образования и науки Российской Федерации № 506 от 07.06.2017 "О внесении изменений в ФК ГОС«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«Методические рекомендации по введению учебного предмета «Астрономия» как обязательного для изучения на уровне среднего общего образования» /</a:t>
            </a:r>
            <a:r>
              <a:rPr b="0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Письмо Министерства образования и науки Российской Федерации ТС- 194/08 от 20.06.2017 "Об организации изучения учебного предмета "Астрономия".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Приказ Министерства образования Нижегородской области «Об организации изучения учебного предмета «Астрономия» с 2017/2018 учебного года» №316-01-100-2507/700 от 23.06.2017 г./ Письмо Министерства образования Нижегородской области от 16.06.2017 года № 316-01-100-2826/17-0-0 «О курсе астрономии в средней школе».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Вебинар ФГАОУ ДПО "Академия повышения квалификации и профессиональной переподготовки работников образования" по организационным вопросам внедрения дисциплины "Астрономия" в программу среднего общего образования.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Гомулина Н.Н.«</a:t>
            </a:r>
            <a:r>
              <a:rPr b="0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О работе Российской ассоциации учителей астрономии»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Презентации об УМК издательств «Просвещение», «ФИЗМАТЛИТ» и корпорации «Российский учебник»: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Презентация об УМК </a:t>
            </a:r>
            <a:r>
              <a:rPr b="1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Учебно-методическое обеспечение курса «Астрономия» в школе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Презентация об УМК </a:t>
            </a:r>
            <a:r>
              <a:rPr b="1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Методические рекомендации Дрофы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Прямоугольник 3"/>
          <p:cNvSpPr/>
          <p:nvPr/>
        </p:nvSpPr>
        <p:spPr>
          <a:xfrm>
            <a:off x="395280" y="473040"/>
            <a:ext cx="71294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Нормативно-правовое обеспечение учебного предмета «Астрономия»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26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27" name="Прямоугольник 10"/>
          <p:cNvSpPr/>
          <p:nvPr/>
        </p:nvSpPr>
        <p:spPr>
          <a:xfrm>
            <a:off x="395280" y="1844640"/>
            <a:ext cx="8367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03154"/>
                </a:solidFill>
                <a:uFillTx/>
                <a:latin typeface="Corbel"/>
              </a:rPr>
              <a:t>Приказ Министерства образования и науки Российской Федерации № 506 от 07.06.2017 "О внесении изменений в ФК ГОС"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 marL="285840" indent="-285840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Методические рекомендации по введению учебного предмета «Астрономия» как обязательного для изучения на уровне среднего общего образования (</a:t>
            </a:r>
            <a:r>
              <a:rPr b="0" lang="ru-RU" sz="1600" spc="-1" strike="noStrike" u="sng">
                <a:solidFill>
                  <a:srgbClr val="103154"/>
                </a:solidFill>
                <a:uFillTx/>
                <a:latin typeface="Corbel"/>
              </a:rPr>
              <a:t>Письмо Министерства образования и науки Российской Федерации ТС-194/08 от 20.06.2017 "Об организации изучения учебного предмета "Астрономиия"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) 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 marL="285840" indent="-285840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Федеральный перечень учебников на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 2017-2018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уч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.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год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 (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изменения от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 05.07.2017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в</a:t>
            </a:r>
            <a:r>
              <a:rPr b="1" lang="ru-RU" sz="1600" spc="-1" strike="noStrike">
                <a:solidFill>
                  <a:srgbClr val="103154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Приказ 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N 253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Министерства образования и науки РФ от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 31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марта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 2014 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г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. //</a:t>
            </a:r>
            <a:r>
              <a:rPr b="1" lang="en-US" sz="1600" spc="-1" strike="noStrike">
                <a:solidFill>
                  <a:srgbClr val="103154"/>
                </a:solidFill>
                <a:latin typeface="Corbel"/>
              </a:rPr>
              <a:t>http://base.garant.ru/70649798/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 marL="285840" indent="-285840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Письмо Министерства образования Нижегородской области от 16.06.2017 года № 316-01-100-2826/17-0-0 «О курсе астрономии в средней школе»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 marL="285840" indent="-285840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Вебинар по организационным вопросам внедрения дисциплины "Астрономия" в программу среднего общего образования: </a:t>
            </a:r>
            <a:r>
              <a:rPr b="0" lang="ru-RU" sz="1600" spc="-1" strike="noStrike" u="sng">
                <a:solidFill>
                  <a:srgbClr val="103154"/>
                </a:solidFill>
                <a:uFillTx/>
                <a:latin typeface="Corbel"/>
              </a:rPr>
              <a:t>Вебинар ФГАОУ ДПО "Академия повышения квалификации и профессиональной переподготовки работников образования" по организационным вопросам внедрения дисциплины "Астрономия" в программу среднего общего образования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28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24720" y="371520"/>
            <a:ext cx="1150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Прямоугольник 3"/>
          <p:cNvSpPr/>
          <p:nvPr/>
        </p:nvSpPr>
        <p:spPr>
          <a:xfrm>
            <a:off x="395280" y="371520"/>
            <a:ext cx="70563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Общая информация о разработанном уроке/проекте/рабочей программы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1" name="Прямоугольник 10"/>
          <p:cNvSpPr/>
          <p:nvPr/>
        </p:nvSpPr>
        <p:spPr>
          <a:xfrm>
            <a:off x="571680" y="1785960"/>
            <a:ext cx="784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Авторская программа к учебникам </a:t>
            </a:r>
            <a:r>
              <a:rPr b="0" i="1" lang="ru-RU" sz="2600" spc="-1" strike="noStrike">
                <a:solidFill>
                  <a:srgbClr val="103154"/>
                </a:solidFill>
                <a:latin typeface="Corbel"/>
              </a:rPr>
              <a:t>(линии учебников или УМК) (если есть)</a:t>
            </a: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: 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Учебник. Астрономия 11 класс. Воронцов-Вельяминов Б.А., Страута Е.К.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Формы организации УВП </a:t>
            </a:r>
            <a:r>
              <a:rPr b="0" i="1" lang="ru-RU" sz="2600" spc="-1" strike="noStrike">
                <a:solidFill>
                  <a:srgbClr val="103154"/>
                </a:solidFill>
                <a:latin typeface="Corbel"/>
              </a:rPr>
              <a:t>(экскурсия, консультация, проект, лабораторное занятие, практикум, игра и т.п.): </a:t>
            </a:r>
            <a:r>
              <a:rPr b="1" lang="ru-RU" sz="2400" spc="-1" strike="noStrike">
                <a:solidFill>
                  <a:srgbClr val="103154"/>
                </a:solidFill>
                <a:latin typeface="Corbel"/>
              </a:rPr>
              <a:t>Лекция текущая, практическое занятие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Место урока или другой  формы организации учебной деятельности в структуре учебного предмета «Астрономия»: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32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24720" y="371520"/>
            <a:ext cx="1150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Прямоугольник 3"/>
          <p:cNvSpPr/>
          <p:nvPr/>
        </p:nvSpPr>
        <p:spPr>
          <a:xfrm>
            <a:off x="179280" y="509760"/>
            <a:ext cx="705672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Целевые установки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учебного занятия согласно ФК ГОС /Приказ № 506 от 07.06.2017 г.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4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5" name="Прямоугольник 9"/>
          <p:cNvSpPr/>
          <p:nvPr/>
        </p:nvSpPr>
        <p:spPr>
          <a:xfrm>
            <a:off x="571680" y="1643040"/>
            <a:ext cx="8064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Цели изучения астрономии на базовом уровне: 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36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418520" y="372960"/>
            <a:ext cx="1150920" cy="1103400"/>
          </a:xfrm>
          <a:prstGeom prst="rect">
            <a:avLst/>
          </a:prstGeom>
          <a:ln w="0">
            <a:noFill/>
          </a:ln>
        </p:spPr>
      </p:pic>
      <p:sp>
        <p:nvSpPr>
          <p:cNvPr id="637" name="Прямоугольник 1"/>
          <p:cNvSpPr/>
          <p:nvPr/>
        </p:nvSpPr>
        <p:spPr>
          <a:xfrm>
            <a:off x="428760" y="4500720"/>
            <a:ext cx="8215200" cy="20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3154"/>
                </a:solidFill>
                <a:latin typeface="Corbel"/>
                <a:ea typeface="Calibri"/>
              </a:rPr>
              <a:t>Основной минимум содержание основных образовательных программ по темы: 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  <a:ea typeface="Calibri"/>
              </a:rPr>
              <a:t>Основы практической астрономии. Небесная сфера. Особые точки небесной сферы. Небесные координаты. Звездная карта, созвездия. Видимая звездная величина. Суточное движение светил. Связь видимого расположения объектов на небе и географических координат наблюдателя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8" name="Прямоугольник 2"/>
          <p:cNvSpPr/>
          <p:nvPr/>
        </p:nvSpPr>
        <p:spPr>
          <a:xfrm>
            <a:off x="428760" y="3500280"/>
            <a:ext cx="8072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3154"/>
                </a:solidFill>
                <a:latin typeface="Corbel"/>
              </a:rPr>
              <a:t>Термины и понятия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Суточное движение светил, небесная сфера,  горизонтальная система координат,   заходящие,  невосходящие, незаходящие светила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9" name="Прямоугольник 7"/>
          <p:cNvSpPr/>
          <p:nvPr/>
        </p:nvSpPr>
        <p:spPr>
          <a:xfrm>
            <a:off x="500040" y="2000160"/>
            <a:ext cx="7858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осознание принципиальной роли астрономии в познании фундаментальных законов природы ;  приобретение знаний о физической природе небесных тел и систем;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овладение умениями объяснять видимое положение и движение небесных тел принципами определения местоположения  по астрономическим объектам, навыками практического использования компьютерных приложений для определения вида звездного неба в конкретном пункте для заданного времени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41" name="Прямоугольник 9"/>
          <p:cNvSpPr/>
          <p:nvPr/>
        </p:nvSpPr>
        <p:spPr>
          <a:xfrm>
            <a:off x="500040" y="2214720"/>
            <a:ext cx="808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 algn="just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3154"/>
                </a:solidFill>
                <a:latin typeface="Corbel"/>
              </a:rPr>
              <a:t>Открыть способ  работать с ПКЗН и  ориентироваться на местности по звездам. 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 indent="353880" algn="just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 indent="353880" algn="just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3154"/>
                </a:solidFill>
                <a:latin typeface="Corbel"/>
              </a:rPr>
              <a:t>Вовлечь  учащихся  в образовательную ситуацию  астрономического  исследования, наблюдения,  измерения космического  явления -  вращения Земли вокруг своей оси и  небесных явлений: восход, заход, суточное движение и кульминация светил (звезд).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 indent="353880" algn="just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 indent="353880" algn="just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3154"/>
                </a:solidFill>
                <a:latin typeface="Corbel"/>
              </a:rPr>
              <a:t>Овладеть теоретическим знанием в области суточное движение светил; небесной сферы и горизонтальной системы координат, заходящие, невосходящие, незаходящие светила; кульминация, и способами его прикладного использования содействовать формированию навыка выявления причинно-следственных связей, о практических способах применения астрометрических знаний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42" name="Прямоугольник 5"/>
          <p:cNvSpPr/>
          <p:nvPr/>
        </p:nvSpPr>
        <p:spPr>
          <a:xfrm>
            <a:off x="519120" y="509760"/>
            <a:ext cx="504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Целевые установки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43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2"/>
          <p:cNvSpPr/>
          <p:nvPr/>
        </p:nvSpPr>
        <p:spPr>
          <a:xfrm>
            <a:off x="571680" y="1714680"/>
            <a:ext cx="45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3154"/>
                </a:solidFill>
                <a:latin typeface="Corbel"/>
              </a:rPr>
              <a:t>Задачи: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46" name="Прямоугольник 9"/>
          <p:cNvSpPr/>
          <p:nvPr/>
        </p:nvSpPr>
        <p:spPr>
          <a:xfrm>
            <a:off x="642960" y="1571760"/>
            <a:ext cx="806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Ожидаемые/планируемые результаты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: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47" name="Прямоугольник 5"/>
          <p:cNvSpPr/>
          <p:nvPr/>
        </p:nvSpPr>
        <p:spPr>
          <a:xfrm>
            <a:off x="519120" y="509760"/>
            <a:ext cx="6284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Целевые установки </a:t>
            </a:r>
            <a:r>
              <a:rPr b="1" lang="ru-RU" sz="3200" spc="-1" strike="noStrike">
                <a:solidFill>
                  <a:srgbClr val="103154"/>
                </a:solidFill>
                <a:latin typeface="Corbel"/>
              </a:rPr>
              <a:t>– предмет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48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9" name=""/>
          <p:cNvGraphicFramePr/>
          <p:nvPr/>
        </p:nvGraphicFramePr>
        <p:xfrm>
          <a:off x="357120" y="2071800"/>
          <a:ext cx="8358120" cy="4300560"/>
        </p:xfrm>
        <a:graphic>
          <a:graphicData uri="http://schemas.openxmlformats.org/drawingml/2006/table">
            <a:tbl>
              <a:tblPr/>
              <a:tblGrid>
                <a:gridCol w="2857680"/>
                <a:gridCol w="2714400"/>
                <a:gridCol w="27860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Цель (предметный результат) 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научатся …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получат возможность ….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Знает 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103154"/>
                          </a:solidFill>
                          <a:uFillTx/>
                          <a:latin typeface="Times New Roman"/>
                          <a:ea typeface="Times New Roman"/>
                        </a:rPr>
                        <a:t>ТЕРМИНЫ: 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суточное движение светил; небесная сфера, горизонтальная система координат, заходящие, невосходящие, незаходящие светила; кульминация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103154"/>
                          </a:solidFill>
                          <a:uFillTx/>
                          <a:latin typeface="Times New Roman"/>
                          <a:ea typeface="Times New Roman"/>
                        </a:rPr>
                        <a:t>ПОНЯТИЯ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объясняет правила использования  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КЗН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онимает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103154"/>
                          </a:solidFill>
                          <a:uFillTx/>
                          <a:latin typeface="Times New Roman"/>
                          <a:ea typeface="Times New Roman"/>
                        </a:rPr>
                        <a:t>ИНТЕРПРЕТИРУЕТ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назначение и правило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еревода градусной меры в часовую и обратно.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103154"/>
                          </a:solidFill>
                          <a:uFillTx/>
                          <a:latin typeface="Corbel"/>
                        </a:rPr>
                        <a:t>ОПРЕДЕЛЯЕТ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направление вращения неба, характерные точки  и линии небесной сферы, небесный меридиан, вертикал, горизонтальную систему координат, зенитное расстояние.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рименяет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угломерные астрономические инструменты: теодолит, высотомер; 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КЗН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Находит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на небе основные созвездия и наиболее яркие звезды, видимые в это время года в данное время в данной местности.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51" name="Прямоугольник 9"/>
          <p:cNvSpPr/>
          <p:nvPr/>
        </p:nvSpPr>
        <p:spPr>
          <a:xfrm>
            <a:off x="642960" y="1643040"/>
            <a:ext cx="806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Ожидаемые/планируемые результаты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: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52" name="Прямоугольник 5"/>
          <p:cNvSpPr/>
          <p:nvPr/>
        </p:nvSpPr>
        <p:spPr>
          <a:xfrm>
            <a:off x="519120" y="509760"/>
            <a:ext cx="6284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Целевые установки </a:t>
            </a:r>
            <a:r>
              <a:rPr b="1" lang="ru-RU" sz="3200" spc="-1" strike="noStrike">
                <a:solidFill>
                  <a:srgbClr val="103154"/>
                </a:solidFill>
                <a:latin typeface="Corbel"/>
              </a:rPr>
              <a:t>– способ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53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4" name=""/>
          <p:cNvGraphicFramePr/>
          <p:nvPr/>
        </p:nvGraphicFramePr>
        <p:xfrm>
          <a:off x="214200" y="2143080"/>
          <a:ext cx="8786880" cy="4286160"/>
        </p:xfrm>
        <a:graphic>
          <a:graphicData uri="http://schemas.openxmlformats.org/drawingml/2006/table">
            <a:tbl>
              <a:tblPr/>
              <a:tblGrid>
                <a:gridCol w="2786040"/>
                <a:gridCol w="2857680"/>
                <a:gridCol w="31431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Цель (метапредметный результат)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откроют (овладеют, получат и т.п.) способ …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получат возможность ….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350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ознавательные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умеет работать с информацией;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Регулятивные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умеет определять главную учебную проблему, выдвигать версии решения проблемы, ставить цель деятельности, формулировать учебные задачи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Коммуникативные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умеет вести дискуссию, аргументировать свою точку зрения.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Times New Roman"/>
                          <a:ea typeface="Calibri"/>
                        </a:rPr>
                        <a:t>Способность восприятия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  <a:ea typeface="Calibri"/>
                        </a:rPr>
                        <a:t>Способности  восприятия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  <a:ea typeface="Calibri"/>
                        </a:rPr>
                        <a:t>Зрительные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Times New Roman"/>
                          <a:ea typeface="Calibri"/>
                        </a:rPr>
                        <a:t>Способности памяти: объем памяти, точность      запоминания и воспроизведения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Классифицировать информацию,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вести  дискуссию, аргументировать свою точку зрения.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Воспроизводить  объем определений, выполнять  расчет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пределяет на уровне зрительных ощущений внешний вид «небесной сферы» Воспроизводит основные понятия и определения, демонстрирует знания основных терминов и формул при выполнении практической работы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56" name="Прямоугольник 9"/>
          <p:cNvSpPr/>
          <p:nvPr/>
        </p:nvSpPr>
        <p:spPr>
          <a:xfrm>
            <a:off x="571680" y="1785960"/>
            <a:ext cx="806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Ожидаемые/планируемые результаты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: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57" name="Прямоугольник 5"/>
          <p:cNvSpPr/>
          <p:nvPr/>
        </p:nvSpPr>
        <p:spPr>
          <a:xfrm>
            <a:off x="519120" y="509760"/>
            <a:ext cx="6284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Целевые установки </a:t>
            </a:r>
            <a:r>
              <a:rPr b="1" lang="ru-RU" sz="3200" spc="-1" strike="noStrike">
                <a:solidFill>
                  <a:srgbClr val="103154"/>
                </a:solidFill>
                <a:latin typeface="Corbel"/>
              </a:rPr>
              <a:t>– ценность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58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9" name=""/>
          <p:cNvGraphicFramePr/>
          <p:nvPr/>
        </p:nvGraphicFramePr>
        <p:xfrm>
          <a:off x="714240" y="2286000"/>
          <a:ext cx="7704360" cy="4206960"/>
        </p:xfrm>
        <a:graphic>
          <a:graphicData uri="http://schemas.openxmlformats.org/drawingml/2006/table">
            <a:tbl>
              <a:tblPr/>
              <a:tblGrid>
                <a:gridCol w="2568600"/>
                <a:gridCol w="2567160"/>
                <a:gridCol w="2568600"/>
              </a:tblGrid>
              <a:tr h="2562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Цель (личностный результат) 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убедятся в том, что (осознают ценность …, сформируют представление о значимости … и т.п.)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получат возможность для формирования (позиции, понимания, убеждения, установки, оценки и т.п.)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2466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Организовывать собственную деятельность, исходя из цели и способов ее достижения, определенных преподавателем.  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Демонстрировать навыки отбора необходимой информации  демонстрировать  навыки работы с компьютерной техникой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убедятся в том, что осознают ценность </a:t>
                      </a: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метода научного познания, сформируют представление о значимости  изучения астрономических  явлений  и  готовности  к  самообразованию  на основе мотивации к обучению астрономии.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рганизуют собственную деятельность, определяют методы и способы выполнения  практической  работы, оценивают её .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Демонстрирует необходимые навыки отбора информации при выполнении  самостоятельных заданий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Демонстрируют навыки работы с  интернет ресурсами.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1T10:45:33Z</dcterms:created>
  <dc:creator>НИРО</dc:creator>
  <dc:description/>
  <dc:language>en-US</dc:language>
  <cp:lastModifiedBy>User</cp:lastModifiedBy>
  <dcterms:modified xsi:type="dcterms:W3CDTF">2018-04-18T17:43:41Z</dcterms:modified>
  <cp:revision>161</cp:revision>
  <dc:subject/>
  <dc:title>ПРОЕКТИРОВАНИЕ  ДИСТАНЦИОННОГО ЗАНЯТИЯ</dc:title>
</cp:coreProperties>
</file>