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0A2-0F58-4A8C-B35A-1BB115E5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859-80EB-43FD-828C-2178A869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587-52C6-4A94-9EA3-2FD2EA51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EE4-9B2F-45F1-A881-A830E9F0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A579-6F21-4321-A990-12C5EF7C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1085-6653-4572-8936-5113C2F9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053F-9624-4386-8375-E61228D6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9EF3-8783-4594-A48A-270E5D05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3EB4-3676-4349-942B-0181B3D5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3B78-F31D-4658-9892-152E6AA9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717-B5BF-44A9-ADAE-C63F182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2D8-4B4A-4A07-BCB9-DFB889DB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8E66-4905-491C-BF65-0BD5FF2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BA79-5F0E-40AA-81D4-223742F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EBBA-61F5-4B02-82E1-D188F913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180-F261-4FD2-9BA7-FFD14C89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FDEB-FB95-46DD-AE55-84170A5B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F29-A029-471A-B578-D0B1D968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33F-954A-4F9A-A508-A635E118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E90-351A-4BF0-A45B-D24B67D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688-7E70-417F-9608-0E12201D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CB1-74A2-4A07-8A10-724D007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77D-3F0E-49D6-B699-5CAB4A2D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B4C-244E-4042-BE4C-1A2F76FE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D01C-9B65-4135-9C44-F751B1AAA96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66BE-816A-49B1-8813-408147AF93F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ade 5v pupil Abdulkhalikov Abdulkad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Book Antiqua"/>
              </a:rPr>
              <a:t>Amur tiger predatory and Deadliest Animals. To a tiger is dangerous to approach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11" descr="1321181553_0_143e2_fb52807c_xl"/>
          <p:cNvPicPr/>
          <p:nvPr/>
        </p:nvPicPr>
        <p:blipFill>
          <a:blip r:embed="rId2"/>
          <a:stretch/>
        </p:blipFill>
        <p:spPr>
          <a:xfrm>
            <a:off x="2590920" y="2819520"/>
            <a:ext cx="5105160" cy="3714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Book Antiqua"/>
              </a:rPr>
              <a:t>They are very beautiful and interesting color. They themselves are orange with black stripes, and there is a little white col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5" descr="image00412"/>
          <p:cNvPicPr/>
          <p:nvPr/>
        </p:nvPicPr>
        <p:blipFill>
          <a:blip r:embed="rId2"/>
          <a:stretch/>
        </p:blipFill>
        <p:spPr>
          <a:xfrm>
            <a:off x="2133720" y="3429000"/>
            <a:ext cx="6248160" cy="289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tigr-amurskij-ussurijskij-tigr-dalnevostochnyj-ili-sibirskij-tigr"/>
          <p:cNvPicPr/>
          <p:nvPr/>
        </p:nvPicPr>
        <p:blipFill>
          <a:blip r:embed="rId1"/>
          <a:stretch/>
        </p:blipFill>
        <p:spPr>
          <a:xfrm>
            <a:off x="2057400" y="3200400"/>
            <a:ext cx="49258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They are forious the beasts. For a start they are hiding, and then att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5514-0001r"/>
          <p:cNvPicPr/>
          <p:nvPr/>
        </p:nvPicPr>
        <p:blipFill>
          <a:blip r:embed="rId3"/>
          <a:stretch/>
        </p:blipFill>
        <p:spPr>
          <a:xfrm>
            <a:off x="2133720" y="2133720"/>
            <a:ext cx="4419360" cy="3571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ogotip_khk_amurtigr"/>
          <p:cNvPicPr/>
          <p:nvPr/>
        </p:nvPicPr>
        <p:blipFill>
          <a:blip r:embed="rId3"/>
          <a:stretch/>
        </p:blipFill>
        <p:spPr>
          <a:xfrm>
            <a:off x="2286000" y="2590920"/>
            <a:ext cx="4419720" cy="276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7 -0.033 -0.06133 -0.027 -0.1 C -0.024 -0.11333 -0.02 -0.12667 -0.014 -0.13733 C -0.01 -0.10667 0.004 -0.07867 0.025 -0.06133 C 0.025 -0.09867 0.041 -0.13467 0.068 -0.15067 C 0.077 -0.15733 0.087 -0.16 0.097 -0.16133 C 0.082 -0.13867 0.074 -0.10667 0.077 -0.07333 C 0.099 -0.09733 0.13 -0.10267 0.157 -0.08533 C 0.166 -0.08 0.175 -0.07067 0.181 -0.06133 C 0.158 -0.064 0.134 -0.052 0.117 -0.028 C 0.144 -0.02 0.167 0.008 0.174 0.04667 C 0.176 0.06 0.176 0.07333 0.174 0.08667 C 0.161 0.06133 0.139 0.044 0.115 0.04133 C 0.127 0.07467 0.124 0.116 0.106 0.14667 C 0.099 0.15733 0.091 0.16667 0.082 0.172 C 0.089 0.14267 0.085 0.10933 0.072 0.08267 C 0.06 0.116 0.034 0.13867 0.004 0.13867 C -0.007 0.13867 -0.017 0.136 -0.026 0.13067 C -0.004 0.12 0.013 0.09467 0.021 0.064 C -0.007 0.072 -0.036 0.06 -0.055 0.02933 C -0.062 0.01733 -0.066 0.00533 -0.069 -0.008 C -0.049 0.00933 -0.023 0.012 0 0 Z"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азибат</dc:creator>
  <dc:description/>
  <dc:language>en-US</dc:language>
  <cp:lastModifiedBy>иразибат</cp:lastModifiedBy>
  <dcterms:modified xsi:type="dcterms:W3CDTF">2014-12-23T15:35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