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F85-3AD3-4B2B-A3CF-474D99B9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638-32A4-41F3-B528-7C3FB8D6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1F1-FABF-484F-9650-E644B335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0F0-C66E-4A6A-90A4-ADC5A3F1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1A93-4C5B-4C12-944B-BE9D94BF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0549-409C-45EE-A392-949F88FC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0EEA-9192-49B9-BA04-9BEC55FF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297B-4619-4EBC-B3B7-44B505EF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5CA0-DF7A-4BAC-8D8A-57E9B657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BD61-E4D3-4FBB-9516-D791538F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45A9-C9F8-46AF-8AE6-A2180C1A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1BE0-A076-4840-9BDE-4047CF7B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A28B-0BC1-432D-9FCF-44646048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3D3E-FA7E-47B4-9545-56FC1A3E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17BE-B03D-433C-A9BE-804DF9A7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A3FB-5416-4A13-B0A1-4C6FFB14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7607-E616-40A2-8486-73E9184D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115-97ED-4449-8212-406E7089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CFFB-2024-446F-8D5D-BD597C09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2CD-616A-4D02-9B3F-2F73F6F0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2A44-858B-4EDE-9E2E-A0D8A0CE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3BC-502B-40A8-BAA4-87F1F7B6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42B3-02B5-4AF2-B774-3DAFDD25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61F8-32F1-40B2-9D93-5EE8B412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9C7D-4BBC-4617-BAEF-FDC14CAFF74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8DC6-1E77-4260-A118-74C95A43566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rade 5v pupil Abdulkhalikov Abdulkadu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286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Book Antiqua"/>
              </a:rPr>
              <a:t>Amur tiger predatory and Deadliest Animals. To a tiger is dangerous to approach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11" descr="1321181553_0_143e2_fb52807c_xl"/>
          <p:cNvPicPr/>
          <p:nvPr/>
        </p:nvPicPr>
        <p:blipFill>
          <a:blip r:embed="rId2"/>
          <a:stretch/>
        </p:blipFill>
        <p:spPr>
          <a:xfrm>
            <a:off x="2590920" y="2819520"/>
            <a:ext cx="5105160" cy="3714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Book Antiqua"/>
              </a:rPr>
              <a:t>They are very beautiful and interesting color. They themselves are orange with black stripes, and there is a little white col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5" descr="image00412"/>
          <p:cNvPicPr/>
          <p:nvPr/>
        </p:nvPicPr>
        <p:blipFill>
          <a:blip r:embed="rId2"/>
          <a:stretch/>
        </p:blipFill>
        <p:spPr>
          <a:xfrm>
            <a:off x="2133720" y="3429000"/>
            <a:ext cx="6248160" cy="2895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tigr-amurskij-ussurijskij-tigr-dalnevostochnyj-ili-sibirskij-tigr"/>
          <p:cNvPicPr/>
          <p:nvPr/>
        </p:nvPicPr>
        <p:blipFill>
          <a:blip r:embed="rId1"/>
          <a:stretch/>
        </p:blipFill>
        <p:spPr>
          <a:xfrm>
            <a:off x="2057400" y="3200400"/>
            <a:ext cx="4925880" cy="3048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They are forious the beasts. For a start they are hiding, and then atta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5514-0001r"/>
          <p:cNvPicPr/>
          <p:nvPr/>
        </p:nvPicPr>
        <p:blipFill>
          <a:blip r:embed="rId3"/>
          <a:stretch/>
        </p:blipFill>
        <p:spPr>
          <a:xfrm>
            <a:off x="2133720" y="2133720"/>
            <a:ext cx="4419360" cy="35719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logotip_khk_amurtigr"/>
          <p:cNvPicPr/>
          <p:nvPr/>
        </p:nvPicPr>
        <p:blipFill>
          <a:blip r:embed="rId3"/>
          <a:stretch/>
        </p:blipFill>
        <p:spPr>
          <a:xfrm>
            <a:off x="2286000" y="2590920"/>
            <a:ext cx="4419720" cy="2762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7 -0.033 -0.06133 -0.027 -0.1 C -0.024 -0.11333 -0.02 -0.12667 -0.014 -0.13733 C -0.01 -0.10667 0.004 -0.07867 0.025 -0.06133 C 0.025 -0.09867 0.041 -0.13467 0.068 -0.15067 C 0.077 -0.15733 0.087 -0.16 0.097 -0.16133 C 0.082 -0.13867 0.074 -0.10667 0.077 -0.07333 C 0.099 -0.09733 0.13 -0.10267 0.157 -0.08533 C 0.166 -0.08 0.175 -0.07067 0.181 -0.06133 C 0.158 -0.064 0.134 -0.052 0.117 -0.028 C 0.144 -0.02 0.167 0.008 0.174 0.04667 C 0.176 0.06 0.176 0.07333 0.174 0.08667 C 0.161 0.06133 0.139 0.044 0.115 0.04133 C 0.127 0.07467 0.124 0.116 0.106 0.14667 C 0.099 0.15733 0.091 0.16667 0.082 0.172 C 0.089 0.14267 0.085 0.10933 0.072 0.08267 C 0.06 0.116 0.034 0.13867 0.004 0.13867 C -0.007 0.13867 -0.017 0.136 -0.026 0.13067 C -0.004 0.12 0.013 0.09467 0.021 0.064 C -0.007 0.072 -0.036 0.06 -0.055 0.02933 C -0.062 0.01733 -0.066 0.00533 -0.069 -0.008 C -0.049 0.00933 -0.023 0.012 0 0 Z">
                                      <p:cBhvr>
                                        <p:cTn id="1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азибат</dc:creator>
  <dc:description/>
  <dc:language>en-US</dc:language>
  <cp:lastModifiedBy>иразибат</cp:lastModifiedBy>
  <dcterms:modified xsi:type="dcterms:W3CDTF">2014-12-23T15:35:1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