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FF39-74E2-44DD-991B-95B41E19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02A3-9255-4195-B54B-2D7FE3B6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5E53-6FE8-494A-99C0-177797B3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5385-1ABD-4B45-BC9B-8E01D5A0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1D79-0ABB-4055-8992-4872724F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0324-5126-4471-91B1-3E6C581B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7875-5836-4482-A226-3FA1B7EB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A51B-FC7B-4554-A6EC-C04B1CFE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74A-97A0-40BD-BB0C-32CB32E1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3E67-70C5-492E-B6DA-D73FA9FA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88F9-476A-4763-966D-BB0F1CED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26D4-9B24-4DB0-A082-9E59450F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E016-3B0C-480F-B702-7B02DB33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7B1D-37D2-4B73-A498-58B42FC3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5361-5135-440F-916C-72791EBF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8326-28CE-4A33-95F3-3E584FC2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4FAD-C416-4B5F-9472-37466A44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9D4E-BC6E-4435-AF86-2BEDEBAB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7213-7CFB-4BB3-B212-48FDFADC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6077-A6C5-4A82-849B-20ED2FF1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97CB-4B1F-4A06-9CEC-C5E1AF9E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23C5-F5FB-4F09-80D2-D745354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5C94-6CAD-45DD-8776-BA590F7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DBAE-55D2-47D2-9C67-13AFA19E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AE21-D0D6-4632-A322-0E4CF4F876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7F7C-2D6B-4C24-B291-C0D85F7F26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Мальчикбезфона"/>
          <p:cNvPicPr/>
          <p:nvPr/>
        </p:nvPicPr>
        <p:blipFill>
          <a:blip r:embed="rId2"/>
          <a:stretch/>
        </p:blipFill>
        <p:spPr>
          <a:xfrm>
            <a:off x="306360" y="1539720"/>
            <a:ext cx="2055960" cy="4135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У «Социально-реабилитационный центр для несовершеннолетних» Ивнянского район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"/>
          <p:cNvPicPr/>
          <p:nvPr/>
        </p:nvPicPr>
        <p:blipFill>
          <a:blip r:embed="rId3"/>
          <a:stretch/>
        </p:blipFill>
        <p:spPr>
          <a:xfrm>
            <a:off x="2057400" y="2840040"/>
            <a:ext cx="6629400" cy="1177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"/>
          <p:cNvPicPr/>
          <p:nvPr/>
        </p:nvPicPr>
        <p:blipFill>
          <a:blip r:embed="rId4"/>
          <a:stretch/>
        </p:blipFill>
        <p:spPr>
          <a:xfrm>
            <a:off x="4952880" y="4557600"/>
            <a:ext cx="38530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1-08T11:51:1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