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C3242-0D91-481A-9D6A-4D26EDB5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6DF4-556C-4F93-A795-74A38C92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1840-9FD7-411C-839E-8B42EE3A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11EB-6757-4238-AA31-26058CB0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D52A-FE94-46F4-B01C-56D4BE28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1145-D012-45C7-8A31-B38E3106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9FF2-5E1D-4D6F-AC0D-01E00CE8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EB2B-6749-480C-AF16-9B3300A1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DBF3-1238-414E-B281-4C859062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B8AA-831E-4738-A3E9-DFB0D1B6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58C1-A9FC-4DF1-9E96-38544872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57EA-FF1F-4BB0-B79B-C1B2EA40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B0E7-5BE4-44AA-994B-0702B3D1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8F5F-4280-4DC6-8519-CCEBEE76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47A7-A344-4180-A869-4332B422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2BF7-2D9D-4958-9809-97864AC9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07E0-A927-4E17-B1F7-57AC096B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E449-F13C-4EE2-9F22-A2794D5A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13E0-532A-4356-8E94-B3BFCA9C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B51B-0190-425A-8182-80DBCEBC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D98D-6C7B-4C84-BD27-B7CA1365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A61F-C74F-4B79-9C01-3B84F544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9202-6C3A-4B09-A373-CEC29BE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4D7B-FED5-4B4F-A23F-6235EE29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96E7-E777-425A-A19B-FD397D1B78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B7DE-DE49-41E0-BF1E-67D73CFEEB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Мальчикбезфона"/>
          <p:cNvPicPr/>
          <p:nvPr/>
        </p:nvPicPr>
        <p:blipFill>
          <a:blip r:embed="rId2"/>
          <a:stretch/>
        </p:blipFill>
        <p:spPr>
          <a:xfrm>
            <a:off x="306360" y="1539720"/>
            <a:ext cx="2055960" cy="4135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У «Социально-реабилитационный центр для несовершеннолетних» Ивнянского района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"/>
          <p:cNvPicPr/>
          <p:nvPr/>
        </p:nvPicPr>
        <p:blipFill>
          <a:blip r:embed="rId3"/>
          <a:stretch/>
        </p:blipFill>
        <p:spPr>
          <a:xfrm>
            <a:off x="2057400" y="2840040"/>
            <a:ext cx="6629400" cy="11779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"/>
          <p:cNvPicPr/>
          <p:nvPr/>
        </p:nvPicPr>
        <p:blipFill>
          <a:blip r:embed="rId4"/>
          <a:stretch/>
        </p:blipFill>
        <p:spPr>
          <a:xfrm>
            <a:off x="4952880" y="4557600"/>
            <a:ext cx="38530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1-08T11:51:1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