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7AC56-4A4B-4558-9A24-A99CBF149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FA061-2E72-4A26-AF2E-2708BD5D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C8C5C-3276-4828-9B90-A09B791BF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2B715-A7ED-49EF-80BB-10C74FED1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F3E1-6FC9-425F-A8AC-54FB2C9E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640E-D786-4FCC-B342-67362D2D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57DC-AFD9-472B-A5FE-687446B1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7AE8-CD53-48E7-9194-EE80C6CE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73E9-D536-4D43-B3CF-E216E2E2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6CBA-02FD-4278-860C-7257DF80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2EA5-0CCF-41A9-B7F9-B4E0DFA7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BAAFA-E52C-4AAC-B53F-70E78C95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D052-2C13-41E1-A537-F831F1AE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F4C9-39AE-4914-93BE-3D4053C6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4BD5-5F85-4BD8-B8EE-4DB739B3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9DD0-EEF9-45FE-A94A-29BB274DB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43C3-77E8-43B5-B4B2-B7583C308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9E1E5-5B24-49C6-86DE-818A4589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09353-9AA3-433C-A9F6-0EBE0697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24555-0C11-435A-9C44-8B199D28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F5C3C-DF37-4669-8B8A-9E901BE5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C8547-ECFD-4177-B2C6-07EE4CF8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59D56-8571-4F80-BB0B-524514D3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F7CD0-62DF-41D7-82E5-87669D0A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A9BC-E279-4533-BA89-91C8DD8ED08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C467-E80C-46C7-A351-7AB6D436C6C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1" descr=""/>
          <p:cNvPicPr/>
          <p:nvPr/>
        </p:nvPicPr>
        <p:blipFill>
          <a:blip r:embed="rId1"/>
          <a:stretch/>
        </p:blipFill>
        <p:spPr>
          <a:xfrm>
            <a:off x="-47520" y="36360"/>
            <a:ext cx="9191520" cy="6894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http://www.playcast.ru/uploads/2018/04/20/25084454.png"/>
          <p:cNvPicPr/>
          <p:nvPr/>
        </p:nvPicPr>
        <p:blipFill>
          <a:blip r:embed="rId2"/>
          <a:stretch/>
        </p:blipFill>
        <p:spPr>
          <a:xfrm>
            <a:off x="4114800" y="4716360"/>
            <a:ext cx="1546200" cy="2119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http://allday1.com/uploads/posts/2015-09/1441887362_teenagers-students-6-06.png"/>
          <p:cNvPicPr/>
          <p:nvPr/>
        </p:nvPicPr>
        <p:blipFill>
          <a:blip r:embed="rId3"/>
          <a:stretch/>
        </p:blipFill>
        <p:spPr>
          <a:xfrm>
            <a:off x="5635800" y="4768920"/>
            <a:ext cx="1209600" cy="2014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http://iskrinka.zp.ua/wp-content/uploads/2016/05/familia-830x792.png"/>
          <p:cNvPicPr/>
          <p:nvPr/>
        </p:nvPicPr>
        <p:blipFill>
          <a:blip r:embed="rId4"/>
          <a:stretch/>
        </p:blipFill>
        <p:spPr>
          <a:xfrm>
            <a:off x="7075440" y="4853160"/>
            <a:ext cx="2046240" cy="19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04400" cy="6827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http://png-images.ru/wp-content/uploads/2015/01/butterfly_PNG1057.png"/>
          <p:cNvPicPr/>
          <p:nvPr/>
        </p:nvPicPr>
        <p:blipFill>
          <a:blip r:embed="rId2"/>
          <a:stretch/>
        </p:blipFill>
        <p:spPr>
          <a:xfrm rot="14639400">
            <a:off x="7240320" y="395280"/>
            <a:ext cx="1609920" cy="1168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https://img-fotki.yandex.ru/get/941534/16969765.286/0_aea48_a59d06b3_orig.png"/>
          <p:cNvPicPr/>
          <p:nvPr/>
        </p:nvPicPr>
        <p:blipFill>
          <a:blip r:embed="rId3"/>
          <a:stretch/>
        </p:blipFill>
        <p:spPr>
          <a:xfrm rot="1460400">
            <a:off x="7607160" y="5754600"/>
            <a:ext cx="1154160" cy="104004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2" descr=""/>
          <p:cNvPicPr/>
          <p:nvPr/>
        </p:nvPicPr>
        <p:blipFill>
          <a:blip r:embed="rId4"/>
          <a:stretch/>
        </p:blipFill>
        <p:spPr>
          <a:xfrm>
            <a:off x="4419720" y="4541760"/>
            <a:ext cx="1446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" descr=""/>
          <p:cNvPicPr/>
          <p:nvPr/>
        </p:nvPicPr>
        <p:blipFill>
          <a:blip r:embed="rId1"/>
          <a:stretch/>
        </p:blipFill>
        <p:spPr>
          <a:xfrm>
            <a:off x="0" y="-457200"/>
            <a:ext cx="9855360" cy="731520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4"/>
          <p:cNvSpPr/>
          <p:nvPr/>
        </p:nvSpPr>
        <p:spPr>
          <a:xfrm>
            <a:off x="457200" y="609480"/>
            <a:ext cx="8991720" cy="56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2"/>
                </a:solidFill>
                <a:latin typeface="Times New Roman"/>
              </a:rPr>
              <a:t>СОВЕТЫ ПОДРОСТК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    Не бойся делать то, что не умеешь и чему тебя не учи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    Упал – начни снач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    Без веры в себя нельзя быть сильным. Но вера в себя считается в обществе чем-то нескромным. Уладить это противоречие – одна из труднейших задач человека и его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    В поисках истины свойственно ушибатьс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    Нет никого в этой жизни, кто бы достиг состояния, освобождающего его от необходимости труд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    Новые шансы даются под видом неприятностей. Не упусти их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    Пока ты недоволен жизнью, она проходит мим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.    Если прислушаться к самому себе – можно услышать друг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9.    Не бывает безвыходных ситуаций! Бывают только ситуации, выход из которых нас не устраив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0. Если  человек говорит, что у него нет проблем, стоит проверить его пуль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1. Всем людям свойственно ошибатьс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2" descr=""/>
          <p:cNvPicPr/>
          <p:nvPr/>
        </p:nvPicPr>
        <p:blipFill>
          <a:blip r:embed="rId1"/>
          <a:stretch/>
        </p:blipFill>
        <p:spPr>
          <a:xfrm>
            <a:off x="334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4"/>
          <p:cNvSpPr/>
          <p:nvPr/>
        </p:nvSpPr>
        <p:spPr>
          <a:xfrm>
            <a:off x="1371600" y="533520"/>
            <a:ext cx="6019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Monotype Corsiva"/>
              </a:rPr>
              <a:t>Помните, каким бы не был Ваш ребенок, трудным или хорошим, это, прежде всего дети и они должны быть счастли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9-01-08T11:51:42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