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1B70-93D4-4F4B-8F85-CF32B4B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F112-C337-45CB-A672-44C6B135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A860-856F-473B-BCD3-FCE6D3C4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DBF4-CC6F-421B-8F8F-F4993014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573-0D65-4294-89B7-4B26194B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E56-CFC3-4ED1-AA29-7147108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202-A89D-4FE8-95FC-CB403AD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C22C-17C4-4896-BA0E-A7BE371D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5D2-93F3-4D08-BF12-F7F2DB35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F541-3D79-46E6-9BB4-E7F0130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6327-EEB3-4C4E-A771-D082235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7E5B-26F3-43C1-BCA8-2AC72502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AA4-0199-40A2-B3F6-6A9351B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54B4-5480-4725-B070-2607E26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9B0A-47B9-4924-9F61-CC348D33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FA2-1C04-4780-A526-ADC83E19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A5B-C9E2-4B05-8C4D-75C8A19C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59E1-9DBC-42A5-B383-1591E9E7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2553-9F1F-41AA-ACA1-206FE21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EB14-CE69-4A3A-8073-2F2B3C6F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5715-FC5D-429D-8F61-655584E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E246-6399-439F-B7F0-94F9A99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D1A8-B4BF-435C-B742-CAB4CDA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EACE-2879-47B9-9099-E21B96C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7C6-850F-42A6-AF2C-7E4D9A78DF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34A0-DC5B-432D-8E13-38E831AF41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-47520" y="36360"/>
            <a:ext cx="9191520" cy="689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playcast.ru/uploads/2018/04/20/25084454.png"/>
          <p:cNvPicPr/>
          <p:nvPr/>
        </p:nvPicPr>
        <p:blipFill>
          <a:blip r:embed="rId2"/>
          <a:stretch/>
        </p:blipFill>
        <p:spPr>
          <a:xfrm>
            <a:off x="4114800" y="4716360"/>
            <a:ext cx="1546200" cy="21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allday1.com/uploads/posts/2015-09/1441887362_teenagers-students-6-06.png"/>
          <p:cNvPicPr/>
          <p:nvPr/>
        </p:nvPicPr>
        <p:blipFill>
          <a:blip r:embed="rId3"/>
          <a:stretch/>
        </p:blipFill>
        <p:spPr>
          <a:xfrm>
            <a:off x="5635800" y="4768920"/>
            <a:ext cx="1209600" cy="20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iskrinka.zp.ua/wp-content/uploads/2016/05/familia-830x792.png"/>
          <p:cNvPicPr/>
          <p:nvPr/>
        </p:nvPicPr>
        <p:blipFill>
          <a:blip r:embed="rId4"/>
          <a:stretch/>
        </p:blipFill>
        <p:spPr>
          <a:xfrm>
            <a:off x="7075440" y="4853160"/>
            <a:ext cx="2046240" cy="19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6827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png-images.ru/wp-content/uploads/2015/01/butterfly_PNG1057.png"/>
          <p:cNvPicPr/>
          <p:nvPr/>
        </p:nvPicPr>
        <p:blipFill>
          <a:blip r:embed="rId2"/>
          <a:stretch/>
        </p:blipFill>
        <p:spPr>
          <a:xfrm rot="14639400">
            <a:off x="7240320" y="395280"/>
            <a:ext cx="1609920" cy="116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img-fotki.yandex.ru/get/941534/16969765.286/0_aea48_a59d06b3_orig.png"/>
          <p:cNvPicPr/>
          <p:nvPr/>
        </p:nvPicPr>
        <p:blipFill>
          <a:blip r:embed="rId3"/>
          <a:stretch/>
        </p:blipFill>
        <p:spPr>
          <a:xfrm rot="1460400">
            <a:off x="7607160" y="5754600"/>
            <a:ext cx="1154160" cy="1040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4"/>
          <a:stretch/>
        </p:blipFill>
        <p:spPr>
          <a:xfrm>
            <a:off x="4419720" y="4541760"/>
            <a:ext cx="144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-457200"/>
            <a:ext cx="985536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57200" y="609480"/>
            <a:ext cx="8991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2"/>
                </a:solidFill>
                <a:latin typeface="Times New Roman"/>
              </a:rPr>
              <a:t>СОВЕТЫ ПОДРОСТ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    Не бойся делать то, что не умеешь и чему тебя не учи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    Упал – начни снач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    Без веры в себя нельзя быть сильным. Но вера в себя считается в обществе чем-то нескромным. Уладить это противоречие – одна из труднейших задач человека и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    В поисках истины свойственно у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    Нет никого в этой жизни, кто бы достиг состояния, освобождающего его от необходимости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    Новые шансы даются под видом неприятностей. Не упусти и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    Пока ты недоволен жизнью, она проходит м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    Если прислушаться к самому себе – можно услышать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    Не бывает безвыходных ситуаций! Бывают только ситуации, выход из которых нас не устраи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Если  человек говорит, что у него нет проблем, стоит проверить его пу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Всем людям свойственно о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1371600" y="5335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Помните, каким бы не был Ваш ребенок, трудным или хорошим, это, прежде всего дети и они должны быть счастл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8T11:51:4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