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040F-E669-4E3A-9E19-E3A2DDBA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8AB8-99DD-408C-9AA0-A1DF747A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5A15F-2A85-4367-AD51-8A0CBFE1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71F14-DF42-43BB-9BCF-D148C091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A5FC3-245C-473A-A5CF-D3492BF2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352FE-1F4D-4FF5-A049-D5C7410E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B739F-19A4-4928-871F-F1103D02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F691D-21EF-4F1F-99AA-A900DBB3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BC8D6-8337-4AA3-829C-1E71E5E6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092CB-E551-4868-87F4-DDA404E5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B985B-B664-4764-AD0B-70623134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B4209-23CF-45B5-A680-366F6861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563F-459E-40C3-B330-14BD62C5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8BEA2-E984-481A-93FD-1A7E1C7B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DCFE4-E512-486B-9800-02D213FD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F6FE0-1624-4D1A-A46D-E6493F3B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8E4BE-C537-46D5-B6A7-711324F0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F94F7-10A5-47E2-B9C3-94D99B56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E66EF-77A7-4FAA-BF7E-72742B29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50556-E3B5-47F4-9824-C92184F8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66B86-2BC2-475B-859A-ACE88FC6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C47D6-08E3-4C22-AAF0-AB44DD32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B00CC-7012-4A46-BAD5-23CB4908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5953-074C-44F1-948A-D865BFA1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1C84D-92DF-4740-B856-0331CB33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BA565-2D38-4923-910F-84069CE7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C42F4-D865-405E-A198-989BB02F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8F472-75E6-48F0-A70D-B5A2F572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D3FE4-1517-46C5-8A5B-F1FCA15F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8B312-31CC-434D-A13A-09A1B524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1CD47-8F18-4ADE-B334-DCE9EB94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B7C26-F0A2-422E-BE23-753EBEC0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55D4C-C7A3-4EE3-A865-94913B0B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EA6F9-1B17-4BAB-BD07-F7799C89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5DB9-9B58-4188-8070-58C075D7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46489-555E-4DE4-9F72-E78AB01E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40DD3-6771-4958-ADDD-A086D954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DD33C-B2A5-4736-9311-6C128687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C6F2D-1AD5-4873-9F31-A4ADCE82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B794C-344E-4C5F-B179-646FDB41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BAD21-AA14-4C62-AAA6-9F5EFF7B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CBAD5-69D0-41AF-AB1B-B34A2136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8C95B-F1A9-41FC-9B52-432523BD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00873-C1AE-4911-9830-E5AD6580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C13F3-C139-4B1B-8754-A005811D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7298-8932-4D1D-BD98-77FE1FAA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85095-80A0-4D69-866F-0536B1E9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D91A2-5D4F-483F-B8C1-0DC67166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F003E-A3A2-4BFC-A096-76A088E3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8C88F-2309-41F7-802B-C6409AF4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7C183-5A12-4BD6-A210-C94D450D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DF00B2-E160-46AD-A3C0-738C7F20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24C6C-F027-46C5-993A-2823910A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248839-BD8E-4D45-861B-BC016435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64883F-A263-461E-87D5-BAB9081C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216015-2DF9-49C2-BEEB-39DC26E5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C787-DA95-4752-8081-4D410029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466B3-E19A-474E-B18D-DBC6DA51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C36F7B-FCCC-4448-9DAA-553ACD2E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2642B0-C323-4363-A15F-178F05F5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1C0741-D6BC-46D3-8C18-932A515F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C254A7-51E9-49C9-8F23-279A066F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9B811F-DD5E-4E78-BFB7-7AEAC496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16A158-3C9E-4AD2-8C13-FF7507FF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47DF-FB7A-4EEF-A184-59EDBB2F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7AE1-C5E6-4742-9764-31891017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0FAD-183A-4E7B-A163-D19EC6DF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2372-2733-43B5-B10A-F5C572B6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3592-AD4D-4133-B800-5BBCC656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AF34-62D6-468F-9781-2617B3B9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3E71-B2D1-4DDC-80DD-C698E9C8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EF8B-3447-4F7D-8EE9-BA08C709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BCB5-2386-4734-B83F-5882FEC1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A38D-3DD5-4695-BC32-1C5EC2A2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13BE1-78EB-4B35-B6F1-BD040CD6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CB5F2-A5A4-4E65-B698-FDEAC907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1AA74-1916-4B23-8AD2-BDC91892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390FA-B8EA-41D9-9845-0A722432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B8F7A-49E8-4E08-9C55-0B729A4E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86E3-A612-44C0-8256-75F2A049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6EE36-F1F5-4A6D-AEB8-2FE7B5A4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F7E31-3B36-4841-811D-DC2B835F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462EB-33CA-4C81-A5BB-6D8AABBE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8DD5C-2BA9-4C7C-A08E-68D93152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BE6D0-7366-4A43-A412-D94B5AC3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ECB37-62B9-44CF-86B5-27C37D07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47C65-AF5E-492C-AA4E-4EE60CCE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230CF-E327-4070-8C5A-F2D1B00C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6F9B3-2EB4-4B82-85E0-A41F6DBF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EAF9B-FB7E-4904-9730-04FDD371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CD5E-A0F8-4BF2-8C7E-DE84A477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88727-D25F-463E-A91A-564D94EB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8FF45-A6A5-4D1E-B2E8-CD3EA282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259E5-ED5D-491E-8F84-DF6FF3D0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2C516-2A0C-4473-ADF1-0A998566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75B12-0868-42B1-894A-5ECC02D5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E1DC1-6666-4BDA-A54C-21783DA0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E32DB-4170-41F6-B1ED-E798F2A4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9424B-B5FC-484F-B8DA-1CDBB300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EDD28-4963-4EAC-BA5E-15A2D110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FCFA7-3614-44C1-AF73-24CF0813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CB6-977D-45C1-B82C-5A31D564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923C9-0BE8-41FB-A025-902B64DB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6560A-D29E-4D2C-806B-32708F88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A6FB3-9660-4885-AEAD-02386E01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E47BC-8444-4C73-B24F-23D2C383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51BFA-9CA6-4A6B-B133-77D81071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0389E-854A-4D7F-A6A4-9BB77CD7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A50BD-7077-4557-8DE6-2C7ED05D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917BC-E23C-442A-B355-660586A5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9613C-BA00-44AE-B782-761D48AB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BBA39-465B-4AC4-BC89-54BC24ED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8EC7-1694-45B0-9574-60861565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77E95-05EF-4F23-A815-E164B15E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CD449-907F-49EF-B920-A0B5E441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819C1-BE02-4CEB-931E-57919B85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0BEB1-5047-46A5-89E3-14339BBD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228A1-CE50-4E53-A397-778CD44A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8823A-EF08-4679-99B1-AFC2EFB1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42C63-F22F-4C63-B195-872E6020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0E3AB-C809-4F84-9455-E81B8AEE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68379-3CB1-4B60-B743-9EB8B241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B256E-F538-4BB4-97FB-B7D53045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4053-1085-4657-876C-4170FD84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B67B6-E1D3-4BFB-8953-22C65027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009E6-0994-4117-A7E6-AE800038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7ECBE-6999-425C-BFBF-74DD7C48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8A097-E395-4B1E-8D9F-B12B5172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0350C-0EAE-463C-9524-BD9CA41F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C8BE1-F785-4398-86F7-CC9ECBB6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D31BF-DA61-47FD-835B-DD7E752E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597CA-FE0A-4969-8788-75710A5A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511AF-0BB5-49EE-88C6-25243AE2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AB160-F1DD-401D-8E89-FF9091B9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5E19-712D-4227-A689-1EDA7B15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9CB2F-A75A-481C-BC7B-8087BF24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A9FE9-1F9A-42F5-B3B2-A287FF44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D7506-2118-4EB5-A850-53BAA70E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E7F49-71CE-4890-BC0E-657039A0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35AF4-70F5-42AE-9CD0-94E6F6C2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36CCE-A8D6-4FF6-AC43-4EC3F63E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5E4EC-39EB-4DCF-94F9-CCF9241C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11DD8-FF41-4CB4-8927-6FF216CB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D64BF-5EA9-447B-B45F-1B055739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51FED-D974-49FE-8FA7-CBDA3B0E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ADE1-A3C1-4AAF-946E-8E417173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A273B-3991-4BEE-86FB-87C26733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6E93D-8FF2-444E-B07B-7651BFF5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29151-D7E8-4AFA-B420-7583DB52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E2B76-5FE1-4FB0-97B5-A678AF6D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96A3D-A55B-4939-AA39-EC1B959D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86EDA-AE08-46BD-B6A1-AC9356D2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7DC4D-59C5-49BB-95C0-0CA64271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E37EF-FB7C-4058-BC51-0CFB3860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81A6E-5EB7-43C5-90E7-22565CE0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07167-015E-4FA8-ADAF-E47BB06E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eb1"/>
            </a:gs>
            <a:gs pos="100000">
              <a:srgbClr val="f8a1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59E6-E722-472C-AF19-87FE5054D3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eb1"/>
            </a:gs>
            <a:gs pos="100000">
              <a:srgbClr val="f8a1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53F8-9DD6-42DB-8FB9-1D86778A9D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eb1"/>
            </a:gs>
            <a:gs pos="100000">
              <a:srgbClr val="f8a1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AD8A-AF86-401D-AB0E-CA4354FB50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eb1"/>
            </a:gs>
            <a:gs pos="100000">
              <a:srgbClr val="f8a1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A449-47C8-44FA-8571-7F5A38384D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eb1"/>
            </a:gs>
            <a:gs pos="100000">
              <a:srgbClr val="f8a1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A0FE-3C72-40DE-822E-2D99BA460E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eb1"/>
            </a:gs>
            <a:gs pos="100000">
              <a:srgbClr val="f8a1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2AC1-2B48-47FE-81C0-4B4E9B695A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eb1"/>
            </a:gs>
            <a:gs pos="100000">
              <a:srgbClr val="f8a1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28E3-2046-4AC2-A725-6E410D550E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eb1"/>
            </a:gs>
            <a:gs pos="100000">
              <a:srgbClr val="f8a1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2A84-00B3-4479-BE42-87E51B383B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eb1"/>
            </a:gs>
            <a:gs pos="100000">
              <a:srgbClr val="f8a1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F36A-6B42-47B4-B72A-78E517C18F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eb1"/>
            </a:gs>
            <a:gs pos="100000">
              <a:srgbClr val="f8a1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2AFC-E2A3-4527-886A-21ED2591A8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eb1"/>
            </a:gs>
            <a:gs pos="100000">
              <a:srgbClr val="f8a1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D161-5F7A-49E8-AE4F-29EF344595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eb1"/>
            </a:gs>
            <a:gs pos="100000">
              <a:srgbClr val="f8a1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E4DA-CDB7-4556-B104-9B7344E2FF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eb1"/>
            </a:gs>
            <a:gs pos="100000">
              <a:srgbClr val="f8a1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3ADF-C119-4B75-869F-029F9AA515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713880" y="4285800"/>
            <a:ext cx="82155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Verdana"/>
              </a:rPr>
              <a:t>Выполнил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Verdana"/>
              </a:rPr>
              <a:t>обучающиеся группы  № 22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Verdana"/>
              </a:rPr>
              <a:t>специальность «Портной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Verdana"/>
              </a:rPr>
              <a:t>Кусаинова Радмил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cc0000"/>
                </a:solidFill>
                <a:latin typeface="Verdana"/>
              </a:rPr>
              <a:t>группы № 33, специальность «Повар, кондитер» Зотов Пав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Verdana"/>
              </a:rPr>
              <a:t>Научные руководители работ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Verdana"/>
              </a:rPr>
              <a:t>Преподаватель спецдисциплин по специальности «Портной» Клепикова М.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Verdana"/>
              </a:rPr>
              <a:t>Мастер п/о специальности «Повар, кондитер» Маслякова Н.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Verdana"/>
              </a:rPr>
              <a:t>Преподаватель иностранных языков Мергенова Р. 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0" y="333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Verdana"/>
              </a:rPr>
              <a:t>ГОСУДАРСТВЕННОЕ БЮДЖЕТНОЕ ПРОФЕССИОНАЛЬНОЕ ОБРАЗОВАТЕЛЬНОЕ УЧРЕЖДЕНИЕ САРАТОВСКОЙ ОБЛАСТ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Verdana"/>
              </a:rPr>
              <a:t>«АЛЕКСАНДРОВО-ГАЙСКИЙ ПОЛИТЕХНИЧЕСКИЙ ЛИЦЕЙ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287280" y="1643040"/>
            <a:ext cx="88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Исследовательский  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«Функциональные особенности универсальной формы повар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C:\Users\Румия\Desktop\повар\2_1394449028.jpg"/>
          <p:cNvPicPr/>
          <p:nvPr/>
        </p:nvPicPr>
        <p:blipFill>
          <a:blip r:embed="rId1"/>
          <a:stretch/>
        </p:blipFill>
        <p:spPr>
          <a:xfrm>
            <a:off x="0" y="3263760"/>
            <a:ext cx="1187280" cy="35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0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1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5"/>
          <p:cNvSpPr/>
          <p:nvPr/>
        </p:nvSpPr>
        <p:spPr>
          <a:xfrm>
            <a:off x="1405800" y="0"/>
            <a:ext cx="48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Конкурс «Творчество в моей профе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0" y="62496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роекта: Изготовление многофункциональной  формы повара с учетом современных требований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 проек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учить историю возникновения профессии «Пова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учить назначение  поварской одежды,  его разнообразие и знач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воить технологию изготовления  униформы пова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овершенствовать изделие с учетом современных требований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зготовление униформы повара своими руками соответствует техническим условиям обработки изделия, экономически выгодно, способствует  формированию современного  взгляда на  униформу повара  и стремления изменить представление о спецодежде, а так же  представить доступную и качественную продук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кладная значимость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зготовление униформы повара своими руками соответствует техническим условиям обработки изделия, экономически выгодно, способствует  формированию современного  взгляда на  униформу повара  и стремления изменить представление о спецодежде, а так же  представить доступную и качественную продук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0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5"/>
          <p:cNvSpPr/>
          <p:nvPr/>
        </p:nvSpPr>
        <p:spPr>
          <a:xfrm>
            <a:off x="1405800" y="0"/>
            <a:ext cx="48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Конкурс «Творчество в моей профе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179280" y="3751560"/>
            <a:ext cx="878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я над этим проектом, мы все внесли частицу своей души, умений, стараний  и очень надеемся, что эта униформа будет востребована не только в нашей стране и за рубежом. Есть такая поговорка: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корабль назовешь, так он и поплывет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поэтому мы решили дать звучное название своей работе на английском языке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« uniforms chef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можно, в недалеком будущем мы будем описывать модель униформы повара на очередной неделе высокой моды в Париже или Лондо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этому мы решили  позаботиться о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ецодежде для поваров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работать собственный дизайн одежды для поваров. Решая поставленные проектом перед нами задачи, сначала были выполнены  три первые модели  униформы для повар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7" descr="g_image_4e4de5be05641"/>
          <p:cNvPicPr/>
          <p:nvPr/>
        </p:nvPicPr>
        <p:blipFill>
          <a:blip r:embed="rId1"/>
          <a:stretch/>
        </p:blipFill>
        <p:spPr>
          <a:xfrm>
            <a:off x="684360" y="549360"/>
            <a:ext cx="1406520" cy="26654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8" descr="20_20080916120546078"/>
          <p:cNvPicPr/>
          <p:nvPr/>
        </p:nvPicPr>
        <p:blipFill>
          <a:blip r:embed="rId2"/>
          <a:stretch/>
        </p:blipFill>
        <p:spPr>
          <a:xfrm>
            <a:off x="3708360" y="1197000"/>
            <a:ext cx="1181160" cy="25970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9" descr="uuuu"/>
          <p:cNvPicPr/>
          <p:nvPr/>
        </p:nvPicPr>
        <p:blipFill>
          <a:blip r:embed="rId3"/>
          <a:stretch/>
        </p:blipFill>
        <p:spPr>
          <a:xfrm>
            <a:off x="6732720" y="765000"/>
            <a:ext cx="1147680" cy="26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0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1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5"/>
          <p:cNvSpPr/>
          <p:nvPr/>
        </p:nvSpPr>
        <p:spPr>
          <a:xfrm>
            <a:off x="1405800" y="0"/>
            <a:ext cx="48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Конкурс «Творчество в моей профе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755640" y="510012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емление изменить представление об униформе повара и представить доступную и качественную продукцию подтолкнуло меня к разработке четвертого варианта модели  для поваров, при этом учитывался главный аргумент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–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его универсальность, модный стиль.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8" descr="IMG_7841"/>
          <p:cNvPicPr/>
          <p:nvPr/>
        </p:nvPicPr>
        <p:blipFill>
          <a:blip r:embed="rId1"/>
          <a:stretch/>
        </p:blipFill>
        <p:spPr>
          <a:xfrm>
            <a:off x="2843280" y="693720"/>
            <a:ext cx="252072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7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3452760" cy="266544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0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1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5"/>
          <p:cNvSpPr/>
          <p:nvPr/>
        </p:nvSpPr>
        <p:spPr>
          <a:xfrm>
            <a:off x="1405800" y="0"/>
            <a:ext cx="48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Конкурс «Творчество в моей профе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7"/>
          <p:cNvSpPr/>
          <p:nvPr/>
        </p:nvSpPr>
        <p:spPr>
          <a:xfrm>
            <a:off x="2843280" y="3860640"/>
            <a:ext cx="597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А я – О прозе. О еде. О пище.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едь, если где-то существует Бог,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Его я вижу у плиты великой, -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аспаренного, с черпаком в руке.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 загадочною, доброю улыбкой.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 – непременно – В белом колпак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0:45:42Z</dcterms:created>
  <dc:creator>ikc</dc:creator>
  <dc:description/>
  <dc:language>en-US</dc:language>
  <cp:lastModifiedBy>гарант</cp:lastModifiedBy>
  <dcterms:modified xsi:type="dcterms:W3CDTF">2019-01-08T19:48:29Z</dcterms:modified>
  <cp:revision>316</cp:revision>
  <dc:subject/>
  <dc:title>Моя творческая мастерская</dc:title>
</cp:coreProperties>
</file>