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594-F880-423F-8485-AED67DC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EB-4400-4EAE-A202-58BFAF59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EC2D0-CAB7-4CA3-9F43-4760C8F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0E21D-4641-4556-908D-3846ED7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A4E51-9BFD-4E62-BBE7-78466C2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D9C4-4B61-4A6C-A4B5-9ED35C1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E70BA-4706-4925-87C5-14D99F0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74E3C-BDC2-4778-84FB-93BA9AF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C21E1-6A2A-47F7-93C2-41328F5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E9388-9CE2-4CC6-BFDC-1E49A2C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63FCF-7539-49A0-8F2E-84CB58CC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7772B-97B6-42F3-9B77-0C38384A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FF7-BC58-4A57-B339-1640FE8F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0E40F-940F-4ED0-8E5E-5EA60EDE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E3ECF-349D-4A79-92A2-7884DC6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EF38A-AF12-4277-B504-CA4FA7E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C97DD-96A6-4D63-B9F7-654F2E83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3E005-FCDE-454A-8036-E30A5C4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8C704-8C66-4017-AC5B-314AF40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3C40-097D-4F47-98EC-C33ED8F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F19D-5E0F-41FE-B59A-07E3195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493A0-6DD9-4A43-B3FE-5B8D6639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1EEC5-39BE-44B9-8E06-F8F797F0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5B8-092D-45A8-A580-803B2C32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9CA5D-A80D-4234-82D5-F753F8A6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8EB4-30F0-48B5-8470-FEC1FD9B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AEDB-4644-4DFF-B2AA-BEF19916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C45A3-DD42-40C9-961A-3AB1F1C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2509-F571-4565-A052-919AB4C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18C0B-43DD-4435-92C6-19C3CD54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ACE1-7825-4D24-AD88-7687A57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2E7F-405C-4D44-BA9C-6F879A8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703CE-C6C8-46F8-8D37-AA2E8C2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B4AEC-A87D-4217-A630-98D38A1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7A90-3CD6-47AA-B76A-5D412212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F5B73-273E-4E81-88E5-AACF243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5F5D9-B868-4C5F-ABC4-80054D72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077ED-8905-4910-9C06-0FDAB120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F7D9A-FE7E-4C82-9DD6-4AACE688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CE14F-EEB8-43AA-8C62-3D0E45C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EBB1F-6436-4601-9627-6FE8809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E0666-4AFD-462B-9AA9-65EFEBD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A7BBD-4490-4CC2-8A18-AD8323D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86A0-5F50-4DB1-BC4B-607F2FA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066AE-A04A-4251-98D8-A1A517A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26C2-BF30-4A66-A946-9D32391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D6A0D-3287-435E-AF82-B675C06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A520D-F28E-446B-89CF-B1630F8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95A2-B696-44B4-8C3A-F3235F1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DC22-92CF-44C6-8074-0D52FBFD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E1A84-5714-4B3F-940C-8982DFE6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0B540-A1BB-45E6-AA85-B4EF0ADC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9C9F4-828A-4461-97AB-FE12FD26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CA217-8929-45D7-BF22-27AE450B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1A431-734E-4026-AA39-EFA7867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70C0D-861C-4A41-AE9B-5EB0171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BA1A-069C-492D-885C-B42615E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40603-5E2A-4CFC-9131-F001B445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5ED51-9A06-4FA7-915B-8B5B9F2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4A23-D2AF-42EF-A64F-650B27F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25345-D0F5-4E23-9FD1-811334A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DE90E-25AF-4F1A-8D52-8F7F3C0D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EC1E2-7E13-45C1-86E4-5C67C35D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68E77-56DA-4770-88C0-8DFB2EED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947-A5AB-4276-AB85-26DBB26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32B-A1C0-4999-8799-DFB0F7C2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16C-1058-4AC5-A3DC-2826414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922C-B3D0-4BC4-832E-602926D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263-8CCE-4EC1-AAF7-40644FB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42F-70E2-429A-AAF5-F18EC5C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6248-9ABC-40EF-8415-FB37E57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06FE-D46F-4F8F-89AA-CD8AC056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344-3654-447C-AD44-FC8175D3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6EB7-C189-4D3C-AE2D-14689197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3C6C-FFA3-42F5-8873-A3ACCA36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131C-A961-4159-AA83-876FAC6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4137-6952-41B2-B0FC-A4E3E931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F625-80B1-40BC-82ED-53D25D7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F43B-0303-41AE-AF25-DA71D94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D06-C986-4641-A85E-05AF2D0E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9EDD-E372-4F9D-99AA-F3DA649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0BC1-C175-4662-8EC6-4541893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F889-04EF-4CB3-B20D-02901AC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CF21-3727-4688-8E15-9DF8686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45FD-3813-41CF-9016-2571FF4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E5B6-AE51-479E-99F5-69D21A6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BC33-1223-4D4E-A765-5B352557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AF54-F837-4E56-95F7-259B384D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54EF-71FE-415D-A614-34BBACB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295C-8E9D-467F-ADA1-5F78F20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12B-3F1D-4BD5-B167-31AFB55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5473-6ACB-4298-9934-195FF194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541A-9F9C-4353-9E20-362A038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D3A3-D27E-4A10-B1DF-9593D3CD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A9B2-2A36-45A5-828D-0EDEBC8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6230-F160-4F79-A62E-B3DE54E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3C5D-ABF3-4060-B6F8-29D73BF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BA7C-EF6C-44B0-9545-59EECCE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A4ED-6E58-4A4A-9600-91277EE4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F9E2-42D9-48F1-9452-55C5AF50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33BC-23BB-49BE-93F3-29467FB0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577-2AE1-4A2C-A0C6-8DC9CF0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87E3-BA70-4C91-ACD3-332496A0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26C0-1940-4C8E-A783-D4C4D1C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6FC8-1586-47D1-ACEA-4A4D667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4D9C-A4CF-4A1C-B61B-AF8BAE0B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3DB4-B8D7-4E21-81D0-A8F44DF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F211-0894-4134-8958-858C7F2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A8BC-1EE6-4816-BCD2-1DA14D5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46D6-E016-419A-9B0B-A4677CB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B4ED7-E943-475E-8C20-55E80F2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5763-5844-413C-BBE7-68833D2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472-3C5B-4778-8741-A48EFEB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29CA-685A-4A1A-91EB-FF75C92F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6544-C82F-4B3E-98C3-CC1BDFA5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D04E-08B2-48F7-9B39-D994D6FB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7929-A9B8-47B9-A989-3A328E65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DF18-5E24-430D-A1B7-F463DD0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DCDE-BF99-4F19-9200-0EA6D9B2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46AB-D40B-492F-957C-BBF21A3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F05F-619C-45B0-A22A-F5858BE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7975-0091-45C2-8228-982B66F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403F-8138-443B-A77B-3B8DCB6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C39-E7DC-47BE-9EB5-309DA01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0ED3-F579-4421-8F60-36E072A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F120-8D80-4E8E-8359-3677BF1C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E6B21-0DD5-4A3A-AE3E-1D6E7ACC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B652-49C9-4F2F-90F0-4B9AAFE6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D417-1377-4FE4-B533-648D4987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4940-78D1-40FA-8118-AFDC2E5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2F7B3-F1E2-4AB6-97B3-054FA245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68FC-ECE5-40A0-BA4A-53F66BF1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E14B-614E-4168-8010-40E78F34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55B5-2EBF-4CD8-B644-1239681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5A4-A7C1-4186-A188-0462708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3BDD-3EE0-46D5-AE0F-1720EF4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9BDD-4A86-45E3-B58C-EE97917B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896C-CC3D-4F1F-89B9-794D977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EA89C-3912-4E9D-9C83-39F6D5CC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AD64-275A-4866-B190-5DBCEE6E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1D47-64BE-419F-A8CB-53EA7017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815E-288F-4FE8-AB59-22A4A5B8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02C0-9993-4B87-82E3-5903D46F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E293-2345-4953-BD9C-FB47873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DB9C-0CE2-4440-A995-E878363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3E7-7D35-4AA0-8E51-3224196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D2E10-F5E2-43B1-B1D4-40CD9C8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1118-EC6D-45B8-AC72-DCE0FBA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9D83-FB3C-483F-8600-611580A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4A00-EFC1-4F00-8D86-433CE4C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7B2BB-2186-4092-AB35-3E8FC09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AD65-5B7F-4D8F-A219-F1DB759F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050D-4CE9-44D3-AE45-DC80A6FF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43202-BBE9-427C-8CB3-D4D82C6A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CCB18-7CDB-40F7-8AA4-9C16D2A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4B83F-C81E-4A64-AB37-794A097C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F37D-3122-45D6-8926-4E88CF97C0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3A4D-C49C-4606-86E3-3A66B9C80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5511-A86B-4CF3-8286-55F63F778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17C3-7A65-49EE-B208-EE6BEF44E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275A-8DE2-4F71-99CE-347C3AC90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104-45EE-49CD-AF74-22405D6110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36D-180E-4BEE-B66C-DF0A1BCD1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4E4C-4C0E-4AA9-8182-4D9373DA19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FF2-EFD2-4AC7-9E2A-80770BEA7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41B4-12BD-4D39-92A2-02120BCD6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C44-5465-47C9-9A11-B03116B153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783D-EF19-494D-96D1-1ACB50EFD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eb1"/>
            </a:gs>
            <a:gs pos="100000">
              <a:srgbClr val="f8a1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19E-BF9F-4EAE-8E10-A379375A1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713880" y="4285800"/>
            <a:ext cx="82155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обучающиеся группы  № 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специальность «Портно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Кусаинова Радм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группы № 33, специальность «Повар, кондитер» Зотов Пав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Научные руководители работ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Преподаватель спецдисциплин по специальности «Портной» Клепикова М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Мастер п/о специальности «Повар, кондитер» Маслякова Н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Преподаватель иностранных языков Мергенова Р. 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333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Verdana"/>
              </a:rPr>
              <a:t>ГОСУДАРСТВЕННОЕ БЮДЖЕТНОЕ ПРОФЕССИОНАЛЬНОЕ ОБРАЗОВАТЕЛЬНОЕ УЧРЕЖДЕНИЕ САРАТОВ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Verdana"/>
              </a:rPr>
              <a:t>«АЛЕКСАНДРОВО-ГАЙСКИЙ ПОЛИТЕХНИЧЕСКИЙ ЛИЦЕ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87280" y="164304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сследовательский 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«Функциональные особенности универсальной формы пова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Users\Румия\Desktop\повар\2_1394449028.jpg"/>
          <p:cNvPicPr/>
          <p:nvPr/>
        </p:nvPicPr>
        <p:blipFill>
          <a:blip r:embed="rId1"/>
          <a:stretch/>
        </p:blipFill>
        <p:spPr>
          <a:xfrm>
            <a:off x="0" y="3263760"/>
            <a:ext cx="118728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62496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оекта: Изготовление многофункциональной  формы повара с учетом современных требований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ить историю возникновения профессии «Пов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ить назначение  поварской одежды,  его разнообразие и зна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оить технологию изготовления  униформы пов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овершенствовать изделие с учетом современных требований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зготовление униформы повара своими руками соответствует техническим условиям обработки изделия, экономически выгодно, способствует  формированию современного  взгляда на  униформу повара  и стремления изменить представление о спецодежде, а так же  представить доступную и качественную проду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ладная значимост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зготовление униформы повара своими руками соответствует техническим условиям обработки изделия, экономически выгодно, способствует  формированию современного  взгляда на  униформу повара  и стремления изменить представление о спецодежде, а так же  представить доступную и качественную проду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179280" y="37515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я над этим проектом, мы все внесли частицу своей души, умений, стараний  и очень надеемся, что эта униформа будет востребована не только в нашей стране и за рубежом. Есть такая поговорка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корабль назовешь, так он и поплыве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поэтому мы решили дать звучное название своей работе на английском язык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 uniforms chef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, в недалеком будущем мы будем описывать модель униформы повара на очередной неделе высокой моды в Париже или Лонд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ому мы решили  позаботиться 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одежде для поваров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аботать собственный дизайн одежды для поваров. Решая поставленные проектом перед нами задачи, сначала были выполнены  три первые модели  униформы для пова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g_image_4e4de5be05641"/>
          <p:cNvPicPr/>
          <p:nvPr/>
        </p:nvPicPr>
        <p:blipFill>
          <a:blip r:embed="rId1"/>
          <a:stretch/>
        </p:blipFill>
        <p:spPr>
          <a:xfrm>
            <a:off x="684360" y="549360"/>
            <a:ext cx="1406520" cy="2665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20_20080916120546078"/>
          <p:cNvPicPr/>
          <p:nvPr/>
        </p:nvPicPr>
        <p:blipFill>
          <a:blip r:embed="rId2"/>
          <a:stretch/>
        </p:blipFill>
        <p:spPr>
          <a:xfrm>
            <a:off x="3708360" y="1197000"/>
            <a:ext cx="1181160" cy="2597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uuuu"/>
          <p:cNvPicPr/>
          <p:nvPr/>
        </p:nvPicPr>
        <p:blipFill>
          <a:blip r:embed="rId3"/>
          <a:stretch/>
        </p:blipFill>
        <p:spPr>
          <a:xfrm>
            <a:off x="6732720" y="765000"/>
            <a:ext cx="1147680" cy="26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55640" y="51001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емление изменить представление об униформе повара и представить доступную и качественную продукцию подтолкнуло меня к разработке четвертого варианта модели  для поваров, при этом учитывался главный аргумен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 универсальность, модный стиль.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IMG_7841"/>
          <p:cNvPicPr/>
          <p:nvPr/>
        </p:nvPicPr>
        <p:blipFill>
          <a:blip r:embed="rId1"/>
          <a:stretch/>
        </p:blipFill>
        <p:spPr>
          <a:xfrm>
            <a:off x="2843280" y="693720"/>
            <a:ext cx="2520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452760" cy="26654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1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405800" y="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онкурс «Творчество в моей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2843280" y="3860640"/>
            <a:ext cx="59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 я – О прозе. О еде. О пище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дь, если где-то существует Бог,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го я вижу у плиты великой, -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паренного, с черпаком в руке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загадочною, доброю улыбкой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 – непременно – В белом колпак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45:42Z</dcterms:created>
  <dc:creator>ikc</dc:creator>
  <dc:description/>
  <dc:language>en-US</dc:language>
  <cp:lastModifiedBy>гарант</cp:lastModifiedBy>
  <dcterms:modified xsi:type="dcterms:W3CDTF">2019-01-08T19:48:29Z</dcterms:modified>
  <cp:revision>316</cp:revision>
  <dc:subject/>
  <dc:title>Моя творческая мастерская</dc:title>
</cp:coreProperties>
</file>