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DA9-CD3F-4E06-9E70-445D00CB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479-552D-4CD5-A802-ECC444C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CFE-CA12-4A7E-B4B1-E7EC4C5A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E3B-EFA8-4C35-9EC5-07CCEEE2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9A3-43F7-4D2F-8E09-9DED7B6E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8FA4-463F-48E5-AEA9-55C1A7C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837E-88AE-406B-A97A-9AF2062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0D58-F0A7-4BF9-B00D-007F475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AAD7-01D0-4740-9CB3-401BC38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F77-58AB-4AB9-84F0-3108C89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997E-12BC-4338-9240-085B22C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5E0-0855-4379-9CCA-FE2B60AE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4700-A7A0-403C-9BC8-49BE169A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AEEC-6441-47D8-87F0-8560511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9B76-A48E-4850-9A51-C349464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9342-520D-4596-B490-B1AC8982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162C-CDBD-452E-A289-A7D20FDF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BCF-A146-4C74-8487-E896066C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C35-AD5B-403E-A85C-77FFAAC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317-2365-439F-8307-05508E9C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2BD-24B2-4C78-9467-4D331CC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78F-335D-43A4-9DE2-4C2AFD5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BFC-3A4A-4B48-BE4E-95E6C82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3EE-E18B-4669-B267-AE5D7DD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C7E-4628-4BB9-B5F1-A4F63E18D8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58D-F20D-41C4-9CAC-524D823CF2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стный счё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1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Во сколько раз 5 см меньше, чем 5 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Сколько минут в четверти ч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Спектакль начался в 15 часов и продолжался 2 часа 20 минут. Когда закончился спектакл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Найди площадь прямоугольника со сторонами 8 см и 4 с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88 увеличь в 1000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)Сколько килограммов в 9 тонн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)Найди произведение чисел 600 и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)Вычитаемое 643, разность 625. Найди уменьшаем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)Найди сумму чисел 9999 и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)К какому числу надо прибавить 860, чтобы получить 358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2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Сколько минут в 2 час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На сколько надо уменьшить число 1060, чтобы осталось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Из числа 420 вычти частное чисел 350 и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Сколько часов в 120 минут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Сколько лет в половине ве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77 увеличь в 1000 ра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)Найди сумму чисел 460,270 и 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)Какое число надо прибавить к числу 7200, чтобы получить 8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)Какой может быть масса взрослой кошки: 5кг, 500г, 50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)Из какого числа надо вычесть 600, чтобы осталось 9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/№3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На сколько надо умножить 21, чтобы получить 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Число 7200 уменьши в 6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Найди произведение чисел 1000 и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Число 700 умножь на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Сколько минут в 1 ча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Число 8967 умножь на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)Число 1600 уменьши в 8 ра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)Сторона квадрата 5 см. Найди его периме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)Третья часть отрезка составляет 12 см. Найди его дли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)За 5 часов секретарь набрала 20 страниц текста. Сколько страниц наберёт секретарь за 3 час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9:59:48Z</dcterms:created>
  <dc:creator>Admin</dc:creator>
  <dc:description/>
  <dc:language>en-US</dc:language>
  <cp:lastModifiedBy>Admin</cp:lastModifiedBy>
  <dcterms:modified xsi:type="dcterms:W3CDTF">2019-01-08T10:16:57Z</dcterms:modified>
  <cp:revision>2</cp:revision>
  <dc:subject/>
  <dc:title>Устный счёт</dc:title>
</cp:coreProperties>
</file>