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9CE-0CD1-4858-85BD-DA16D3B5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023-36DA-422A-BFAF-E9A58A8B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E12-70DA-43B2-A5FB-945D18E3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0AD-65FC-4C26-BD6B-F91D9001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DF59-D297-4338-AAFB-190942B1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E46A-1AB3-4A09-8C33-90B6EED6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60A7-D889-4D7C-A331-AC4DA566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8A67-20BA-40D2-AEC1-EB71CAF4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3753-5087-4B91-A32F-5D52C4A5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6085-49DD-4915-B522-82D0877A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2569-0B26-48BB-A42D-D922164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1D5-726C-4D20-A4C1-275DC8E9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3C7D-56B4-4844-A7FB-0A9F1874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CE49-9622-4EC0-AED7-24BCCA8D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287A-AB97-448D-8BE4-D9D6670F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D4B0-51F9-4BE5-A81E-B059A544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E681-95F3-4A07-A593-9B7B524E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FE3-75CC-410F-8CED-FF651738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8FE-41E9-4024-B868-5BC7C21F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975-AA7A-4490-8DB8-012F348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EFD-2CB3-4388-833E-A7F98A59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89D-C192-4EE0-9D67-5165EBC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01E-C040-493C-AE12-DA3FEBD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EFA-26EB-4E01-BEDA-8A53F5A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7133-27AD-41E6-9617-3DA1E2C7A8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C71E-534C-4073-9B67-FC7CC852AF3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Устный счё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/№1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Во сколько раз 5 см меньше, чем 5 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Сколько минут в четверти ч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Спектакль начался в 15 часов и продолжался 2 часа 20 минут. Когда закончился спектакл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Найди площадь прямоугольника со сторонами 8 см и 4 с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)88 увеличь в 1000 ра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)Сколько килограммов в 9 тонна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)Найди произведение чисел 600 и 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)Вычитаемое 643, разность 625. Найди уменьшаем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)Найди сумму чисел 9999 и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)К какому числу надо прибавить 860, чтобы получить 358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/№2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Сколько минут в 2 час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На сколько надо уменьшить число 1060, чтобы осталось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Из числа 420 вычти частное чисел 350 и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Сколько часов в 120 минут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)Сколько лет в половине ве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)77 увеличь в 1000 раз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)Найди сумму чисел 460,270 и 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)Какое число надо прибавить к числу 7200, чтобы получить 8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)Какой может быть масса взрослой кошки: 5кг, 500г, 50 к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)Из какого числа надо вычесть 600, чтобы осталось 9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/№3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На сколько надо умножить 21, чтобы получить 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Число 7200 уменьши в 6 ра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Найди произведение чисел 1000 и 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Число 700 умножь на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)Сколько минут в 1 ча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)Число 8967 умножь на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)Число 1600 уменьши в 8 ра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)Сторона квадрата 5 см. Найди его перимет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)Третья часть отрезка составляет 12 см. Найди его дли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)За 5 часов секретарь набрала 20 страниц текста. Сколько страниц наберёт секретарь за 3 час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09:59:48Z</dcterms:created>
  <dc:creator>Admin</dc:creator>
  <dc:description/>
  <dc:language>en-US</dc:language>
  <cp:lastModifiedBy>Admin</cp:lastModifiedBy>
  <dcterms:modified xsi:type="dcterms:W3CDTF">2019-01-08T10:16:57Z</dcterms:modified>
  <cp:revision>2</cp:revision>
  <dc:subject/>
  <dc:title>Устный счёт</dc:title>
</cp:coreProperties>
</file>