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0F3BC-EE10-4ED0-B934-CB01C165C3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CD7C6-02B8-4853-8EF2-5031C94558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71E59-FEA8-446E-BBE3-EB428C9FBA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12B8A-0E0B-4AC7-9B5F-D8DF964BD4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0CD70-D195-4DEA-A47A-E82E8B7C58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32E55-1864-4B33-BA11-16EED78E59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E158C-5E3D-4CA5-8638-EEBB148FED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9B6-7889-4D7D-BC14-FBF78DE1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70F-9769-44BA-B794-B37363F0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848-91BA-42F4-A894-C6571452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A44-E27A-415C-AA64-4243F700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A95E-063D-42E2-A02F-117257D7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9BEC-C916-4B71-A9A3-8800CD5D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A6E6-319B-42A5-9B72-407B096F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94D9-6786-4593-B822-687D54E3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DA07-88C0-4E15-8B68-BEC4FEFA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4476-A94E-4C43-B41B-5D1EB90A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3DDB-E13C-46E5-8639-D0853951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12B-748F-4DC3-AF18-2967A11E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6D48-C7CA-45DF-B586-D164C30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7BEA-F3F6-4269-AE42-DA44338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4909-1C5D-42D2-AA48-CCD20D85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57E7-F497-48D3-B84D-267D6A94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FA23-E651-4BE7-926E-E60D6E2F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A378-16C7-4934-9291-6DC045F7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BCCEC-B37A-4706-BC75-536777E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6BD1-BE89-4A9D-8D1C-5661FD81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E5A7-077A-421C-A637-9FB868E5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A096-3FAB-481B-A93E-B1D0628C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E95-4607-40E2-AA8F-E037C7EA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3C45-FB0E-45D7-8144-7508E14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AFDE-FBFB-480F-985D-EEF80386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B6479-6361-4070-B0FD-658122C8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9CEF-8BBC-4E3B-A9E8-1781DC12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8E72-A729-4D42-877F-D68AC541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6E16-71D1-46CE-868B-5949E958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1719-1A8B-4DB5-85FC-CFC8EA0B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AA97-28BC-4586-A547-A5D453B0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4DEC1-D4CF-4308-BCA7-67DCB7AB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33C4-DE25-4FAE-B27F-EE74A19F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604-3DEE-4007-ABF6-A729C21A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E816-640E-4800-BB65-0AAF3469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1614C-4E6C-4B2F-A78E-091CC84B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3D8D-8E86-489C-A8E0-6E95B443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3383-B395-4D73-8AFB-DCA3B540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8550-BD93-4A9D-A19D-F12CD58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FBC2-ABFE-4B78-B16F-CB9C8966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D91A-CB78-47CA-8C05-36E2D38F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9CD6-F8AF-4053-8ED5-774A71FF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C4EF8-1683-4689-885F-5E065885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F2B23-5971-4491-AEB7-DE9C5B11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6B7-8CA3-41F4-B013-230EBC5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3CE0C-E240-4347-982D-41551512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B023-E14D-4057-A32B-787E7548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910FD-F0FF-4FBD-B341-6431FBC4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B3301-4904-4F43-BF6C-C0C2FF69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E7D99-B881-4F49-BFC2-B3C6F8B8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9202-228B-47DF-86D9-9591ED72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E8A7A-BF67-45BE-B62D-79BB2428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F88D1-E953-467C-A0E2-D339505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1E0A-61D4-450E-B15A-574DBA0A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6CC78-A7D5-4131-BABC-126B598E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E77-F6E8-4FA3-B989-717D69B6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48789-13A3-4776-ACD0-2C9D93FE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6EF8-F155-4635-941C-195BFA49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152DD-C798-4D2B-AA43-A4F254EB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2E76D-D10E-4C3B-834E-BD8F5015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49AD-0692-4FCA-A093-69BFB5EC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C89EC-C110-4C59-AC36-4C26BF66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17FAA-817C-4846-84DF-0C82E070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BD95-6D6E-4424-B040-89195F0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3935B-FDB1-4BF4-AF62-21A4C8A0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29D5-B9C0-4A6D-B930-CC8BE4AA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AD4-CD5C-47B2-A249-C8C7677C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33DB-3E05-4C31-8EBC-D2CBA870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99A70-3D5E-41FD-B8C5-F24D2B42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AA271-FCD2-48E4-95F3-B03B030B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B9293-9971-4B9C-BBAB-3D1E3F7E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98ADB-9375-4B22-BCB9-9786F156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C7774-584C-4861-A975-03840709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F3216-5B8F-4CCF-8294-3DEDBFED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C45E5-348E-439A-870A-613C7120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9FD78-18F3-4BDB-A51E-338BB16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4FAF6-80C7-4B32-AA6D-83E45BED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4C9B-CFB1-4B4B-BE1F-26744756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6608D-A434-40B0-9A9B-88E674FB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7F59-2B29-43A5-89E2-63CACC57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827EC-9F80-43C9-BB2C-8E45C8AE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C9BC1-A02A-45E2-9D40-1D570EF1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7DC9-3886-4002-A18F-DAC64CF9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41CB6-58EF-4962-B94D-E082DF03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5D0BD-2FA1-46A2-A937-3B143EF6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9B177-A121-4669-8D94-A6D93D3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EB4AF-F690-44B8-91FA-F733E4D9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B74D-427A-468F-9519-8952DC9A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E0A-A4BB-4412-B5FE-F1E3BDC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A0700-1A9B-4409-A0F5-928B0E0A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A686D-756B-48B3-BA98-74B1CFE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D194A-755D-4340-9790-F211651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91D5F-9E79-49E3-A071-F8D95E2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4170960"/>
            <a:ext cx="90741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6E350-50C8-4C55-A58B-CA8208A7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34424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3040" y="4170960"/>
            <a:ext cx="442800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AF372-4827-4CDD-95D6-5FF8C5D3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156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134424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156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9840" y="4170960"/>
            <a:ext cx="2921760" cy="258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BC45-9917-4CF1-A425-600607E8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467CB8-5345-429F-84BA-760F2C76A663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96840" y="4021200"/>
            <a:ext cx="8064720" cy="14112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1008000" y="5564160"/>
            <a:ext cx="8064720" cy="75744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96840" y="4021200"/>
            <a:ext cx="252360" cy="14112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08000" y="5564160"/>
            <a:ext cx="252360" cy="75744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056000" y="7005600"/>
            <a:ext cx="2521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95720" y="7005600"/>
            <a:ext cx="38304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341000" y="7005600"/>
            <a:ext cx="13431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81F33A-1305-4A5D-A4FF-51E0FE531351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1008000" y="3108240"/>
            <a:ext cx="8064720" cy="14112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008000" y="3108240"/>
            <a:ext cx="252360" cy="14112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056000" y="7005600"/>
            <a:ext cx="2521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95720" y="7005600"/>
            <a:ext cx="38304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179000" y="7005600"/>
            <a:ext cx="16765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DBE95A-6ED3-49CF-9132-EAB2FCE8239F}" type="slidenum">
              <a:rPr b="0" lang="ru-RU" sz="15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5C33DA-B9D2-41F7-8728-6E135886E0BE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9370DF-B19E-4F5C-B7ED-D18CE2DBFF16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810480" y="338040"/>
            <a:ext cx="0" cy="66531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531169-6F88-46FC-BDC0-4A7846C8E9BD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503280" y="552600"/>
            <a:ext cx="203040" cy="7556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3A58CD-AE81-48DE-B36B-5A7503F18C85}" type="slidenum">
              <a:rPr b="0" lang="ru-RU" sz="15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503280" y="1260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503280" y="7002360"/>
            <a:ext cx="907416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61880" y="7129440"/>
            <a:ext cx="210960" cy="1317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6480" bIns="-6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7227720" y="304920"/>
            <a:ext cx="0" cy="6449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3280" y="1344240"/>
            <a:ext cx="9074160" cy="541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603360" indent="-301680">
              <a:spcBef>
                <a:spcPts val="663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2" marL="906480" indent="-250920">
              <a:spcBef>
                <a:spcPts val="663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3" marL="1208160" indent="-250920">
              <a:spcBef>
                <a:spcPts val="663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4" marL="1511280" indent="-250920">
              <a:spcBef>
                <a:spcPts val="663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5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6" marL="151128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056360" y="7007400"/>
            <a:ext cx="2524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95360" y="7007400"/>
            <a:ext cx="3863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74640" y="7007400"/>
            <a:ext cx="21844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160893-9EC4-4905-9336-B182A1406BD2}" type="slidenum">
              <a:rPr b="0" lang="ru-RU" sz="15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Царство грибов очень разнообразно. Учёным известно около 100 тысяч видов грибов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8" name="Рисунок 4" descr="93d379821b7b.jpg"/>
          <p:cNvPicPr/>
          <p:nvPr/>
        </p:nvPicPr>
        <p:blipFill>
          <a:blip r:embed="rId1"/>
          <a:stretch/>
        </p:blipFill>
        <p:spPr>
          <a:xfrm>
            <a:off x="396720" y="1351080"/>
            <a:ext cx="3357720" cy="32162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5" descr="2.jpg"/>
          <p:cNvPicPr/>
          <p:nvPr/>
        </p:nvPicPr>
        <p:blipFill>
          <a:blip r:embed="rId2"/>
          <a:stretch/>
        </p:blipFill>
        <p:spPr>
          <a:xfrm>
            <a:off x="4968720" y="1351080"/>
            <a:ext cx="4619880" cy="29397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6" descr="450px-Morille2.jpg"/>
          <p:cNvPicPr/>
          <p:nvPr/>
        </p:nvPicPr>
        <p:blipFill>
          <a:blip r:embed="rId3"/>
          <a:stretch/>
        </p:blipFill>
        <p:spPr>
          <a:xfrm>
            <a:off x="5611680" y="3970440"/>
            <a:ext cx="2692440" cy="358920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7" descr="14151212_oboi_1012.jpg"/>
          <p:cNvPicPr/>
          <p:nvPr/>
        </p:nvPicPr>
        <p:blipFill>
          <a:blip r:embed="rId4"/>
          <a:stretch/>
        </p:blipFill>
        <p:spPr>
          <a:xfrm>
            <a:off x="325440" y="418464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503280" y="1344240"/>
            <a:ext cx="9074160" cy="544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100000"/>
              </a:lnSpc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4" descr="IMG_0007.jpg"/>
          <p:cNvPicPr/>
          <p:nvPr/>
        </p:nvPicPr>
        <p:blipFill>
          <a:blip r:embed="rId1"/>
          <a:stretch/>
        </p:blipFill>
        <p:spPr>
          <a:xfrm>
            <a:off x="3897360" y="4422600"/>
            <a:ext cx="5600520" cy="27496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301680"/>
            <a:ext cx="457200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     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Грибы, которые мы привыкли видеть в лесу,   состоят из плодового тела которое появляется на поверхности земли в грибной сезон и грибницы, которая круглый год живёт в почве. Она всасывает из почвы воду и питательные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вещества.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        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 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             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	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5" name="Содержимое 3" descr="IMG_0006.jpg"/>
          <p:cNvPicPr/>
          <p:nvPr/>
        </p:nvPicPr>
        <p:blipFill>
          <a:blip r:embed="rId2"/>
          <a:stretch/>
        </p:blipFill>
        <p:spPr>
          <a:xfrm>
            <a:off x="5826240" y="493560"/>
            <a:ext cx="348300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5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Нити грибниц оплетают корни деревьев и помогают деревьям всасывать из почвы воду и соли, взамен получая питательные вещества.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7" name="Содержимое 4" descr="93d379821b7b.jpg"/>
          <p:cNvPicPr/>
          <p:nvPr/>
        </p:nvPicPr>
        <p:blipFill>
          <a:blip r:embed="rId1"/>
          <a:stretch/>
        </p:blipFill>
        <p:spPr>
          <a:xfrm>
            <a:off x="254160" y="1779480"/>
            <a:ext cx="4611600" cy="44164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os10.jpg"/>
          <p:cNvPicPr/>
          <p:nvPr/>
        </p:nvPicPr>
        <p:blipFill>
          <a:blip r:embed="rId2"/>
          <a:stretch/>
        </p:blipFill>
        <p:spPr>
          <a:xfrm>
            <a:off x="4968720" y="3422520"/>
            <a:ext cx="48135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83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Многие грибы в лесу тесно связаны с определёнными деревьями и кустарниками. Так  подберёзовик растёт под берёзами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0" name="Содержимое 3" descr="0_70008_ee09c010_XL.jpg"/>
          <p:cNvPicPr/>
          <p:nvPr/>
        </p:nvPicPr>
        <p:blipFill>
          <a:blip r:embed="rId1"/>
          <a:stretch/>
        </p:blipFill>
        <p:spPr>
          <a:xfrm>
            <a:off x="3111480" y="1612800"/>
            <a:ext cx="3857760" cy="4905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6" descr="0_7ba81_9ee27645_L.jpg"/>
          <p:cNvPicPr/>
          <p:nvPr/>
        </p:nvPicPr>
        <p:blipFill>
          <a:blip r:embed="rId2"/>
          <a:stretch/>
        </p:blipFill>
        <p:spPr>
          <a:xfrm>
            <a:off x="325440" y="2208240"/>
            <a:ext cx="531972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83160" y="301320"/>
            <a:ext cx="5889600" cy="1049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Подосиновики растут под осинами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2920" y="1208160"/>
            <a:ext cx="6180120" cy="5548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100000"/>
              </a:lnSpc>
              <a:spcBef>
                <a:spcPts val="663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жики – под соснам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елям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Рисунок 4" descr="0_6cc05_f215d66f_XL.jpg"/>
          <p:cNvPicPr/>
          <p:nvPr/>
        </p:nvPicPr>
        <p:blipFill>
          <a:blip r:embed="rId1"/>
          <a:stretch/>
        </p:blipFill>
        <p:spPr>
          <a:xfrm>
            <a:off x="5040360" y="1351080"/>
            <a:ext cx="4473360" cy="44290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6" descr="rijyk1_0.jpeg"/>
          <p:cNvPicPr/>
          <p:nvPr/>
        </p:nvPicPr>
        <p:blipFill>
          <a:blip r:embed="rId2"/>
          <a:stretch/>
        </p:blipFill>
        <p:spPr>
          <a:xfrm>
            <a:off x="468360" y="2422440"/>
            <a:ext cx="4572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Грибы быстро заселяют пни. Они перерабатывают мёртвую древесину и очищают лес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Содержимое 8" descr="1170980042_f.jpg"/>
          <p:cNvPicPr/>
          <p:nvPr/>
        </p:nvPicPr>
        <p:blipFill>
          <a:blip r:embed="rId1"/>
          <a:stretch/>
        </p:blipFill>
        <p:spPr>
          <a:xfrm>
            <a:off x="325440" y="1494000"/>
            <a:ext cx="2639880" cy="3520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9" descr="%C3%F0%E8%E1%FB_036_650.jpg"/>
          <p:cNvPicPr/>
          <p:nvPr/>
        </p:nvPicPr>
        <p:blipFill>
          <a:blip r:embed="rId2"/>
          <a:stretch/>
        </p:blipFill>
        <p:spPr>
          <a:xfrm>
            <a:off x="2611440" y="4422600"/>
            <a:ext cx="3857760" cy="28926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1" descr="preview.php.jpg"/>
          <p:cNvPicPr/>
          <p:nvPr/>
        </p:nvPicPr>
        <p:blipFill>
          <a:blip r:embed="rId3"/>
          <a:stretch/>
        </p:blipFill>
        <p:spPr>
          <a:xfrm>
            <a:off x="4040280" y="1351080"/>
            <a:ext cx="4714920" cy="29462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12" descr="08185fbbaf247985e72b6196013d9394.jpg"/>
          <p:cNvPicPr/>
          <p:nvPr/>
        </p:nvPicPr>
        <p:blipFill>
          <a:blip r:embed="rId4"/>
          <a:stretch/>
        </p:blipFill>
        <p:spPr>
          <a:xfrm>
            <a:off x="6649920" y="4637160"/>
            <a:ext cx="3021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54658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53"/>
                </a:solidFill>
                <a:latin typeface="Cambria"/>
              </a:rPr>
              <a:t>А ещё грибы нужны лесу потому, что ими питаются многие лесные животные.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2" name="Содержимое 3" descr="717339068.jpg"/>
          <p:cNvPicPr/>
          <p:nvPr/>
        </p:nvPicPr>
        <p:blipFill>
          <a:blip r:embed="rId1"/>
          <a:stretch/>
        </p:blipFill>
        <p:spPr>
          <a:xfrm>
            <a:off x="754200" y="1779480"/>
            <a:ext cx="3430440" cy="25718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4" descr="preview.php.jpg"/>
          <p:cNvPicPr/>
          <p:nvPr/>
        </p:nvPicPr>
        <p:blipFill>
          <a:blip r:embed="rId2"/>
          <a:stretch/>
        </p:blipFill>
        <p:spPr>
          <a:xfrm>
            <a:off x="396720" y="4422600"/>
            <a:ext cx="4738680" cy="29624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5" descr="88e81aff75ebae470ac9be27c132ec6e.jpg"/>
          <p:cNvPicPr/>
          <p:nvPr/>
        </p:nvPicPr>
        <p:blipFill>
          <a:blip r:embed="rId3"/>
          <a:stretch/>
        </p:blipFill>
        <p:spPr>
          <a:xfrm>
            <a:off x="5683320" y="3994200"/>
            <a:ext cx="3740040" cy="306216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6" descr="60849581_48396_jpg.jpg"/>
          <p:cNvPicPr/>
          <p:nvPr/>
        </p:nvPicPr>
        <p:blipFill>
          <a:blip r:embed="rId4"/>
          <a:stretch/>
        </p:blipFill>
        <p:spPr>
          <a:xfrm>
            <a:off x="5611680" y="351000"/>
            <a:ext cx="3973680" cy="36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6" descr="917_enl.jpg"/>
          <p:cNvPicPr/>
          <p:nvPr/>
        </p:nvPicPr>
        <p:blipFill>
          <a:blip r:embed="rId1"/>
          <a:stretch/>
        </p:blipFill>
        <p:spPr>
          <a:xfrm>
            <a:off x="246240" y="279360"/>
            <a:ext cx="983448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918_enl.jpg"/>
          <p:cNvPicPr/>
          <p:nvPr/>
        </p:nvPicPr>
        <p:blipFill>
          <a:blip r:embed="rId1"/>
          <a:stretch/>
        </p:blipFill>
        <p:spPr>
          <a:xfrm>
            <a:off x="182520" y="351000"/>
            <a:ext cx="9777600" cy="68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7:38:18Z</dcterms:created>
  <dc:creator>Admin</dc:creator>
  <dc:description/>
  <dc:language>en-US</dc:language>
  <cp:lastModifiedBy>Admin</cp:lastModifiedBy>
  <dcterms:modified xsi:type="dcterms:W3CDTF">2019-01-08T01:29:40Z</dcterms:modified>
  <cp:revision>47</cp:revision>
  <dc:subject/>
  <dc:title>В царстве гриб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300000000000010243100207f6000400038000</vt:lpwstr>
  </property>
</Properties>
</file>