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5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dt" idx="2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2316C-3EC6-406D-AD33-4887BF510B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86837-B0D7-4686-816A-6C815D9B04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653B6-DECD-40EB-BA75-6854513635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EDDB9-0B13-4209-A8E1-76714663DD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CF684-DAAD-40B3-8654-6E8E273A7A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CD163-BC63-4E77-9769-C68C937FDF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69DA7-445C-4620-863B-1757E3E741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415-2C75-4456-A104-FEF39249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E3F-E2A7-4269-BF24-3AB45244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1E3-D39A-42FE-AEA5-79885FA7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7156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984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7156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984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F4A-164B-4050-9434-FDAB8C52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A0E7-EC01-4286-B504-8E44ABA8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F9F1-69E5-4DDE-9324-AB3E3098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09F9-0F01-4F93-87E4-AAD51860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284B-19B2-4EDB-A139-8E323989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59F4-B6DA-4FF0-931C-8FB2C444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57D2-EEB7-4777-B7A9-5FB4C9C5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E56B-92B9-4FC2-A106-750009AE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D12-6BDE-4377-A585-BE5FE7D1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DB46-838E-416F-B704-6C3F45B8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9E3F-3C93-4AF2-A09D-D64FCAF4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5C28-D444-4311-AA0A-8101E381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1F27-8223-4635-BE56-DB599646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7156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3984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328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7156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3984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A672-B963-4621-9584-64EF19B2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D641E-EE4B-4795-A970-711565E5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255DF-B187-46D1-999C-5AE97A5E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16F22-3F91-4643-860F-7A6BAF87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F0FA6-E90F-4AEF-B0A4-EC6E30BB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3565E-73C4-4C88-B817-26F29FE8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FAB-C462-4DFA-8215-5B43CD10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542D6-0D37-4075-B9ED-62FF8783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E335-AF65-475A-AB93-E462A391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5C8AC-3E80-40C4-BC73-7170BE9C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CD489-9172-4DD4-B16E-69F1583C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ED662-9BF7-4B54-816D-A4BDC5F2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B6BA2-9A54-4C8B-A854-1FD3DDCD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7156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3984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0328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7156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3984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FC42D-4D71-4CFA-BCEB-3122246B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C1788-B547-4693-A0CA-F99C4BCF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662CD-24B3-4C26-8FE5-EC07E339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70AF5-009D-44F9-81AC-FDC3D294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289-45EF-43D2-BF16-76598BB2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1E78C-8B13-4AB8-AC15-EF418665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28F56-7408-4F10-A918-672313ED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E202E-8E50-494B-B7BC-878DA517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43ACA-1360-4B03-9EC2-30BC28A7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E573A-D6B8-4AA0-BF08-F3D26369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91F6F-065D-4A82-91FB-69107BCD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ED417-91D3-479D-9F89-C7C6656C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616E-7343-4953-ACA7-24FD6FE2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7156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3984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0328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7156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3984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B383C-BD49-43E4-BA3C-5388F64F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65652-DFAD-4560-8A28-6BEBB632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249-5B3A-4C30-AC6F-F0EDB490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9E676-1F3E-4E50-96ED-52730650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A40B1-F681-4BE4-B2A7-6459F8CF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D6A05-8D46-4EE1-8F91-AB8F210F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304CD-D7A4-40A1-BCDC-55E1500F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0995B-A491-4129-BECB-7987DC9B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E8593-FCB3-4F0E-B380-BBF825B5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2A06B-E408-487B-869D-936D5190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DFD98-C46B-44BE-AC73-BDEBEA6E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A6656-9ABF-4540-95AF-69327E48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D8860-EF7F-4354-87F6-2E21822D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8F5-6F75-4B9A-97E8-BEA3F095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7156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63984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0328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57156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63984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FD7DC-EE9A-4A9B-8E7D-7CEB3863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AE50F-45C2-4EC8-A536-32A36F42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52B7F-020A-4727-A3DB-C4D556BA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D4449-53C3-4009-A200-633FCE62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7976A-6064-44B1-AAE1-DA4A1FF5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1E1D6-C009-4C18-BDE9-BAAB0C16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4585E-E6C1-4A70-9164-FC8E67EA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0B9C1-5092-4689-A83E-7AC270D7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93697-9947-48F7-BA4D-3F452EF0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ABE21-9C72-48F3-AEDC-9553E3F3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973-E258-49A8-ABBE-3D342A3D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41535-672A-4BB4-B2AF-7368BDA3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B10D2-0609-4284-93B1-6145BC1D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57156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63984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328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57156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63984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13F34-07D9-4464-87ED-441C3987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D947B-C9AB-4D0D-BF00-75AF9C98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1C69D-715C-49B1-B29C-78B9D1B3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074DD-78D0-4A38-B8DD-7F7B11FF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0FBC8-AA4E-42B3-84CC-348AA2A1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3AF5E-71C6-47BE-9A56-B6C9C8B3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6B098-9602-4A23-A12D-47EC05F4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5950E-4581-4B65-9CD8-CEBCE1BB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6DA-091B-43C1-85A0-9E762CD7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D9B04-0A99-48C3-9B3C-E7C7142E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8333C-79C3-412D-A980-1D4317CE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FB766-31ED-444F-A82E-257640E3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019EF-532B-4D50-B2BF-6E374507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57156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984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328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57156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63984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4A98D-7A3E-4620-A4CE-BBE5276A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B2A04-0E68-4989-831C-8D2C6529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505BC-CDE8-4641-81B4-806D5CE9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D2506-E57B-428C-8379-D0CB8950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4ED7F-02CF-4A54-9275-56BEC91F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45D22-6CAF-46FD-B1FE-6D0A09C8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46B3-ADF7-482A-8471-32B8A915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07A6E-DAB9-4ACD-AE80-E53668DA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838DB-0A90-4FEB-A4A4-8DF85E02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E3359-23E0-4D37-8C55-8AFD57C8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BB274-4F9E-440E-8B13-CE2FE07A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7C0BE-15A4-4FB1-B3CF-17723E82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F6CBA-1C7B-4ADF-B006-95107C0B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7156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3984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328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7156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63984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23DE9-E200-4DF0-8C81-0F3BD12B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603360" indent="-301680">
              <a:spcBef>
                <a:spcPts val="663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2" marL="906480" indent="-250920">
              <a:spcBef>
                <a:spcPts val="663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250920">
              <a:spcBef>
                <a:spcPts val="663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4" marL="1511280" indent="-250920">
              <a:spcBef>
                <a:spcPts val="663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5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6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56360" y="7007400"/>
            <a:ext cx="2524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5360" y="7007400"/>
            <a:ext cx="38638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4640" y="7007400"/>
            <a:ext cx="21844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5AE0D3-9ED2-4245-A86A-53F2DEA2E76B}" type="slidenum">
              <a:rPr b="0" lang="ru-RU" sz="15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503280" y="1260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7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8"/>
          <p:cNvSpPr/>
          <p:nvPr/>
        </p:nvSpPr>
        <p:spPr>
          <a:xfrm>
            <a:off x="503280" y="1260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Равнобедренный треугольник 9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996840" y="4021200"/>
            <a:ext cx="8064720" cy="141120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1008000" y="5564160"/>
            <a:ext cx="8064720" cy="75744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996840" y="4021200"/>
            <a:ext cx="252360" cy="14112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1008000" y="5564160"/>
            <a:ext cx="252360" cy="75744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603360" indent="-301680">
              <a:spcBef>
                <a:spcPts val="663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2" marL="906480" indent="-250920">
              <a:spcBef>
                <a:spcPts val="663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250920">
              <a:spcBef>
                <a:spcPts val="663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4" marL="1511280" indent="-250920">
              <a:spcBef>
                <a:spcPts val="663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5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6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056000" y="7005600"/>
            <a:ext cx="2521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95720" y="7005600"/>
            <a:ext cx="38304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341000" y="7005600"/>
            <a:ext cx="13431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3DC698-F342-495B-B1CB-849617F9DC95}" type="slidenum">
              <a:rPr b="0" lang="ru-RU" sz="15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ая соединительная линия 27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8"/>
          <p:cNvSpPr/>
          <p:nvPr/>
        </p:nvSpPr>
        <p:spPr>
          <a:xfrm>
            <a:off x="503280" y="1260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9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1008000" y="3108240"/>
            <a:ext cx="8064720" cy="141120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008000" y="3108240"/>
            <a:ext cx="252360" cy="14112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5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1" marL="603360" indent="-301680">
              <a:spcBef>
                <a:spcPts val="663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2" marL="906480" indent="-250920">
              <a:spcBef>
                <a:spcPts val="663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3" marL="1208160" indent="-250920">
              <a:spcBef>
                <a:spcPts val="663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4" marL="1511280" indent="-250920">
              <a:spcBef>
                <a:spcPts val="663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5" marL="1511280" indent="-250920">
              <a:spcBef>
                <a:spcPts val="663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6" marL="1511280" indent="-250920">
              <a:spcBef>
                <a:spcPts val="663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7056000" y="7005600"/>
            <a:ext cx="2521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95720" y="7005600"/>
            <a:ext cx="38304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179000" y="7005600"/>
            <a:ext cx="16765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454114-A2D4-4485-9C11-2007C6FD84DC}" type="slidenum">
              <a:rPr b="0" lang="ru-RU" sz="15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ая соединительная линия 27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8"/>
          <p:cNvSpPr/>
          <p:nvPr/>
        </p:nvSpPr>
        <p:spPr>
          <a:xfrm>
            <a:off x="503280" y="1260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9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Равнобедренный треугольник 10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603360" indent="-301680">
              <a:spcBef>
                <a:spcPts val="663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2" marL="906480" indent="-250920">
              <a:spcBef>
                <a:spcPts val="663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250920">
              <a:spcBef>
                <a:spcPts val="663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4" marL="1511280" indent="-250920">
              <a:spcBef>
                <a:spcPts val="663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5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6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7056360" y="7007400"/>
            <a:ext cx="2524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95360" y="7007400"/>
            <a:ext cx="38638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74640" y="7007400"/>
            <a:ext cx="21844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742BB1-E48C-43FD-A974-9B6ACD7757BA}" type="slidenum">
              <a:rPr b="0" lang="ru-RU" sz="15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ая соединительная линия 27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8"/>
          <p:cNvSpPr/>
          <p:nvPr/>
        </p:nvSpPr>
        <p:spPr>
          <a:xfrm>
            <a:off x="503280" y="1260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Равнобедренный треугольник 9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0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Равнобедренный треугольник 11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603360" indent="-301680">
              <a:spcBef>
                <a:spcPts val="663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2" marL="906480" indent="-250920">
              <a:spcBef>
                <a:spcPts val="663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250920">
              <a:spcBef>
                <a:spcPts val="663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4" marL="1511280" indent="-250920">
              <a:spcBef>
                <a:spcPts val="663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5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6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7056360" y="7007400"/>
            <a:ext cx="2524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95360" y="7007400"/>
            <a:ext cx="38638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74640" y="7007400"/>
            <a:ext cx="21844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7CB2A7-374E-4AA6-B7EC-0DB4D6843BCA}" type="slidenum">
              <a:rPr b="0" lang="ru-RU" sz="15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ая соединительная линия 27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8"/>
          <p:cNvSpPr/>
          <p:nvPr/>
        </p:nvSpPr>
        <p:spPr>
          <a:xfrm>
            <a:off x="503280" y="1260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Равнобедренный треугольник 9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0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1"/>
          <p:cNvSpPr/>
          <p:nvPr/>
        </p:nvSpPr>
        <p:spPr>
          <a:xfrm>
            <a:off x="6810480" y="338040"/>
            <a:ext cx="0" cy="66531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Равнобедренный треугольник 12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603360" indent="-301680">
              <a:spcBef>
                <a:spcPts val="663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2" marL="906480" indent="-250920">
              <a:spcBef>
                <a:spcPts val="663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250920">
              <a:spcBef>
                <a:spcPts val="663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4" marL="1511280" indent="-250920">
              <a:spcBef>
                <a:spcPts val="663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5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6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7056360" y="7007400"/>
            <a:ext cx="2524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195360" y="7007400"/>
            <a:ext cx="38638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74640" y="7007400"/>
            <a:ext cx="21844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883275-A497-4350-9A20-17635A753E8F}" type="slidenum">
              <a:rPr b="0" lang="ru-RU" sz="15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ая соединительная линия 27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28"/>
          <p:cNvSpPr/>
          <p:nvPr/>
        </p:nvSpPr>
        <p:spPr>
          <a:xfrm>
            <a:off x="503280" y="1260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Равнобедренный треугольник 9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10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Равнобедренный треугольник 11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503280" y="552600"/>
            <a:ext cx="203040" cy="7556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5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1" marL="603360" indent="-301680">
              <a:spcBef>
                <a:spcPts val="663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2" marL="906480" indent="-250920">
              <a:spcBef>
                <a:spcPts val="663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3" marL="1208160" indent="-250920">
              <a:spcBef>
                <a:spcPts val="663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4" marL="1511280" indent="-250920">
              <a:spcBef>
                <a:spcPts val="663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5" marL="1511280" indent="-250920">
              <a:spcBef>
                <a:spcPts val="663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6" marL="1511280" indent="-250920">
              <a:spcBef>
                <a:spcPts val="663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7056360" y="7007400"/>
            <a:ext cx="2524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95360" y="7007400"/>
            <a:ext cx="38638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74640" y="7007400"/>
            <a:ext cx="21844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0E129A-2B8C-4CAE-9E71-3AB861285098}" type="slidenum">
              <a:rPr b="0" lang="ru-RU" sz="15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ая соединительная линия 27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28"/>
          <p:cNvSpPr/>
          <p:nvPr/>
        </p:nvSpPr>
        <p:spPr>
          <a:xfrm>
            <a:off x="503280" y="1260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Равнобедренный треугольник 9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10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Равнобедренный треугольник 11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2"/>
          <p:cNvSpPr/>
          <p:nvPr/>
        </p:nvSpPr>
        <p:spPr>
          <a:xfrm>
            <a:off x="7227720" y="304920"/>
            <a:ext cx="0" cy="6449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603360" indent="-301680">
              <a:spcBef>
                <a:spcPts val="663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2" marL="906480" indent="-250920">
              <a:spcBef>
                <a:spcPts val="663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250920">
              <a:spcBef>
                <a:spcPts val="663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4" marL="1511280" indent="-250920">
              <a:spcBef>
                <a:spcPts val="663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5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6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7056360" y="7007400"/>
            <a:ext cx="2524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3195360" y="7007400"/>
            <a:ext cx="38638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74640" y="7007400"/>
            <a:ext cx="21844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A32F29-97E9-4681-BE5D-74BFD67D031E}" type="slidenum">
              <a:rPr b="0" lang="ru-RU" sz="15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Царство грибов очень разнообразно. Учёным известно около 100 тысяч видов грибов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8" name="Рисунок 4" descr="93d379821b7b.jpg"/>
          <p:cNvPicPr/>
          <p:nvPr/>
        </p:nvPicPr>
        <p:blipFill>
          <a:blip r:embed="rId1"/>
          <a:stretch/>
        </p:blipFill>
        <p:spPr>
          <a:xfrm>
            <a:off x="396720" y="1351080"/>
            <a:ext cx="3357720" cy="321624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5" descr="2.jpg"/>
          <p:cNvPicPr/>
          <p:nvPr/>
        </p:nvPicPr>
        <p:blipFill>
          <a:blip r:embed="rId2"/>
          <a:stretch/>
        </p:blipFill>
        <p:spPr>
          <a:xfrm>
            <a:off x="4968720" y="1351080"/>
            <a:ext cx="4619880" cy="293976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6" descr="450px-Morille2.jpg"/>
          <p:cNvPicPr/>
          <p:nvPr/>
        </p:nvPicPr>
        <p:blipFill>
          <a:blip r:embed="rId3"/>
          <a:stretch/>
        </p:blipFill>
        <p:spPr>
          <a:xfrm>
            <a:off x="5611680" y="3970440"/>
            <a:ext cx="2692440" cy="358920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7" descr="14151212_oboi_1012.jpg"/>
          <p:cNvPicPr/>
          <p:nvPr/>
        </p:nvPicPr>
        <p:blipFill>
          <a:blip r:embed="rId4"/>
          <a:stretch/>
        </p:blipFill>
        <p:spPr>
          <a:xfrm>
            <a:off x="325440" y="4184640"/>
            <a:ext cx="4000320" cy="30002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503280" y="1344240"/>
            <a:ext cx="9074160" cy="544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100000"/>
              </a:lnSpc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4" descr="IMG_0007.jpg"/>
          <p:cNvPicPr/>
          <p:nvPr/>
        </p:nvPicPr>
        <p:blipFill>
          <a:blip r:embed="rId1"/>
          <a:stretch/>
        </p:blipFill>
        <p:spPr>
          <a:xfrm>
            <a:off x="3897360" y="4422600"/>
            <a:ext cx="5600520" cy="27496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1280" y="301680"/>
            <a:ext cx="4572000" cy="547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      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Грибы, которые мы привыкли видеть в лесу,   состоят из плодового тела которое появляется на поверхности земли в грибной сезон и грибницы, которая круглый год живёт в почве. Она всасывает из почвы воду и питательные 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вещества.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         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  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             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	</a:t>
            </a: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5" name="Содержимое 3" descr="IMG_0006.jpg"/>
          <p:cNvPicPr/>
          <p:nvPr/>
        </p:nvPicPr>
        <p:blipFill>
          <a:blip r:embed="rId2"/>
          <a:stretch/>
        </p:blipFill>
        <p:spPr>
          <a:xfrm>
            <a:off x="5826240" y="493560"/>
            <a:ext cx="3483000" cy="30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5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Нити грибниц оплетают корни деревьев и помогают деревьям всасывать из почвы воду и соли, взамен получая питательные вещества.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7" name="Содержимое 4" descr="93d379821b7b.jpg"/>
          <p:cNvPicPr/>
          <p:nvPr/>
        </p:nvPicPr>
        <p:blipFill>
          <a:blip r:embed="rId1"/>
          <a:stretch/>
        </p:blipFill>
        <p:spPr>
          <a:xfrm>
            <a:off x="254160" y="1779480"/>
            <a:ext cx="4611600" cy="441648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5" descr="os10.jpg"/>
          <p:cNvPicPr/>
          <p:nvPr/>
        </p:nvPicPr>
        <p:blipFill>
          <a:blip r:embed="rId2"/>
          <a:stretch/>
        </p:blipFill>
        <p:spPr>
          <a:xfrm>
            <a:off x="4968720" y="3422520"/>
            <a:ext cx="48135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83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Многие грибы в лесу тесно связаны с определёнными деревьями и кустарниками. Так  подберёзовик растёт под берёзами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0" name="Содержимое 3" descr="0_70008_ee09c010_XL.jpg"/>
          <p:cNvPicPr/>
          <p:nvPr/>
        </p:nvPicPr>
        <p:blipFill>
          <a:blip r:embed="rId1"/>
          <a:stretch/>
        </p:blipFill>
        <p:spPr>
          <a:xfrm>
            <a:off x="3111480" y="1612800"/>
            <a:ext cx="3857760" cy="49053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6" descr="0_7ba81_9ee27645_L.jpg"/>
          <p:cNvPicPr/>
          <p:nvPr/>
        </p:nvPicPr>
        <p:blipFill>
          <a:blip r:embed="rId2"/>
          <a:stretch/>
        </p:blipFill>
        <p:spPr>
          <a:xfrm>
            <a:off x="325440" y="2208240"/>
            <a:ext cx="5319720" cy="35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683160" y="301320"/>
            <a:ext cx="5889600" cy="1049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Подосиновики растут под осинами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02920" y="1208160"/>
            <a:ext cx="6180120" cy="5548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100000"/>
              </a:lnSpc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ыжики – под соснам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елями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4" name="Рисунок 4" descr="0_6cc05_f215d66f_XL.jpg"/>
          <p:cNvPicPr/>
          <p:nvPr/>
        </p:nvPicPr>
        <p:blipFill>
          <a:blip r:embed="rId1"/>
          <a:stretch/>
        </p:blipFill>
        <p:spPr>
          <a:xfrm>
            <a:off x="5040360" y="1351080"/>
            <a:ext cx="4473360" cy="442908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6" descr="rijyk1_0.jpeg"/>
          <p:cNvPicPr/>
          <p:nvPr/>
        </p:nvPicPr>
        <p:blipFill>
          <a:blip r:embed="rId2"/>
          <a:stretch/>
        </p:blipFill>
        <p:spPr>
          <a:xfrm>
            <a:off x="468360" y="2422440"/>
            <a:ext cx="45720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Грибы быстро заселяют пни. Они перерабатывают мёртвую древесину и очищают лес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7" name="Содержимое 8" descr="1170980042_f.jpg"/>
          <p:cNvPicPr/>
          <p:nvPr/>
        </p:nvPicPr>
        <p:blipFill>
          <a:blip r:embed="rId1"/>
          <a:stretch/>
        </p:blipFill>
        <p:spPr>
          <a:xfrm>
            <a:off x="325440" y="1494000"/>
            <a:ext cx="2639880" cy="35208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9" descr="%C3%F0%E8%E1%FB_036_650.jpg"/>
          <p:cNvPicPr/>
          <p:nvPr/>
        </p:nvPicPr>
        <p:blipFill>
          <a:blip r:embed="rId2"/>
          <a:stretch/>
        </p:blipFill>
        <p:spPr>
          <a:xfrm>
            <a:off x="2611440" y="4422600"/>
            <a:ext cx="3857760" cy="289260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11" descr="preview.php.jpg"/>
          <p:cNvPicPr/>
          <p:nvPr/>
        </p:nvPicPr>
        <p:blipFill>
          <a:blip r:embed="rId3"/>
          <a:stretch/>
        </p:blipFill>
        <p:spPr>
          <a:xfrm>
            <a:off x="4040280" y="1351080"/>
            <a:ext cx="4714920" cy="29462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12" descr="08185fbbaf247985e72b6196013d9394.jpg"/>
          <p:cNvPicPr/>
          <p:nvPr/>
        </p:nvPicPr>
        <p:blipFill>
          <a:blip r:embed="rId4"/>
          <a:stretch/>
        </p:blipFill>
        <p:spPr>
          <a:xfrm>
            <a:off x="6649920" y="4637160"/>
            <a:ext cx="30211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54658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А ещё грибы нужны лесу потому, что ими питаются многие лесные животные.</a:t>
            </a: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2" name="Содержимое 3" descr="717339068.jpg"/>
          <p:cNvPicPr/>
          <p:nvPr/>
        </p:nvPicPr>
        <p:blipFill>
          <a:blip r:embed="rId1"/>
          <a:stretch/>
        </p:blipFill>
        <p:spPr>
          <a:xfrm>
            <a:off x="754200" y="1779480"/>
            <a:ext cx="3430440" cy="257184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4" descr="preview.php.jpg"/>
          <p:cNvPicPr/>
          <p:nvPr/>
        </p:nvPicPr>
        <p:blipFill>
          <a:blip r:embed="rId2"/>
          <a:stretch/>
        </p:blipFill>
        <p:spPr>
          <a:xfrm>
            <a:off x="396720" y="4422600"/>
            <a:ext cx="4738680" cy="296244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5" descr="88e81aff75ebae470ac9be27c132ec6e.jpg"/>
          <p:cNvPicPr/>
          <p:nvPr/>
        </p:nvPicPr>
        <p:blipFill>
          <a:blip r:embed="rId3"/>
          <a:stretch/>
        </p:blipFill>
        <p:spPr>
          <a:xfrm>
            <a:off x="5683320" y="3994200"/>
            <a:ext cx="3740040" cy="306216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6" descr="60849581_48396_jpg.jpg"/>
          <p:cNvPicPr/>
          <p:nvPr/>
        </p:nvPicPr>
        <p:blipFill>
          <a:blip r:embed="rId4"/>
          <a:stretch/>
        </p:blipFill>
        <p:spPr>
          <a:xfrm>
            <a:off x="5611680" y="351000"/>
            <a:ext cx="3973680" cy="36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6" descr="917_enl.jpg"/>
          <p:cNvPicPr/>
          <p:nvPr/>
        </p:nvPicPr>
        <p:blipFill>
          <a:blip r:embed="rId1"/>
          <a:stretch/>
        </p:blipFill>
        <p:spPr>
          <a:xfrm>
            <a:off x="246240" y="279360"/>
            <a:ext cx="983448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1" descr="918_enl.jpg"/>
          <p:cNvPicPr/>
          <p:nvPr/>
        </p:nvPicPr>
        <p:blipFill>
          <a:blip r:embed="rId1"/>
          <a:stretch/>
        </p:blipFill>
        <p:spPr>
          <a:xfrm>
            <a:off x="182520" y="351000"/>
            <a:ext cx="9777600" cy="68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7:38:18Z</dcterms:created>
  <dc:creator>Admin</dc:creator>
  <dc:description/>
  <dc:language>en-US</dc:language>
  <cp:lastModifiedBy>Admin</cp:lastModifiedBy>
  <dcterms:modified xsi:type="dcterms:W3CDTF">2019-01-08T01:29:40Z</dcterms:modified>
  <cp:revision>47</cp:revision>
  <dc:subject/>
  <dc:title>В царстве гриб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e300000000000010243100207f6000400038000</vt:lpwstr>
  </property>
</Properties>
</file>