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gif" ContentType="image/gif"/>
  <Override PartName="/ppt/media/image14.gif" ContentType="image/gif"/>
  <Override PartName="/ppt/media/image13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BBEEPS05.WAV" ContentType="audio/x-wav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D08-8BE7-401F-872B-4AD040DE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D6F-E4ED-4C1E-8BAF-835BB60A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33F-D8B6-4D6D-B7CC-E4227D6D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AC2-9D3F-48C7-9A68-2C305C17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152-2AE6-4B69-AF3C-D7321ADF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925-4DB2-40CF-9A46-02BD754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6DC-CAF9-4D4B-8728-380D6064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836-1A8B-4E66-8152-B95DDFC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F32-F958-43FF-A18A-6D20D9FD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54A-338F-46C5-904F-D6BEAA5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10F-1F43-4D41-9CB7-6D50F2B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B1F-CC03-46FB-9B4A-E705DA2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D85-50A2-4AA8-965F-427F755CB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BEEPS05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, свойства, классификация, способы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5373720"/>
            <a:ext cx="914400" cy="695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BEEPS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Дискре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773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77336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916280"/>
            <a:ext cx="79200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 разбит на  от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арные действия(шаги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6000" y="5013360"/>
            <a:ext cx="19447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Массов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, разработанный д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я некоторой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лжен быть применим д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я задач этого тип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всех допустимых знач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ходных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187200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езультативность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(или конеч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13372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алгоритма дол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одить к результату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ечное число ша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1727280" cy="1497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менты 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557360"/>
            <a:ext cx="1944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557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и конец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637000"/>
            <a:ext cx="194472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56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йствие,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933720"/>
            <a:ext cx="2232000" cy="790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86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вод-вывод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941720"/>
            <a:ext cx="1800000" cy="1584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522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гическое у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11280" y="5734080"/>
            <a:ext cx="432000" cy="358560"/>
            <a:chOff x="2411280" y="5734080"/>
            <a:chExt cx="432000" cy="358560"/>
          </a:xfrm>
        </p:grpSpPr>
        <p:sp>
          <p:nvSpPr>
            <p:cNvPr id="95" name=""/>
            <p:cNvSpPr/>
            <p:nvPr/>
          </p:nvSpPr>
          <p:spPr>
            <a:xfrm>
              <a:off x="2411280" y="57340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43280" y="57340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84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560" y="5734080"/>
            <a:ext cx="431640" cy="360000"/>
            <a:chOff x="250560" y="5734080"/>
            <a:chExt cx="431640" cy="360000"/>
          </a:xfrm>
        </p:grpSpPr>
        <p:sp>
          <p:nvSpPr>
            <p:cNvPr id="99" name=""/>
            <p:cNvSpPr/>
            <p:nvPr/>
          </p:nvSpPr>
          <p:spPr>
            <a:xfrm flipH="1">
              <a:off x="250560" y="5734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560" y="573408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50920" y="5229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260280"/>
            <a:ext cx="28814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197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1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06864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9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869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21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404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9079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1440" y="2997360"/>
            <a:ext cx="280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9800" y="400536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5800" y="400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брать щетку и крем на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84640"/>
            <a:ext cx="28814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27813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ти все в кварт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19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197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486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мазать кремом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21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йти на лест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93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реть тряпкой обувь от гр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ть обувную щетку и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ть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ь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19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692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6021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Блок-схема к заданию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413000"/>
            <a:ext cx="26640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234936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306864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386064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472428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661000"/>
            <a:ext cx="26640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4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349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ыть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0686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ь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860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мотреть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47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мотреть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764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5734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6165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етвляющийся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341360"/>
            <a:ext cx="251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148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881080" cy="15130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2997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м 1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4720" y="321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5564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716280"/>
            <a:ext cx="302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16280"/>
            <a:ext cx="302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378936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пни в ладош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86064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пни в ладо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37372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589720"/>
            <a:ext cx="251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573408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6093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27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ически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413000"/>
            <a:ext cx="24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2349360"/>
            <a:ext cx="237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213000"/>
            <a:ext cx="2736720" cy="1511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724360" y="4005360"/>
            <a:ext cx="503280" cy="360360"/>
            <a:chOff x="5724360" y="4005360"/>
            <a:chExt cx="503280" cy="360360"/>
          </a:xfrm>
        </p:grpSpPr>
        <p:sp>
          <p:nvSpPr>
            <p:cNvPr id="187" name=""/>
            <p:cNvSpPr/>
            <p:nvPr/>
          </p:nvSpPr>
          <p:spPr>
            <a:xfrm>
              <a:off x="5724360" y="4005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400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19640" y="436572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44000" y="566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675640" y="3068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355640" y="3068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84360" y="4005360"/>
            <a:ext cx="503280" cy="360360"/>
            <a:chOff x="2484360" y="4005360"/>
            <a:chExt cx="503280" cy="360360"/>
          </a:xfrm>
        </p:grpSpPr>
        <p:sp>
          <p:nvSpPr>
            <p:cNvPr id="197" name=""/>
            <p:cNvSpPr/>
            <p:nvPr/>
          </p:nvSpPr>
          <p:spPr>
            <a:xfrm flipH="1">
              <a:off x="2484360" y="4005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4360" y="400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68360" y="4365720"/>
            <a:ext cx="30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5373720"/>
            <a:ext cx="24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897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55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3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342900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р-е 5 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43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ониться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530064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ониться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437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5516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37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3645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хаммед аль-Хорезм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783- ок. 850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337032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549360"/>
            <a:ext cx="8135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понятное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чное предписание исполни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ю выполнить конечн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ость коман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водящую от исход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ных к конечному результат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79360" cy="15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0920" y="1916280"/>
            <a:ext cx="3313080" cy="3313080"/>
            <a:chOff x="250920" y="1916280"/>
            <a:chExt cx="3313080" cy="3313080"/>
          </a:xfrm>
        </p:grpSpPr>
        <p:sp>
          <p:nvSpPr>
            <p:cNvPr id="49" name=""/>
            <p:cNvSpPr/>
            <p:nvPr/>
          </p:nvSpPr>
          <p:spPr>
            <a:xfrm>
              <a:off x="250920" y="1916280"/>
              <a:ext cx="3313080" cy="331308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3313080"/>
                <a:gd name="textAreaBottom" fmla="*/ 3313440 h 33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4000" y="2565360"/>
              <a:ext cx="3095640" cy="16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Что та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алгоритмичес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мышлени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67280" y="1844640"/>
            <a:ext cx="4825800" cy="3456000"/>
            <a:chOff x="4067280" y="1844640"/>
            <a:chExt cx="4825800" cy="3456000"/>
          </a:xfrm>
        </p:grpSpPr>
        <p:sp>
          <p:nvSpPr>
            <p:cNvPr id="52" name=""/>
            <p:cNvSpPr/>
            <p:nvPr/>
          </p:nvSpPr>
          <p:spPr>
            <a:xfrm>
              <a:off x="4067280" y="1844640"/>
              <a:ext cx="482580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11640" y="1916280"/>
              <a:ext cx="46814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искусство размышлят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мение планировать св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йствия, способ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усматривать разл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стоятельства и поступа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ответственно с ни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сполнит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7336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то-то или кто-то, способный выпол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ействия, предписываемые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18241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77080" y="4292640"/>
            <a:ext cx="1822320" cy="133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305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овите исполнителей следующих видов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готовление т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ши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монт обу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мбирование з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73600" y="1413000"/>
            <a:ext cx="76824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77080" y="3429000"/>
            <a:ext cx="154476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940360" y="1989000"/>
            <a:ext cx="1584360" cy="1338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708360" y="2421000"/>
            <a:ext cx="1755720" cy="192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076720" y="5064120"/>
            <a:ext cx="136836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е № 1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чистить обу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ять обу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ять обувную щетку и к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йти на лест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реть тряпкой обувь от гр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азать кремом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ести все в кварт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ить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рать щетку и крем на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6920" y="4437000"/>
            <a:ext cx="2197080" cy="21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войства алгорит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ность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зультативность(или коне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оня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составляется толь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команд, входящих в 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187164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0:30:21Z</dcterms:created>
  <dc:creator>*</dc:creator>
  <dc:description/>
  <dc:language>en-US</dc:language>
  <cp:lastModifiedBy>1</cp:lastModifiedBy>
  <dcterms:modified xsi:type="dcterms:W3CDTF">2009-09-12T15:06:16Z</dcterms:modified>
  <cp:revision>7</cp:revision>
  <dc:subject/>
  <dc:title>Алгоритм</dc:title>
</cp:coreProperties>
</file>