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gif" ContentType="image/gif"/>
  <Override PartName="/ppt/media/image14.gif" ContentType="image/gif"/>
  <Override PartName="/ppt/media/image13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BBEEPS05.WAV" ContentType="audio/x-wav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8FE-895B-4331-80B8-07A1015E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74A-2F1C-4AF6-BFFE-3ADB72C9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F20-A45E-4897-9C8B-6C66936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4A2-E0DC-40C5-99A5-7202D1EC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149-D565-4952-A91E-5B5D7B6F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B13-B551-4059-989B-5873E2BC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180-65CD-4642-BB30-06B7CC6D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2E9-9B5F-471C-A5F8-68B0E156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E70-A192-49AD-8BB3-76F450FE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E11-BA3C-4363-84A4-CD875D8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2A8-2477-4631-A334-8AE4CB4B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AA5-833A-4E99-8FEB-B57AE3B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612-E111-4EE9-A25C-8BF856E83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BEEPS05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, свойства, классификация, способы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5373720"/>
            <a:ext cx="914400" cy="695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BEEPS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Дискре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773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77336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916280"/>
            <a:ext cx="79200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 разбит на  отд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ментарные действия(шаги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6000" y="5013360"/>
            <a:ext cx="19447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Массов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, разработанный д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я некоторой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лжен быть применим д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я задач этого тип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всех допустимых значе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ходных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84720" y="5084640"/>
            <a:ext cx="187200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езультативность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(или конеч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133720"/>
            <a:ext cx="78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алгоритма дол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водить к результату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ечное число ша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5084640"/>
            <a:ext cx="1727280" cy="1497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менты блок-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557360"/>
            <a:ext cx="1944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557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и конец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637000"/>
            <a:ext cx="194472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56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йствие, выч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933720"/>
            <a:ext cx="2232000" cy="790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86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вод-вывод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941720"/>
            <a:ext cx="1800000" cy="1584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522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гическое у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11280" y="5734080"/>
            <a:ext cx="432000" cy="358560"/>
            <a:chOff x="2411280" y="5734080"/>
            <a:chExt cx="432000" cy="358560"/>
          </a:xfrm>
        </p:grpSpPr>
        <p:sp>
          <p:nvSpPr>
            <p:cNvPr id="95" name=""/>
            <p:cNvSpPr/>
            <p:nvPr/>
          </p:nvSpPr>
          <p:spPr>
            <a:xfrm>
              <a:off x="2411280" y="57340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43280" y="573408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84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560" y="5734080"/>
            <a:ext cx="431640" cy="360000"/>
            <a:chOff x="250560" y="5734080"/>
            <a:chExt cx="431640" cy="360000"/>
          </a:xfrm>
        </p:grpSpPr>
        <p:sp>
          <p:nvSpPr>
            <p:cNvPr id="99" name=""/>
            <p:cNvSpPr/>
            <p:nvPr/>
          </p:nvSpPr>
          <p:spPr>
            <a:xfrm flipH="1">
              <a:off x="250560" y="5734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560" y="573408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50920" y="5229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260280"/>
            <a:ext cx="28814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19700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13372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06864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93372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86900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213372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404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9079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1440" y="2997360"/>
            <a:ext cx="280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9800" y="400536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5800" y="400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брать щетку и крем на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84640"/>
            <a:ext cx="28814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27813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ести все в кварт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19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тереть обувь щеткой до б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197000"/>
            <a:ext cx="280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486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мазать кремом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21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йти на лест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93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ереть тряпкой обувь от гр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ять обувную щетку и к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26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ять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306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ить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19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тереть обувь щеткой до бле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692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6021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Блок-схема к заданию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1413000"/>
            <a:ext cx="266400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2349360"/>
            <a:ext cx="280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3068640"/>
            <a:ext cx="28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3860640"/>
            <a:ext cx="280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4724280"/>
            <a:ext cx="280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661000"/>
            <a:ext cx="266400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48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349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ыть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0686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ь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860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мотреть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47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мотреть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764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57340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6165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полн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етвляющийся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341360"/>
            <a:ext cx="2519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148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881080" cy="15130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2997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м 1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4720" y="321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5564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716280"/>
            <a:ext cx="3024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716280"/>
            <a:ext cx="3024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3789360"/>
            <a:ext cx="26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лопни в ладош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86064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лопни в ладо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537372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589720"/>
            <a:ext cx="2519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573408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7640" y="6093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полн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278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клически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1413000"/>
            <a:ext cx="24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2349360"/>
            <a:ext cx="237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213000"/>
            <a:ext cx="2736720" cy="1511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724360" y="4005360"/>
            <a:ext cx="503280" cy="360360"/>
            <a:chOff x="5724360" y="4005360"/>
            <a:chExt cx="503280" cy="360360"/>
          </a:xfrm>
        </p:grpSpPr>
        <p:sp>
          <p:nvSpPr>
            <p:cNvPr id="187" name=""/>
            <p:cNvSpPr/>
            <p:nvPr/>
          </p:nvSpPr>
          <p:spPr>
            <a:xfrm>
              <a:off x="5724360" y="4005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7640" y="400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19640" y="436572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764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44000" y="566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675640" y="3068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355640" y="3068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84360" y="4005360"/>
            <a:ext cx="503280" cy="360360"/>
            <a:chOff x="2484360" y="4005360"/>
            <a:chExt cx="503280" cy="360360"/>
          </a:xfrm>
        </p:grpSpPr>
        <p:sp>
          <p:nvSpPr>
            <p:cNvPr id="197" name=""/>
            <p:cNvSpPr/>
            <p:nvPr/>
          </p:nvSpPr>
          <p:spPr>
            <a:xfrm flipH="1">
              <a:off x="2484360" y="4005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4360" y="400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68360" y="4365720"/>
            <a:ext cx="30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5373720"/>
            <a:ext cx="24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8974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155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234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342900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дел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р-е 5 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43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лониться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530064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лониться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43700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55166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37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полн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3645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хаммед аль-Хорезм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783- ок. 850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337032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549360"/>
            <a:ext cx="8135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понятное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чное предписание исполни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ю выполнить конечн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ость коман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водящую от исход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ных к конечному результат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179360" cy="151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50920" y="1916280"/>
            <a:ext cx="3313080" cy="3313080"/>
            <a:chOff x="250920" y="1916280"/>
            <a:chExt cx="3313080" cy="3313080"/>
          </a:xfrm>
        </p:grpSpPr>
        <p:sp>
          <p:nvSpPr>
            <p:cNvPr id="49" name=""/>
            <p:cNvSpPr/>
            <p:nvPr/>
          </p:nvSpPr>
          <p:spPr>
            <a:xfrm>
              <a:off x="250920" y="1916280"/>
              <a:ext cx="3313080" cy="331308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3313080"/>
                <a:gd name="textAreaBottom" fmla="*/ 3313440 h 33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4000" y="2565360"/>
              <a:ext cx="3095640" cy="16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Что та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алгоритмическ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мышлени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67280" y="1844640"/>
            <a:ext cx="4825800" cy="3456000"/>
            <a:chOff x="4067280" y="1844640"/>
            <a:chExt cx="4825800" cy="3456000"/>
          </a:xfrm>
        </p:grpSpPr>
        <p:sp>
          <p:nvSpPr>
            <p:cNvPr id="52" name=""/>
            <p:cNvSpPr/>
            <p:nvPr/>
          </p:nvSpPr>
          <p:spPr>
            <a:xfrm>
              <a:off x="4067280" y="1844640"/>
              <a:ext cx="4825800" cy="34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11640" y="1916280"/>
              <a:ext cx="468144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о искусство размышлят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мение планировать сво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йствия, способ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усматривать различ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стоятельства и поступа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ответственно с ни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сполнит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7336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то-то или кто-то, способный выполн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ействия, предписываемые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18241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77080" y="4292640"/>
            <a:ext cx="1822320" cy="133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2305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овите исполнителей следующих видов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готовление т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ши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монт обу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мбирование з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73600" y="1413000"/>
            <a:ext cx="76824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77080" y="3429000"/>
            <a:ext cx="154476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940360" y="1989000"/>
            <a:ext cx="1584360" cy="1338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708360" y="2421000"/>
            <a:ext cx="1755720" cy="192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076720" y="5064120"/>
            <a:ext cx="136836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е № 1.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очистить обу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ять обу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ять обувную щетку и к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йти на лест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реть тряпкой обувь от гр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азать кремом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ереть обувь щеткой до бле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ести все в кварт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ить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рать щетку и крем на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6920" y="4437000"/>
            <a:ext cx="2197080" cy="21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войства алгорит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нятность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зультативность(или конеч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оня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составляется толь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команд, входящих в 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187164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0:30:21Z</dcterms:created>
  <dc:creator>*</dc:creator>
  <dc:description/>
  <dc:language>en-US</dc:language>
  <cp:lastModifiedBy>1</cp:lastModifiedBy>
  <dcterms:modified xsi:type="dcterms:W3CDTF">2009-09-12T15:06:16Z</dcterms:modified>
  <cp:revision>7</cp:revision>
  <dc:subject/>
  <dc:title>Алгоритм</dc:title>
</cp:coreProperties>
</file>