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05B-D8DB-4C2A-8A09-5B1800DE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5A1-F3A7-471D-B6DB-A4C2EF20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51F-2A41-4BAD-A8C1-2FF172BD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B1B-A4D4-419E-AF60-C1B5EDA5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540-6530-46A2-920F-43B3DB31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6EC-B55B-4702-8E26-2F6020F3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6DE-617C-4FF5-BB7A-62ECCFF3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FC9-84B0-4E61-94A2-9590A297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964-50EA-46F5-ABAD-540793CD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3D5-378A-47C8-B02C-153CD66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CCC-352C-439E-B184-85A0F5E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79F-31A8-4762-8F86-3A481C4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4B5B-732F-4642-9B13-EA1536879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684360" y="4869000"/>
            <a:ext cx="215892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Узнать его нам прос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 его легк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го он рос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идит дале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547640" y="4941720"/>
            <a:ext cx="2664000" cy="172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У кого из звер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пушистее и длинней?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268360" y="4941720"/>
            <a:ext cx="2521080" cy="1656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По реке плывет брев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х и злющее оно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, кто в речку угоди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с откус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ко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755640" y="4869000"/>
            <a:ext cx="230508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лелись густые травы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удрявились луг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и сам я весь кудряв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же завитком 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1258920" y="4869000"/>
            <a:ext cx="266364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 порога плачет, коготки пряч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хо в комнату вой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урлычет, запо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2195640" y="4869000"/>
            <a:ext cx="2520720" cy="165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вет в норке, грызет кор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ие ножки; боится ко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7"/>
          <p:cNvSpPr/>
          <p:nvPr/>
        </p:nvSpPr>
        <p:spPr>
          <a:xfrm>
            <a:off x="6732720" y="1557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9"/>
          <p:cNvSpPr/>
          <p:nvPr/>
        </p:nvSpPr>
        <p:spPr>
          <a:xfrm>
            <a:off x="5219640" y="2781360"/>
            <a:ext cx="16574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ж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0"/>
          <p:cNvSpPr/>
          <p:nvPr/>
        </p:nvSpPr>
        <p:spPr>
          <a:xfrm>
            <a:off x="3564000" y="141300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1"/>
          <p:cNvSpPr/>
          <p:nvPr/>
        </p:nvSpPr>
        <p:spPr>
          <a:xfrm>
            <a:off x="900000" y="134136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8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468360" y="4724280"/>
            <a:ext cx="2448000" cy="187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ла между ёлка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ушечка с иголкам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хонечко леж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том вдруг убеж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971640" y="4724280"/>
            <a:ext cx="2663640" cy="172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рька  узнали мы с тоб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вум таким приметам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шубе серенькой зим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 рыжей шубке - летом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1619280" y="4797360"/>
            <a:ext cx="2521080" cy="1656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Работяга он упорн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родился в шубе чер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ю жизнь в земле жив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же это? Это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жи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12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14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50920" y="4941720"/>
            <a:ext cx="2592360" cy="172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спускает хвост павлином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одит важным господином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земле ногами – стук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ак зовут его? …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971640" y="4941720"/>
            <a:ext cx="2448000" cy="1654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твердит одно – га-га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то обидел? Где? Когда?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кого я не боюсь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у конечно, это – …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1619280" y="4941720"/>
            <a:ext cx="2305080" cy="15829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Жёлтые комочки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ёгкие, как вата!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егают за квочкой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о кто? …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9"/>
          <p:cNvSpPr/>
          <p:nvPr/>
        </p:nvSpPr>
        <p:spPr>
          <a:xfrm>
            <a:off x="5076720" y="2637000"/>
            <a:ext cx="16574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0"/>
          <p:cNvSpPr/>
          <p:nvPr/>
        </p:nvSpPr>
        <p:spPr>
          <a:xfrm>
            <a:off x="1692360" y="335772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ыпл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2"/>
          <p:cNvSpPr/>
          <p:nvPr/>
        </p:nvSpPr>
        <p:spPr>
          <a:xfrm>
            <a:off x="7093080" y="1484280"/>
            <a:ext cx="1657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199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21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сказочных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250920" y="4797360"/>
            <a:ext cx="2089080" cy="1870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была подружкой гно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ам, конечно же, знако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403280" y="4869000"/>
            <a:ext cx="266400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стоквашино живёт, Службу там свою несёт. Почта-дом стоит у речки. Почтальон в ней — дядя…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268360" y="4869000"/>
            <a:ext cx="2521080" cy="165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совсем нетрудный, Коротенький вопрос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в чернилку сунул Деревянный нос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>
            <a:off x="6732720" y="1341360"/>
            <a:ext cx="165564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сне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9"/>
          <p:cNvSpPr/>
          <p:nvPr/>
        </p:nvSpPr>
        <p:spPr>
          <a:xfrm>
            <a:off x="1187280" y="1484280"/>
            <a:ext cx="16574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ки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>
            <a:off x="2195640" y="2852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2"/>
          <p:cNvSpPr/>
          <p:nvPr/>
        </p:nvSpPr>
        <p:spPr>
          <a:xfrm>
            <a:off x="5292720" y="2708280"/>
            <a:ext cx="16574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23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27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4869000"/>
            <a:ext cx="252252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рым клювиком, как птич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ит ровно по страничке. И в твоей тетрад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 быть строчки глад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1187280" y="4869000"/>
            <a:ext cx="266400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ьном портфеле тетрад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что за тетрадка — загадка. Получит оценку в неё ученик, А вечером маме покаж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2411280" y="4941720"/>
            <a:ext cx="2521080" cy="1656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 учителем дружу. На доске всё покажу. Следишь за мной ты без опаски. Знаешь, кто я? Я — 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3635280" y="1484280"/>
            <a:ext cx="16574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0"/>
          <p:cNvSpPr/>
          <p:nvPr/>
        </p:nvSpPr>
        <p:spPr>
          <a:xfrm>
            <a:off x="1763640" y="285264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1"/>
          <p:cNvSpPr/>
          <p:nvPr/>
        </p:nvSpPr>
        <p:spPr>
          <a:xfrm>
            <a:off x="5219640" y="2997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2"/>
          <p:cNvSpPr/>
          <p:nvPr/>
        </p:nvSpPr>
        <p:spPr>
          <a:xfrm>
            <a:off x="5867280" y="1557360"/>
            <a:ext cx="16574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ом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29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31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33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 дере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250920" y="4869000"/>
            <a:ext cx="244944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оствольные красавицы Дружно встали у дорожки, Книзу веточки спускаются, А на веточках серёж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258920" y="4869000"/>
            <a:ext cx="266364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этот гладкий коробок Бронзового цвета Спрятан маленький дубок Будущего ле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2916360" y="4941720"/>
            <a:ext cx="2520720" cy="1656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деревьев ранним летом Вдруг снежинки запорхают, Но не радует нас это — Мы от этого чиха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ёл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35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37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39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250920" y="4869000"/>
            <a:ext cx="252252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стальная птица, В небеса стремится, А ведёт её пилот. Что за птиц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332000" y="4941720"/>
            <a:ext cx="2663640" cy="172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конь не ест овса, Вместо ног — два колеса. Сядь верхом и мчись на нём, Только лучше правь рулё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2771640" y="5013360"/>
            <a:ext cx="2521080" cy="165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дерево свалили, Потом нутро ему долбили, Потом лопатками снабдили И по реке гулять пуст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мв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41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43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4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 овощи и фр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08000" y="4869000"/>
            <a:ext cx="244800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большой, как мяч футбольный, Если спелый — все довольны. Так приятен он на вкус! Что это за мяч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684360" y="4869000"/>
            <a:ext cx="266364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дилась я на славу, Голова бела, кудрява. Кто любит щи — Меня в них ищ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1763640" y="4869000"/>
            <a:ext cx="2521080" cy="165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кудрявый хохолок Лису из норки поволок. На ощупь — очень гладкая, На вкус — как сахар сладк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б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65" dur="indefinite" restart="never" nodeType="tmRoot">
          <p:childTnLst>
            <p:seq>
              <p:cTn id="46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47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48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50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9:09:26Z</dcterms:created>
  <dc:creator>User</dc:creator>
  <dc:description/>
  <dc:language>en-US</dc:language>
  <cp:lastModifiedBy>Admin</cp:lastModifiedBy>
  <dcterms:modified xsi:type="dcterms:W3CDTF">2018-12-09T13:34:44Z</dcterms:modified>
  <cp:revision>46</cp:revision>
  <dc:subject/>
  <dc:title>Слайд 1</dc:title>
</cp:coreProperties>
</file>