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6F1-96FD-4AC7-A4E3-A2BBF2AE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F1C-3241-44EE-BA80-F478958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79C-8D11-48F8-B6F5-72A55758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018-8A42-40C3-BDAE-B14FF230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69C-E0C2-4F13-9B94-8DFCAEA9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D38-2F1E-4BF0-B996-4A3576A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560-8A13-49CE-A0C7-054E1216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B1F-FFA3-4C98-BDD0-2CBD7757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6BC-0AED-4201-B8A0-E7B505D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80C-93F4-4EF9-AC90-EBB1734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FDA-040C-4AD4-9B0F-40609938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475-3285-41FB-8F95-EF5389F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2DD-A808-4D76-9561-865833D8F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684360" y="4869000"/>
            <a:ext cx="215892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Узнать его нам прос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 его легк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го он рос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идит дале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47640" y="4941720"/>
            <a:ext cx="266400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У кого из звер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пушистее и длинней?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268360" y="494172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По реке плывет брев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 и злющее он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, кто в речку угод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 откус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755640" y="4869000"/>
            <a:ext cx="230508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лелись густые трав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удрявились луг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и сам я весь кудряв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же завитком 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25892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 порога плачет, коготки пряч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хо в комнату вой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рлычет, запо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195640" y="4869000"/>
            <a:ext cx="252072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вет в норке, грызет кор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ие ножки; боится ко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7"/>
          <p:cNvSpPr/>
          <p:nvPr/>
        </p:nvSpPr>
        <p:spPr>
          <a:xfrm>
            <a:off x="6732720" y="1557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5219640" y="278136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0"/>
          <p:cNvSpPr/>
          <p:nvPr/>
        </p:nvSpPr>
        <p:spPr>
          <a:xfrm>
            <a:off x="3564000" y="141300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900000" y="134136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68360" y="4724280"/>
            <a:ext cx="2448000" cy="187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ла между ёлка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ушечка с иголкам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хонечко леж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ом вдруг убеж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971640" y="4724280"/>
            <a:ext cx="266364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рька  узнали мы с то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вум таким приметам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шубе серенькой зи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рыжей шубке - летом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619280" y="479736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аботяга он упорн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родился в шубе чер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ю жизнь в земле жи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же это? Это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50920" y="4941720"/>
            <a:ext cx="2592360" cy="172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спускает хвост павлином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дит важным господином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земле ногами – стук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к зовут его? …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971640" y="4941720"/>
            <a:ext cx="2448000" cy="165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твердит одно – га-га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то обидел? Где? Когда?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икого я не боюсь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у конечно, это – …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619280" y="4941720"/>
            <a:ext cx="2305080" cy="1582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Жёлтые комочки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ёгкие, как вата!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егают за квочкой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о кто? …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5076720" y="263700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1692360" y="335772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ыпл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2"/>
          <p:cNvSpPr/>
          <p:nvPr/>
        </p:nvSpPr>
        <p:spPr>
          <a:xfrm>
            <a:off x="7093080" y="1484280"/>
            <a:ext cx="165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21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сказочны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50920" y="4797360"/>
            <a:ext cx="2089080" cy="1870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была подружкой гно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ам, конечно же, знак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403280" y="4869000"/>
            <a:ext cx="266400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стоквашино живёт, Службу там свою несёт. Почта-дом стоит у речки. Почтальон в ней — дядя…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268360" y="486900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совсем нетрудный, Коротенький вопрос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в чернилку сунул Деревянный нос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6732720" y="134136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сн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9"/>
          <p:cNvSpPr/>
          <p:nvPr/>
        </p:nvSpPr>
        <p:spPr>
          <a:xfrm>
            <a:off x="1187280" y="148428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2195640" y="2852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>
            <a:off x="5292720" y="2708280"/>
            <a:ext cx="16574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27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4869000"/>
            <a:ext cx="252252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ым клювиком, как птич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ит ровно по страничке. И в твоей тетрад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 быть строчки гл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187280" y="4869000"/>
            <a:ext cx="266400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ьном портфеле тетрад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что за тетрадка — загадка. Получит оценку в неё ученик, А вечером маме покаж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411280" y="4941720"/>
            <a:ext cx="252108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 учителем дружу. На доске всё покажу. Следишь за мной ты без опаски. Знаешь, кто я? Я — 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635280" y="1484280"/>
            <a:ext cx="16574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0"/>
          <p:cNvSpPr/>
          <p:nvPr/>
        </p:nvSpPr>
        <p:spPr>
          <a:xfrm>
            <a:off x="1763640" y="2852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1"/>
          <p:cNvSpPr/>
          <p:nvPr/>
        </p:nvSpPr>
        <p:spPr>
          <a:xfrm>
            <a:off x="5219640" y="2997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2"/>
          <p:cNvSpPr/>
          <p:nvPr/>
        </p:nvSpPr>
        <p:spPr>
          <a:xfrm>
            <a:off x="5867280" y="1557360"/>
            <a:ext cx="16574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2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31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3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250920" y="4869000"/>
            <a:ext cx="244944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оствольные красавицы Дружно встали у дорожки, Книзу веточки спускаются, А на веточках серёж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25892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тот гладкий коробок Бронзового цвета Спрятан маленький дубок Будущего л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2916360" y="4941720"/>
            <a:ext cx="2520720" cy="1656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деревьев ранним летом Вдруг снежинки запорхают, Но не радует нас это — Мы от этого чиха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л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35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3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39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50920" y="4869000"/>
            <a:ext cx="252252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стальная птица, В небеса стремится, А ведёт её пилот. Что за птиц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332000" y="4941720"/>
            <a:ext cx="2663640" cy="172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конь не ест овса, Вместо ног — два колеса. Сядь верхом и мчись на нём, Только лучше правь рулё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2771640" y="501336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ерево свалили, Потом нутро ему долбили, Потом лопатками снабдили И по реке гулять пусти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41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43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4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ро  овощи и 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08000" y="4869000"/>
            <a:ext cx="2448000" cy="179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большой, как мяч футбольный, Если спелый — все довольны. Так приятен он на вкус! Что это за мяч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684360" y="4869000"/>
            <a:ext cx="2663640" cy="172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дилась я на славу, Голова бела, кудрява. Кто любит щи — Меня в них и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763640" y="4869000"/>
            <a:ext cx="2521080" cy="165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кудрявый хохолок Лису из норки поволок. На ощупь — очень гладкая, На вкус — как сахар сладк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7"/>
          <p:cNvSpPr/>
          <p:nvPr/>
        </p:nvSpPr>
        <p:spPr>
          <a:xfrm>
            <a:off x="971640" y="1773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9"/>
          <p:cNvSpPr/>
          <p:nvPr/>
        </p:nvSpPr>
        <p:spPr>
          <a:xfrm>
            <a:off x="6875640" y="2133720"/>
            <a:ext cx="16570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0"/>
          <p:cNvSpPr/>
          <p:nvPr/>
        </p:nvSpPr>
        <p:spPr>
          <a:xfrm>
            <a:off x="4788000" y="292428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1"/>
          <p:cNvSpPr/>
          <p:nvPr/>
        </p:nvSpPr>
        <p:spPr>
          <a:xfrm>
            <a:off x="3924360" y="148428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2"/>
          <p:cNvSpPr/>
          <p:nvPr/>
        </p:nvSpPr>
        <p:spPr>
          <a:xfrm>
            <a:off x="205092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1619280" y="1989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65" dur="indefinite" restart="never" nodeType="tmRoot">
          <p:childTnLst>
            <p:seq>
              <p:cTn id="46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344E-007 L 0.55139 0.00532 E">
                                      <p:cBhvr>
                                        <p:cTn id="47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3951E-007 L 0.42917 0.01064 E">
                                      <p:cBhvr>
                                        <p:cTn id="48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2887E-007 L 0.36614 0.01064 E">
                                      <p:cBhvr>
                                        <p:cTn id="50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9:09:26Z</dcterms:created>
  <dc:creator>User</dc:creator>
  <dc:description/>
  <dc:language>en-US</dc:language>
  <cp:lastModifiedBy>Admin</cp:lastModifiedBy>
  <dcterms:modified xsi:type="dcterms:W3CDTF">2018-12-09T13:34:44Z</dcterms:modified>
  <cp:revision>46</cp:revision>
  <dc:subject/>
  <dc:title>Слайд 1</dc:title>
</cp:coreProperties>
</file>