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4272-2EC9-4A2C-A5EF-64CE88275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16CB-C3F2-437F-845F-37A0E6BB86F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B92-C2D8-457F-BA3D-8F5C9BB7851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75E-92F9-493F-9721-95E22EBB1902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EF66-0CA7-46F2-96A8-CE30685F041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33E2-8868-4147-A84B-D71FB7693A8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B62E-264D-4306-BA8A-14DBF164006F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4544-1033-4E82-8D95-7B1CF016352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D160-985D-484E-904D-38AB0AB80664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FB53-07BB-417F-9855-49D6D1C9EC8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3966-AE80-4458-BC53-2E800C906D11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3983-A0E9-4566-833C-35A5AB87172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E08F-0BD9-49DF-A7B3-9E4E87F4433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509B-E1B9-4B86-B169-EAB6139F2D4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7160" y="4214520"/>
            <a:ext cx="802008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«Заколдованный теремок»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старшая группа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28520" y="57146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Ф.И.О. воспитателя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Стафиняк С.В.       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5" name="Picture 4" descr="C:\Users\Олег\Desktop\Рисунок1.png"/>
          <p:cNvPicPr/>
          <p:nvPr/>
        </p:nvPicPr>
        <p:blipFill>
          <a:blip r:embed="rId2"/>
          <a:stretch/>
        </p:blipFill>
        <p:spPr>
          <a:xfrm>
            <a:off x="2987640" y="-31680"/>
            <a:ext cx="6156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85808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E:\математика\2013-12-16 09.31.47.jpg"/>
          <p:cNvPicPr/>
          <p:nvPr/>
        </p:nvPicPr>
        <p:blipFill>
          <a:blip r:embed="rId3"/>
          <a:stretch/>
        </p:blipFill>
        <p:spPr>
          <a:xfrm>
            <a:off x="3946680" y="4052880"/>
            <a:ext cx="2717640" cy="203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:\математика\2013-12-16 09.30.57.jpg"/>
          <p:cNvPicPr/>
          <p:nvPr/>
        </p:nvPicPr>
        <p:blipFill>
          <a:blip r:embed="rId4"/>
          <a:stretch/>
        </p:blipFill>
        <p:spPr>
          <a:xfrm>
            <a:off x="3946680" y="1173240"/>
            <a:ext cx="2587320" cy="1939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285920" y="3286080"/>
            <a:ext cx="2214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Calibri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Шагае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000240" y="6315120"/>
            <a:ext cx="25005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Calibri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Приседае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500880" y="3214800"/>
            <a:ext cx="2214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Calibri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Прыгае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2"/>
          <a:stretch/>
        </p:blipFill>
        <p:spPr>
          <a:xfrm>
            <a:off x="1859040" y="285840"/>
            <a:ext cx="6711840" cy="714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E:\математика\2013-12-16 07.46.12.jpg"/>
          <p:cNvPicPr/>
          <p:nvPr/>
        </p:nvPicPr>
        <p:blipFill>
          <a:blip r:embed="rId3"/>
          <a:stretch/>
        </p:blipFill>
        <p:spPr>
          <a:xfrm>
            <a:off x="3857760" y="242100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712800" y="139680"/>
            <a:ext cx="7858080" cy="7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E:\заколдованный теремок\2013-12-05 16.02.11.jpg"/>
          <p:cNvPicPr/>
          <p:nvPr/>
        </p:nvPicPr>
        <p:blipFill>
          <a:blip r:embed="rId3"/>
          <a:stretch/>
        </p:blipFill>
        <p:spPr>
          <a:xfrm>
            <a:off x="5724360" y="149400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:\заколдованный теремок\2013-12-05 16.18.02.jpg"/>
          <p:cNvPicPr/>
          <p:nvPr/>
        </p:nvPicPr>
        <p:blipFill>
          <a:blip r:embed="rId4"/>
          <a:stretch/>
        </p:blipFill>
        <p:spPr>
          <a:xfrm>
            <a:off x="2411280" y="4076640"/>
            <a:ext cx="2511720" cy="18846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2"/>
          <a:stretch/>
        </p:blipFill>
        <p:spPr>
          <a:xfrm>
            <a:off x="1212840" y="139680"/>
            <a:ext cx="7791480" cy="71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E:\математика\2013-12-16 09.26.24.jpg"/>
          <p:cNvPicPr/>
          <p:nvPr/>
        </p:nvPicPr>
        <p:blipFill>
          <a:blip r:embed="rId3"/>
          <a:stretch/>
        </p:blipFill>
        <p:spPr>
          <a:xfrm>
            <a:off x="3419640" y="2637000"/>
            <a:ext cx="307152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858080" cy="71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математика\2013-12-16 09.23.05.jpg"/>
          <p:cNvPicPr/>
          <p:nvPr/>
        </p:nvPicPr>
        <p:blipFill>
          <a:blip r:embed="rId3"/>
          <a:stretch/>
        </p:blipFill>
        <p:spPr>
          <a:xfrm>
            <a:off x="3059280" y="2421000"/>
            <a:ext cx="3498840" cy="2622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85808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математика\2013-12-16 17.57.49.jpg"/>
          <p:cNvPicPr/>
          <p:nvPr/>
        </p:nvPicPr>
        <p:blipFill>
          <a:blip r:embed="rId3"/>
          <a:stretch/>
        </p:blipFill>
        <p:spPr>
          <a:xfrm>
            <a:off x="2892600" y="2492280"/>
            <a:ext cx="3501720" cy="2627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858080" cy="714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математика\2013-12-16 09.40.38.jpg"/>
          <p:cNvPicPr/>
          <p:nvPr/>
        </p:nvPicPr>
        <p:blipFill>
          <a:blip r:embed="rId3"/>
          <a:stretch/>
        </p:blipFill>
        <p:spPr>
          <a:xfrm>
            <a:off x="2050920" y="1773360"/>
            <a:ext cx="2990880" cy="224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математика\2013-12-16 09.40.52.jpg"/>
          <p:cNvPicPr/>
          <p:nvPr/>
        </p:nvPicPr>
        <p:blipFill>
          <a:blip r:embed="rId4"/>
          <a:stretch/>
        </p:blipFill>
        <p:spPr>
          <a:xfrm>
            <a:off x="5888160" y="4292640"/>
            <a:ext cx="2662200" cy="199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821844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E:\математика\2013-12-16 07.46.30.jpg"/>
          <p:cNvPicPr/>
          <p:nvPr/>
        </p:nvPicPr>
        <p:blipFill>
          <a:blip r:embed="rId3"/>
          <a:stretch/>
        </p:blipFill>
        <p:spPr>
          <a:xfrm>
            <a:off x="3492360" y="2205000"/>
            <a:ext cx="3152880" cy="236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8431200" cy="71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:\математика\2013-12-16 07.45.30.jpg"/>
          <p:cNvPicPr/>
          <p:nvPr/>
        </p:nvPicPr>
        <p:blipFill>
          <a:blip r:embed="rId3"/>
          <a:stretch/>
        </p:blipFill>
        <p:spPr>
          <a:xfrm>
            <a:off x="3462480" y="2421000"/>
            <a:ext cx="2933640" cy="2200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573120" y="139680"/>
            <a:ext cx="8570880" cy="71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E:\математика\2013-12-16 09.47.31.jpg"/>
          <p:cNvPicPr/>
          <p:nvPr/>
        </p:nvPicPr>
        <p:blipFill>
          <a:blip r:embed="rId3"/>
          <a:stretch/>
        </p:blipFill>
        <p:spPr>
          <a:xfrm>
            <a:off x="2124000" y="1916280"/>
            <a:ext cx="2381400" cy="178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E:\математика\2013-12-16 09.47.18.jpg"/>
          <p:cNvPicPr/>
          <p:nvPr/>
        </p:nvPicPr>
        <p:blipFill>
          <a:blip r:embed="rId4"/>
          <a:stretch/>
        </p:blipFill>
        <p:spPr>
          <a:xfrm>
            <a:off x="5840280" y="4149720"/>
            <a:ext cx="2452680" cy="183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90720" y="2514240"/>
            <a:ext cx="7315200" cy="4267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139680" y="285840"/>
            <a:ext cx="886464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математика\2013-12-16 07.45.53.jpg"/>
          <p:cNvPicPr/>
          <p:nvPr/>
        </p:nvPicPr>
        <p:blipFill>
          <a:blip r:embed="rId3"/>
          <a:stretch/>
        </p:blipFill>
        <p:spPr>
          <a:xfrm>
            <a:off x="3492360" y="2637000"/>
            <a:ext cx="3430800" cy="257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2"/>
          <a:stretch/>
        </p:blipFill>
        <p:spPr>
          <a:xfrm>
            <a:off x="212760" y="285840"/>
            <a:ext cx="87184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математика\2013-12-16 10.09.30.jpg"/>
          <p:cNvPicPr/>
          <p:nvPr/>
        </p:nvPicPr>
        <p:blipFill>
          <a:blip r:embed="rId3"/>
          <a:stretch/>
        </p:blipFill>
        <p:spPr>
          <a:xfrm>
            <a:off x="2843280" y="198900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2514240"/>
            <a:ext cx="731520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06:29:03Z</dcterms:created>
  <dc:creator>Олег</dc:creator>
  <dc:description/>
  <dc:language>en-US</dc:language>
  <cp:lastModifiedBy>Пользователь</cp:lastModifiedBy>
  <dcterms:modified xsi:type="dcterms:W3CDTF">2019-01-08T10:54:32Z</dcterms:modified>
  <cp:revision>20</cp:revision>
  <dc:subject/>
  <dc:title>Name of presentation</dc:title>
</cp:coreProperties>
</file>