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4E3E-9AA5-4E88-A759-C656CBA8D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DC0D-105A-4D5F-9AC3-833E6C48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5441-A467-4ABC-9A9B-0BD3FAE5D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9145-413F-44D8-B6AC-3265C3569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D3BD2-3454-4912-ACF0-ECB556366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488C-7368-46DC-B955-19350376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7D72E-FC60-4282-9375-CE615AFC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BF4CD-0A5F-4DEB-8A31-195FFEDAC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8488-531C-4DCD-8FEB-7231B0E4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1C73-1584-4AEA-B5C2-072D47E9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E798-6608-4463-A151-CB7DA50C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35E0-DBBE-4BBE-9FB2-A26AFF72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849F8-E008-4E2B-BA4A-5BE29C0A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5E3FB-94D8-4A8D-B30E-B64145504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F4A7-766B-49C1-BD6C-59E1D2672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74B0A-04F7-4426-8B91-638703CBE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388E-86A6-424C-B0D4-706F5F952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84DC-C360-4375-8017-892C438CC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6CB3-3DB4-4C54-8F13-37FF7DD2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A1C9-C6C2-4D44-BA58-F9B93ED6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E1C7-8BE3-4A11-9320-004FC2A5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E807-2537-4A3E-B59F-E4601953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5DCF-7B0B-43B6-8B26-3151AC89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8657-921B-4087-87A5-AABA4C137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CC90-8ED5-44DD-A3B3-F32278A8139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ECEE-01DB-46FC-A630-A36AE9E87AA6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31640" y="-60480"/>
            <a:ext cx="7343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7161120" cy="28814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Проект «Культура здоровья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полнила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читель эколог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У «ООШ с. Чардым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Жукевич Г.С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4572000" y="1557360"/>
            <a:ext cx="71280" cy="71280"/>
          </a:xfrm>
          <a:custGeom>
            <a:avLst/>
            <a:gdLst>
              <a:gd name="textAreaLeft" fmla="*/ 17640 w 71280"/>
              <a:gd name="textAreaRight" fmla="*/ 53640 w 71280"/>
              <a:gd name="textAreaTop" fmla="*/ 17640 h 71280"/>
              <a:gd name="textAreaBottom" fmla="*/ 69480 h 7128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WordArt 7"/>
          <p:cNvSpPr txBox="1"/>
          <p:nvPr/>
        </p:nvSpPr>
        <p:spPr>
          <a:xfrm>
            <a:off x="1332000" y="620640"/>
            <a:ext cx="734364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учение здоровью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а основе проектной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еятельност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32000" y="333360"/>
            <a:ext cx="7812000" cy="15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ценка физической работоспособности 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утём определения дыхательных возможностей организм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71600" y="2060640"/>
            <a:ext cx="7772400" cy="41148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) Учащиеся определяют время задержки дыхания на вдохе в положении сид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) Делают 20 приседан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) Через 30 сек и через минуту в положении сидя определяют время задержки дыхания на вдох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) Результаты оцениваются по таблиц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ценка физической работоспособности </a:t>
            </a:r>
            <a:br>
              <a:rPr sz="3200"/>
            </a:b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утём определения дыхательных возможностей организм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187280" y="1989000"/>
          <a:ext cx="7628040" cy="4594320"/>
        </p:xfrm>
        <a:graphic>
          <a:graphicData uri="http://schemas.openxmlformats.org/drawingml/2006/table">
            <a:tbl>
              <a:tblPr/>
              <a:tblGrid>
                <a:gridCol w="1906920"/>
                <a:gridCol w="1908000"/>
                <a:gridCol w="1906560"/>
                <a:gridCol w="1906560"/>
              </a:tblGrid>
              <a:tr h="97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ервая проб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торая проб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Третья проб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цен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 сек и боле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0 сек и боле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оле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 сек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лич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 сек-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 с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 сек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5 с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 сек-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5 с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орош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 сек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5 с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2 с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 мене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4 се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 мене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лох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58560" y="-642600"/>
            <a:ext cx="7684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989000"/>
            <a:ext cx="7772400" cy="41148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ценка логического мышлени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ащимся предлагается изучить 7 рядов чисел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айти закономерности построения каждого ря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писать недостающие числ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) 24,21, 19, 18. 15,13. . .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)1, 4. 9, 16, . ., 49, 64, 81, 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)16,17,15,18,14,19, . 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) 1,3,6,8,16,18, . . ,76,7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) 7, 10,14,19,25,. . ,4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)2,4,8,10,20,22, . .,92,9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7)24,22,19,15, 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WordArt 5"/>
          <p:cNvSpPr txBox="1"/>
          <p:nvPr/>
        </p:nvSpPr>
        <p:spPr>
          <a:xfrm>
            <a:off x="1332000" y="476280"/>
            <a:ext cx="75056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дпроек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«Культура психического здоровья»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Оценка логического мышле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орма – за пять минут определить закономерность построения трёх и более ряд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авильные ответы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)12,9 2)25,36 3)13,20 4)36,38 5)32,40 6)44,46 7)10,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15640" y="-70344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работчики данного подпроекта проводят самостоятельные исследования пищевых продуктов широкого потребления(молока и хлеба) на обогащение их биологически ценными добавк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полнение двух практических работ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Расчёт суточных энергетических затрат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Составление меню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2484360" y="0"/>
            <a:ext cx="411480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дпроек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Культура питания"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50720" y="404640"/>
            <a:ext cx="7792920" cy="15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Оценка состояния рациона питания.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ва направления работы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)Определение общего количества калорий, необходимых на день(работа с таблиц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мерные энергозатраты при разных видах работы(данные приведены в ккал/час на 60кг массы тела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расчёта суточных энергетических затрат перемножаем время(в часах) той или иной деятельности на количество энергии, которая при этом тратитс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ценка состояния рациона питания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258920" y="2017800"/>
          <a:ext cx="7696080" cy="4664160"/>
        </p:xfrm>
        <a:graphic>
          <a:graphicData uri="http://schemas.openxmlformats.org/drawingml/2006/table">
            <a:tbl>
              <a:tblPr/>
              <a:tblGrid>
                <a:gridCol w="5761080"/>
                <a:gridCol w="1935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иды работ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нергозатраты в кк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он, отд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нятия в школе , слушанье лекций, докла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амостоятельные умственные занят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покойный отд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Чтение вслух, разговор. Писание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бота на компьютер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Личная гигие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зличные виды домашней работы. Физзаряд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Ходьба на рабо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е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иём пищ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ценка состояния рациона питания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ормальным считается, если калорийность пищевого рациона человека превышает энергозатраты не более, чем на 5%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2)Составление пищевого рацион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ищевой рацион рассчитывается в зависимости от энергозатра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)Наблюдаем свой энергообмен в течении нескольких дней и определяем средние данны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793280" cy="155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ценка состояния рациона питания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уточный рацион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Белки-жиры-углевод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:             1:       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 сутки подросткам 15-16ле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Белки-    жиры-    углевод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0-120г:90-110г:450-500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олжно быть достаточное количество витаминов,  микроэлемент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ценка состояния рациона питания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актическая работа: «Составление меню четырёхразового питания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втрак-обед-полдник-ужин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5%-     50%-     15%-   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зультаты расчётов заносятся в таблицу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8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Цель: построить обучение здоровью на основе проектной деятельности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оектная деятельность как один из методов развивающего(личностно ориентированного) обучения направлена на выработку самостоятельных исследовательских умений(постановка проблемы. Сбор и обработка информации, проведение экспериментов, анализ полученных результатов). Проектная деятельность способствует развитию творческих способностей и логического мышления, объединяет знания, полученные в ходе учебного процесса, приобщает школьников к необходимости решения жизненно важных проблемм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ценка состояния рациона питания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182600" y="2017800"/>
          <a:ext cx="7772400" cy="4114800"/>
        </p:xfrm>
        <a:graphic>
          <a:graphicData uri="http://schemas.openxmlformats.org/drawingml/2006/table">
            <a:tbl>
              <a:tblPr/>
              <a:tblGrid>
                <a:gridCol w="1373400"/>
                <a:gridCol w="1224000"/>
                <a:gridCol w="647640"/>
                <a:gridCol w="2808360"/>
                <a:gridCol w="1719000"/>
              </a:tblGrid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ежим пит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родук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асса 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Белки-жиры-углевод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Калорий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в кд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78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втра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7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бе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78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лд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  <a:tr h="783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ж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f0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50720" y="-14619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)Практическая работа:»Влияние алкоголя на процессы пищеварения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ывод: белки пищи под действием алкоголя денатурируют и становятся труднодоступными для переваривания, активность ферментов значительно снижается или полностью теряетс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)Школьники самостоятельно проводят исследования табачных изделий на содержание в них смол и никотина (на основании литературных источник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WordArt 5"/>
          <p:cNvSpPr txBox="1"/>
          <p:nvPr/>
        </p:nvSpPr>
        <p:spPr>
          <a:xfrm>
            <a:off x="1547640" y="333360"/>
            <a:ext cx="620100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дпроек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Культура отношен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 наркотическим веществам"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-4896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)Исследование воздуха на содержание твёрдых примес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) Тестирование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«Цените ли Вы своё здоровье?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Школьники готовят презентации по собственным или уже готовым сценариям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WordArt 4"/>
          <p:cNvSpPr txBox="1"/>
          <p:nvPr/>
        </p:nvSpPr>
        <p:spPr>
          <a:xfrm>
            <a:off x="1332000" y="0"/>
            <a:ext cx="6916680" cy="17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дпроект"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реда жизни здорового человека"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«Культура – есть усилие человека быть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новной показатель сформированности личностного отношения к здоровью и среде жизни- это конкретная деятельность по реализации намеченной программы, в ходе которой школьник принимает ответственные решения, самоопределяется, не просто приспосабливается, а осмысленно перестраивает существующие внешние условия. Это деятельность связана с преодолением себя, направлена на жизнетворчество в рамках современного понимания культур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50720" y="-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«Сохранение здоровья – это труд и не малый»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вычки к правильному питанию, занятию спортом, поддержанию экологической чистоты, неприятию курения, наркотиков сами по себе не создаются. Их надо растить, как сад, ухаживать, холить, и лелеять ежедневно и ежечасно. И результат окупиться    сторицей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Данный проект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–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внепредметный: обобщающий знания, умения и навыки большинства предметов школьного курса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зработан для учащихся 8 или 9 класс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ъектом изучения выступает человек с его биопсихосоциальной сущностью, знания о котором общенаучны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данном проекте выделено 5 подпроектов. Четыре из них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Культура физического здоровья»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Культура психического здоровья»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Культура питания»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«Культура отношения к наркогенным веществам»- ориентированы на получение знаний и умений по управлению собственным психофизическим состояние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ятый- «Среда жизни здорового человека» - с исследованием среды обитания и соблюдением правил экологической безопасност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Форма организации учебной деятельности – групповая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д каждым подпроектом работает группа школьников, их учебная деятельность носит разнонаправленный – теоретический и практический характер и состоит из четырёх шаг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вый – изучение теории вопрос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торой – исследование особенностей собственного организм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ретий – формирование имеющихся проблем на основании полученных результат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етвёртый – составление программы и деятельность по устранению или снижению остроты проблем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Цель разнообразных видов деятельности школьников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1)В рамках возможного  - познать самого себ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2)Формировать эмоционально-личностное отношение к здоровью и среде жизн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3)Формировать потребность и навыки здоровьесберегающего поведе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иды учебной деятельнос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еоретическая деятельность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рамках каждого подпроекта строится в системе 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)научное содержание ведущих понятий(физическое здоровье, психическое здоровье, питание, наркогенные вещества, окружающая среда)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)неблагоприятные воздействия на здоровье, среду обитания. Заболевания, вызванные теми или иными причинам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) пути сохранения и улучшения здоровья, среды обита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ходе данной деятельности школьники изучают литературные источники, собирают информацию, готовят устные, письменные, компьютерные презентац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Виды учебной деятельнос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ктивное самопознание школьников осуществляется в ходе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рактической деятельности: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актикумы, тестирования, исследовательские работы, социометр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Школьники изучают различные показатели собственного здоровья; практикум включает информативные источники, не связанные со сложным оборудованием. Самоанализ и самооценка физического здоровья основаны на антропогенометрических показателях – характере осанки, свода стопы. Конституции и физиометрических показателях, определяющих работоспособность, особенности работы сердечно-сосудистой систем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ценка сводчатого характера стопы                                     Для оценки свода стопы следует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)встать мокрыми босыми ногами на лист бумаги и обвести получившийся отпечаток карандаш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)Измерить наиболее широкую ча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опы(А), наиболее узкую часть (Б)  в сантиметра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3) Разделить значение А на значение Б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лученную величину выражают в процента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ВОД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Если полученное процентное соотношение не превышает 33%, то результат соответствует норм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лоскостопия нет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WordArt 6"/>
          <p:cNvSpPr txBox="1"/>
          <p:nvPr/>
        </p:nvSpPr>
        <p:spPr>
          <a:xfrm>
            <a:off x="1187280" y="0"/>
            <a:ext cx="7597800" cy="1461960"/>
          </a:xfrm>
          <a:prstGeom prst="rect">
            <a:avLst/>
          </a:prstGeom>
        </p:spPr>
        <p:txBody>
          <a:bodyPr wrap="none" lIns="90000" rIns="90000" tIns="46800" bIns="46800" anchor="b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одпроект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"Культура физического здоровья"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898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98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98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98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98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58560" y="214200"/>
            <a:ext cx="768492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Оценка веса тел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Чтобы узнать, соответствует ли вес норме, можно воспользоваться принятой Всемирной организацией здравоохранения формулой Кетле для расчёта телесной масс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) Вес (в килограммах) делят на квадрат роста(в метрах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) Самое оптимальное соотношение между ростом и весом отвечает индексу телесной массы , равному 2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) Если значение индекса превышает это соотношение даже на единицу, вес- избыточен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9:46:06Z</dcterms:created>
  <dc:creator>.</dc:creator>
  <dc:description/>
  <dc:language>en-US</dc:language>
  <cp:lastModifiedBy>МОУ "ООШ с. Чардым"</cp:lastModifiedBy>
  <dcterms:modified xsi:type="dcterms:W3CDTF">2018-12-23T09:22:01Z</dcterms:modified>
  <cp:revision>7</cp:revision>
  <dc:subject/>
  <dc:title>Обучение здоровью на основе проектной деятельности</dc:title>
</cp:coreProperties>
</file>