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D4F-B61A-489B-81A4-EAE6C373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185-CA05-4889-9A07-36F08C68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90CC-1DEE-406C-B3B6-85483A869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FB48-E167-4723-9E09-7C9D8E90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67146-837B-48F5-A06F-B2388421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14270-0E2A-4C85-B1CF-7119E595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2ABD8-7ADE-4E37-A560-E36B4AEA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21F7F-9082-4A68-8EB6-3A2760E4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71D7-D602-4971-9668-8352F08AF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21B85-40B8-495E-92D8-2E395CDBA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F5764-E550-4E0A-AC0A-CFA11227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D9D6-2FF7-4AF7-BFC5-C155FC5B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E06D-27D6-467F-A2C5-A71E1AB3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D983-9541-482B-B00A-AB8A6BBB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B227A-008E-4C86-ADDC-2E98211A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DDBC-78E9-40BB-9BE5-C3AD5569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D4FEC-BEC9-4211-8762-F19CE031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383D-1101-4E16-B2A9-09267BB7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5226-CCEB-4C75-BC08-FD6B81B8D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673B-191C-45B5-AA69-CCA409F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2AF4-BB6A-4846-A2EA-D63E60C7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61AB-2AA8-4238-82A2-FB9876EA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EC4A-2BE3-4CC4-9A56-890F460A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2AB-5AC4-4003-9830-3DF3B278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B588-BC76-4446-B66C-C4208E4AEC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1F48-8AF5-42A9-8982-CF742BAB1ACD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1640" y="-60480"/>
            <a:ext cx="734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881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ект «Культура здоровья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эколо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ООШ с. Чарды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укевич Г.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72000" y="1557360"/>
            <a:ext cx="71280" cy="71280"/>
          </a:xfrm>
          <a:custGeom>
            <a:avLst/>
            <a:gdLst>
              <a:gd name="textAreaLeft" fmla="*/ 17640 w 71280"/>
              <a:gd name="textAreaRight" fmla="*/ 53640 w 71280"/>
              <a:gd name="textAreaTop" fmla="*/ 17640 h 71280"/>
              <a:gd name="textAreaBottom" fmla="*/ 69480 h 71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1332000" y="620640"/>
            <a:ext cx="7343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учение здоров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основе проектно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ятель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8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ка физической работоспособности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утём определения дыхательных возможностей организ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06064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чащиеся определяют время задержки дыхания на вдохе в положении сид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Делают 20 присед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Через 30 сек и через минуту в положении сидя определяют время задержки дыхания на вдох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Результаты оцениваются по таблиц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ка физической работоспособности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утём определения дыхательных возможностей организ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7280" y="1989000"/>
          <a:ext cx="7628040" cy="4594320"/>
        </p:xfrm>
        <a:graphic>
          <a:graphicData uri="http://schemas.openxmlformats.org/drawingml/2006/table">
            <a:tbl>
              <a:tblPr/>
              <a:tblGrid>
                <a:gridCol w="1906920"/>
                <a:gridCol w="1908000"/>
                <a:gridCol w="1906560"/>
                <a:gridCol w="1906560"/>
              </a:tblGrid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ва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тора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ть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сек и 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сек и 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с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сек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с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сек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с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ме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ме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х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-642600"/>
            <a:ext cx="768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щимся предлагается изучить 7 рядов чисе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ти закономерности построения каждого ря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исать недостающие чис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24,21, 19, 18. 15,13. . .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1, 4. 9, 16, . ., 49, 64, 81,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16,17,15,18,14,19,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1,3,6,8,16,18, . . ,76,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7, 10,14,19,25,. . ,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2,4,8,10,20,22, . .,92,9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24,22,19,15,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332000" y="476280"/>
            <a:ext cx="750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ультура психического здоровья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ценка логического мышл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 – за пять минут определить закономерность построения трёх и более ря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ьные отве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)12,9 2)25,36 3)13,20 4)36,38 5)32,40 6)44,46 7)10,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-703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чики данного подпроекта проводят самостоятельные исследования пищевых продуктов широкого потребления(молока и хлеба) на обогащение их биологически ценными добав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олнение двух практических рабо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Расчёт суточных энергетических затрат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оставление меню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484360" y="0"/>
            <a:ext cx="4114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питани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а направления работ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Определение общего количества калорий, необходимых на день(работа с таблиц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рные энергозатраты при разных видах работы(данные приведены в ккал/час на 60кг массы тел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расчёта суточных энергетических затрат перемножаем время(в часах) той или иной деятельности на количество энергии, которая при этом трати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2017800"/>
          <a:ext cx="7696080" cy="4664160"/>
        </p:xfrm>
        <a:graphic>
          <a:graphicData uri="http://schemas.openxmlformats.org/drawingml/2006/table">
            <a:tbl>
              <a:tblPr/>
              <a:tblGrid>
                <a:gridCol w="5761080"/>
                <a:gridCol w="193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ы рабо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нергозатраты в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н,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нятия в школе , слушанье лекций, докла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остоятельные умстве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ый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ение вслух, разговор. Пис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 на компьюте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чная гиги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виды домашней работы. Физза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дьба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ым считается, если калорийность пищевого рациона человека превышает энергозатраты не более, чем на 5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)Составление пищевого рац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щевой рацион рассчитывается в зависимости от энергозатр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Наблюдаем свой энергообмен в течении нескольких дней и определяем средние дан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точный рацион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лки-жиры-углев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:             1:       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сутки подросткам 15-16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лки-    жиры-    углев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-120г:90-110г:450-500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лжно быть достаточное количество витаминов,  микроэлем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ая работа: «Составление меню четырёхразового пит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трак-обед-полдник-уж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%-     50%-     15%-  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ультаты расчётов заносятся в таблицу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Цель: построить обучение здоровью на основе проектной деятельно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ая деятельность как один из методов развивающего(личностно ориентированного) обучения направлена на выработку самостоятельных исследовательских умений(постановка проблемы. Сбор и обработка информации, проведение экспериментов, анализ полученных результатов). Проектная деятельность способствует развитию творческих способностей и логического мышления, объединяет знания, полученные в ходе учебного процесса, приобщает школьников к необходимости решения жизненно важных пробле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373400"/>
                <a:gridCol w="1224000"/>
                <a:gridCol w="647640"/>
                <a:gridCol w="2808360"/>
                <a:gridCol w="171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жим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лки-жиры-угле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лорий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к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вт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д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ж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-1461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)Практическая работа:»Влияние алкоголя на процессы пищевар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 белки пищи под действием алкоголя денатурируют и становятся труднодоступными для переваривания, активность ферментов значительно снижается или полностью теряе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)Школьники самостоятельно проводят исследования табачных изделий на содержание в них смол и никотина (на основании литературных источ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1547640" y="333360"/>
            <a:ext cx="6201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отнош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наркотическим веществам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Исследование воздуха на содержание твёрдых примес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Тест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Цените ли Вы своё здоровье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ьники готовят презентации по собственным или уже готовым сценария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332000" y="0"/>
            <a:ext cx="69166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жизни здорового человека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Культура – есть усилие человека быт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ой показатель сформированности личностного отношения к здоровью и среде жизни- это конкретная деятельность по реализации намеченной программы, в ходе которой школьник принимает ответственные решения, самоопределяется, не просто приспосабливается, а осмысленно перестраивает существующие внешние условия. Это деятельность связана с преодолением себя, направлена на жизнетворчество в рамках современного понимания культу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Сохранение здоровья – это труд и не малы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ычки к правильному питанию, занятию спортом, поддержанию экологической чистоты, неприятию курения, наркотиков сами по себе не создаются. Их надо растить, как сад, ухаживать, холить, и лелеять ежедневно и ежечасно. И результат окупиться    сториц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анный проект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непредметный: обобщающий знания, умения и навыки большинства предметов школьного курса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н для учащихся 8 или 9 класс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м изучения выступает человек с его биопсихосоциальной сущностью, знания о котором общенауч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данном проекте выделено 5 подпроектов. Четыре из них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физического здоровь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психического здоровь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питани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отношения к наркогенным веществам»- ориентированы на получение знаний и умений по управлению собственным психофизическим состоя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ятый- «Среда жизни здорового человека» - с исследованием среды обитания и соблюдением правил экологической безопас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а организации учебной деятельности – группова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д каждым подпроектом работает группа школьников, их учебная деятельность носит разнонаправленный – теоретический и практический характер и состоит из четырёх шаг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ый – изучение теории вопро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торой – исследование особенностей собственного орган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тий – формирование имеющихся проблем на основании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твёртый – составление программы и деятельность по устранению или снижению остроты пробл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знообразных видов деятельности школь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В рамках возможного  - познать самого себ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)Формировать эмоционально-личностное отношение к здоровью и среде жиз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)Формировать потребность и навыки здоровьесберегающего повед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етическ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рамках каждого подпроекта строится в системе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научное содержание ведущих понятий(физическое здоровье, психическое здоровье, питание, наркогенные вещества, окружающая среда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неблагоприятные воздействия на здоровье, среду обитания. Заболевания, вызванные теми или иными причин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пути сохранения и улучшения здоровья, среды об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ходе данной деятельности школьники изучают литературные источники, собирают информацию, готовят устные, письменные,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ое самопознание школьников осуществляется в ход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актической деятельност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кумы, тестирования, исследовательские работы, социометр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ики изучают различные показатели собственного здоровья; практикум включает информативные источники, не связанные со сложным оборудованием. Самоанализ и самооценка физического здоровья основаны на антропогенометрических показателях – характере осанки, свода стопы. Конституции и физиометрических показателях, определяющих работоспособность, особенности работы сердечно-сосудистой сис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сводчатого характера стопы                                     Для оценки свода стопы следует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встать мокрыми босыми ногами на лист бумаги и обвести получившийся отпечаток карандаш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Измерить наиболее широкую ча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опы(А), наиболее узкую часть (Б)  в сантимет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Разделить значение А на значение 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енную величину выражают в процен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полученное процентное соотношение не превышает 33%, то результат соответствует нор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скостопия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187280" y="0"/>
            <a:ext cx="7597800" cy="1461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физического здоровь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684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веса те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узнать, соответствует ли вес норме, можно воспользоваться принятой Всемирной организацией здравоохранения формулой Кетле для расчёта телесной мас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Вес (в килограммах) делят на квадрат роста(в метра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Самое оптимальное соотношение между ростом и весом отвечает индексу телесной массы , равному 2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Если значение индекса превышает это соотношение даже на единицу, вес- избыточ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46:06Z</dcterms:created>
  <dc:creator>.</dc:creator>
  <dc:description/>
  <dc:language>en-US</dc:language>
  <cp:lastModifiedBy>МОУ "ООШ с. Чардым"</cp:lastModifiedBy>
  <dcterms:modified xsi:type="dcterms:W3CDTF">2018-12-23T09:22:01Z</dcterms:modified>
  <cp:revision>7</cp:revision>
  <dc:subject/>
  <dc:title>Обучение здоровью на основе проектной деятельности</dc:title>
</cp:coreProperties>
</file>